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62C-0C87-4292-A47D-05AC33BE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263-82D7-4F6D-AF48-2FD320E5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D46-BBAB-4736-9387-A5BA0280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E75-F60B-4181-BC18-C774D04E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021-E2BD-4DD6-A8A4-F51ED82F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30F6-2FA8-44BE-936A-B8FB6E2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E88-E09F-4051-985C-C1EA121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E382-5460-4FC2-ACD9-15CBD9B1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1CB9-BB8E-4426-BEE1-F9AE5E09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E2B8-6BB5-4462-B754-E4149707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9EC3-9211-45A1-943F-B9492EC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DF9-49B7-4F66-8E2F-76CF216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2525-9CDA-4145-A7F2-A4D384F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416-1CB4-405B-8EA9-83E5650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98E5-8599-4F71-92EA-1ECB83B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2D46-65E5-43C6-B6B6-B2F1380C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9294-1C10-485D-B52B-16C623BE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3AC-4269-4613-93AE-BD0909CE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0F4-603A-4FD4-A758-4CA9133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865-78FD-4DEA-8421-4F8EDAE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5F9-7E5F-48E3-911F-119D596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428-A0ED-4140-9903-A5F1F93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821-7FEE-4CBA-81AF-323B109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F2F-B165-44D7-A43D-26BB4EA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58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C:\Users\Administrator\Desktop\12998316880zj85v0V.jpg"/>
          <p:cNvPicPr/>
          <p:nvPr/>
        </p:nvPicPr>
        <p:blipFill>
          <a:blip r:embed="rId2"/>
          <a:stretch/>
        </p:blipFill>
        <p:spPr>
          <a:xfrm>
            <a:off x="0" y="4578480"/>
            <a:ext cx="91314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791-B028-48C8-BB64-C91959B181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12998316880zj85v0V.jpg"/>
          <p:cNvPicPr/>
          <p:nvPr/>
        </p:nvPicPr>
        <p:blipFill>
          <a:blip r:embed="rId2"/>
          <a:stretch/>
        </p:blipFill>
        <p:spPr>
          <a:xfrm>
            <a:off x="5145120" y="0"/>
            <a:ext cx="39988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F14-E546-4BED-AA7E-ABF90D7D25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色党政简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9280" y="64533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a7d7a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34:28Z</dcterms:created>
  <dc:creator/>
  <dc:description/>
  <dc:language>en-US</dc:language>
  <cp:lastModifiedBy>zouendong</cp:lastModifiedBy>
  <dcterms:modified xsi:type="dcterms:W3CDTF">2014-11-24T15:12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