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50A-CC07-4D74-B652-CCB675E8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7343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4360" y="3692880"/>
            <a:ext cx="7343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367-8BBF-4934-8896-4D8ABEC6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4360" y="369288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369288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077-D436-4C15-973A-6A44550A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7280" y="177480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0560" y="177480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4360" y="369288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7280" y="369288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0560" y="3692880"/>
            <a:ext cx="236448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BA3-5AD5-41B1-9C14-F09EC5E2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4360" y="1774800"/>
            <a:ext cx="7343640" cy="36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96AF-4C47-4BE2-9A7B-3A476543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7343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242-F396-4C15-B2DC-B1672758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3583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1774800"/>
            <a:ext cx="3583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E8D-0465-4986-AE2B-C154DC7D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734-6AE8-43FD-9B9A-7CB53C7A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5640" y="693720"/>
            <a:ext cx="6548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FC8-BEC3-4AE1-AC6E-9D6F318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1774800"/>
            <a:ext cx="3583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4360" y="369288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518-681B-404E-866B-938806F5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3583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369288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12D-0D81-420A-8598-18A15C8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436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1774800"/>
            <a:ext cx="35834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4360" y="3692880"/>
            <a:ext cx="7343640" cy="17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A3D3-31F2-4168-9F51-4B93F186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4360" y="1774800"/>
            <a:ext cx="73436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58672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7703-0B1F-456F-9A5A-D8B953B27108}" type="slidenum">
              <a:rPr b="0" lang="zh-CN" sz="1400" spc="-1" strike="noStrike">
                <a:solidFill>
                  <a:srgbClr val="9933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06440"/>
            <a:ext cx="69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红色花簇花朵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412640"/>
            <a:ext cx="640080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2800" y="6303960"/>
            <a:ext cx="2255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zh-CN" sz="14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1" lang="zh-CN" sz="14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6560" y="1773000"/>
            <a:ext cx="73454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5640" y="693720"/>
            <a:ext cx="6548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4988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cc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6:19:01Z</dcterms:created>
  <dc:creator>user</dc:creator>
  <dc:description/>
  <dc:language>en-US</dc:language>
  <cp:lastModifiedBy>user</cp:lastModifiedBy>
  <dcterms:modified xsi:type="dcterms:W3CDTF">2014-12-04T15:13:3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