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A40-1559-4C84-9FF6-871FB7EA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9880" y="376776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2E6-4F05-4389-A93C-C8A93545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525-D1F0-41B1-B098-319C83EE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8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7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9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8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7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C31-91CC-41E8-A832-E4E179C0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C4CB-5B08-4365-B336-14FCFF01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1BDD-0CCC-4A1E-8182-B65CCB1B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50E9-7981-4DC4-992C-597B0BD9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1BDF-75E9-4B0D-8337-F9C4EB20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D48F-D889-497A-94FC-F1AC28E1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18960" y="282600"/>
            <a:ext cx="61102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4484-5479-49AB-BAA6-68DEC4D4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FF30-1F1A-479D-BC0D-E9B4332E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D19-14B4-4407-8DEE-D2A0FA14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90FA-C0EF-417E-8FF2-C292C540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FB5C-2160-41B4-929B-00E37682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880" y="376776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2316-D797-474C-B7CC-DCA99664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9D9F-087E-45B8-87B0-8A76F68A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8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77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99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8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77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62ED-F7A1-4B59-ABD0-93744AED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1BF6B-D630-491F-A54C-767128A9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3BCDB-4414-4F18-922B-2CD4A87A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F1C0-4232-4A98-B039-32CFA30C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1037E-5AD5-40B1-BD91-58FF45EF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AB8C6-A396-42F8-8693-260FE587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2B0-8743-41E0-A711-FD2CF6D6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118960" y="282600"/>
            <a:ext cx="61102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A2F18-E7FE-4BFC-9B73-042766E5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E5FC-8090-42A2-9A8D-86050C7A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DDAE7-4680-4136-BB24-FF4C8F35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024D0-5F13-4353-A8AB-0B4E490C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9880" y="376776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61EAF-6372-4002-9C71-6E96997B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77470-E617-4912-AE9B-C5F54B3A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8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7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99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8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7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7147-B740-4E6A-A0F6-0CCFCD9F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4C2C3-026C-4DF4-8C18-D8CF153C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1AE33-A54F-4C11-993F-7DD57DA9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391B5-FDFC-4350-B66A-04C501B0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63C-9B81-4F6B-9299-772103D4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1A672-867E-49C9-9CF3-2CA6AE24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FE67D-C73D-435D-A841-F6765EA3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118960" y="282600"/>
            <a:ext cx="61102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B9BC6-F4BA-442B-A7FE-BB0264EA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FA27-DAF2-41A5-BA23-676CD4C3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8AA56-1905-4FB6-9614-CD2A9D45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6A27F-9305-490B-961B-869AAD51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9880" y="376776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357D8-9014-4F63-8219-9CE0F7B6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6F0C8-47F1-4D87-B651-A3A831A0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88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77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99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88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77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9800F-7F88-4AC7-951A-38796145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3673-8A07-499F-A0F9-9719A195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18960" y="282600"/>
            <a:ext cx="61102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932-9D43-41CA-A378-2BEB3115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798-A836-4CDA-B39E-57CF9BDE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B2F-7ADD-40B9-B485-F83C013D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C115-37D5-475D-918D-B9B2F9DF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114480" y="169920"/>
            <a:ext cx="2035080" cy="853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"/>
          <p:cNvPicPr/>
          <p:nvPr/>
        </p:nvPicPr>
        <p:blipFill>
          <a:blip r:embed="rId3"/>
          <a:stretch/>
        </p:blipFill>
        <p:spPr>
          <a:xfrm>
            <a:off x="1681200" y="243000"/>
            <a:ext cx="7243560" cy="6174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" descr=""/>
          <p:cNvPicPr/>
          <p:nvPr/>
        </p:nvPicPr>
        <p:blipFill>
          <a:blip r:embed="rId4"/>
          <a:stretch/>
        </p:blipFill>
        <p:spPr>
          <a:xfrm>
            <a:off x="384120" y="1189080"/>
            <a:ext cx="8759880" cy="566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299520" y="64501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5012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10040" y="64501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CB0D-475A-42F8-B420-72E20BA73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de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2"/>
          <a:stretch/>
        </p:blipFill>
        <p:spPr>
          <a:xfrm>
            <a:off x="384120" y="1189080"/>
            <a:ext cx="8759880" cy="5668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114480" y="169920"/>
            <a:ext cx="2031840" cy="852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200" y="836280"/>
            <a:ext cx="77724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99520" y="64501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45012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710040" y="64501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E053-843C-4EE9-95F3-28F0CA0EE5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4"/>
          <a:stretch/>
        </p:blipFill>
        <p:spPr>
          <a:xfrm>
            <a:off x="384120" y="1189080"/>
            <a:ext cx="8759880" cy="566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14480" y="169920"/>
            <a:ext cx="2035080" cy="85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1681200" y="243000"/>
            <a:ext cx="7243560" cy="61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4"/>
          <a:stretch/>
        </p:blipFill>
        <p:spPr>
          <a:xfrm>
            <a:off x="384120" y="1189080"/>
            <a:ext cx="8759880" cy="5668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299520" y="64501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45012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10040" y="64501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0DA7-B07E-4A89-86DF-69C9F3C3E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114480" y="169920"/>
            <a:ext cx="2035080" cy="853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384120" y="1189080"/>
            <a:ext cx="8759880" cy="5668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299520" y="64501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45012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710040" y="64501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7937-1BAD-4487-9D18-DFE99E326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7200" y="836280"/>
            <a:ext cx="77724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87200" y="2228760"/>
            <a:ext cx="64008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7322760" y="630864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 Narrow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1745640" y="60958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29292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1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29292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29292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29292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09:27:19Z</dcterms:created>
  <dc:creator>humphreyss</dc:creator>
  <dc:description/>
  <dc:language>en-US</dc:language>
  <cp:lastModifiedBy>humphreyss</cp:lastModifiedBy>
  <cp:lastPrinted>1899-12-30T00:00:00Z</cp:lastPrinted>
  <dcterms:modified xsi:type="dcterms:W3CDTF">2014-05-30T06:54:0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