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4CB-313B-4D0F-A6F8-BFB20346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3B7-E8E5-4E6F-B585-FFB0F03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DAE-4FCD-44CB-94BF-6C2C689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9DA-D7A4-4F2A-A610-5CEEC22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A04-7F7C-478F-9ADF-BCD6BFC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93E-B333-401E-93D0-E7EAA5F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E0D-94B5-45AB-ACCA-EFBE4BEC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B94-4467-4098-83DB-3BBD152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977-6EBA-43D3-A31A-10A8141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905-24A2-4335-B76B-0255FD9A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1FB-059A-4012-BF62-AB62E8FC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C88-10DF-4FAC-8488-E05F6F76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M62R&amp;E001-(bar)"/>
          <p:cNvPicPr/>
          <p:nvPr/>
        </p:nvPicPr>
        <p:blipFill>
          <a:blip r:embed="rId3"/>
          <a:stretch/>
        </p:blipFill>
        <p:spPr>
          <a:xfrm>
            <a:off x="2048040" y="0"/>
            <a:ext cx="709596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M62R&amp;E001-(bar)"/>
          <p:cNvPicPr/>
          <p:nvPr/>
        </p:nvPicPr>
        <p:blipFill>
          <a:blip r:embed="rId3"/>
          <a:stretch/>
        </p:blipFill>
        <p:spPr>
          <a:xfrm>
            <a:off x="2048040" y="0"/>
            <a:ext cx="7095960" cy="60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62R&amp;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9D9-6132-4EB4-8523-F4554FB3502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834-6608-43B1-8B2E-D34DE30D39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6 (title slid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2c2c2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2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c2c2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7160" y="2257200"/>
            <a:ext cx="70563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灰色商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38440" y="3986280"/>
            <a:ext cx="7092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4468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69840" y="781200"/>
            <a:ext cx="79790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2c2c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c2c2c"/>
                </a:solidFill>
                <a:latin typeface="Arial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c2c2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0:31:32Z</dcterms:created>
  <dc:creator>graphics05</dc:creator>
  <dc:description/>
  <dc:language>en-US</dc:language>
  <cp:lastModifiedBy>a</cp:lastModifiedBy>
  <dcterms:modified xsi:type="dcterms:W3CDTF">2014-12-10T15:05:43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