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3AB-9F13-4A02-A366-C3109DD1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191-74D6-417D-921D-55C2953E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BD8-CB7F-4922-8695-38FB9AA0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108-4334-4464-B7AC-CEC5A12D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F298-9253-4BDE-B69A-231BD1B3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F276-DA11-4999-994B-E0C68EA0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93BB-ECF2-4588-AFE3-B60C3C9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CEA-17BA-480E-8FDA-D855201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3F9B-C021-45BA-9120-DF46BA1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EFBF-5E89-4899-B63B-68DEF44E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2881-2DD2-439E-8DAF-BD2981C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8D6-C29E-411C-BE4C-C3F4A8C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4ECE-A681-4AAA-A82B-DFE321A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7FC4-B655-473F-8114-3C2E1FFF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6C7-6ECA-451B-A7DE-8957F0DA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DA17-29E5-4AC1-995F-8887F788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CBBA-9D36-47AD-AC30-BBE95CFE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CE1-F3C2-4FE4-8B58-80C59DD1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D19-A4E8-4E55-BB02-9E0799E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D6B-A2A5-4734-A235-7DCD5DF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2DA-76FB-4EEE-B8E9-EC8DE1EB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756-F80F-409A-B51F-C3FE9CE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82F-AAFF-4A85-BB31-4226237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84C-9BC6-4ACA-AA4E-C321649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FE6-4B03-4C85-8E4C-4A156D0B87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009-743C-4927-9507-1E459CEB4C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DF3-D6B3-415F-B6B0-0B3C75A440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黄色校车学生安全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1157400"/>
            <a:ext cx="64008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输入作者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0720" y="12063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00Z</dcterms:created>
  <dc:creator>Ric6000</dc:creator>
  <dc:description/>
  <dc:language>en-US</dc:language>
  <cp:lastModifiedBy>a</cp:lastModifiedBy>
  <dcterms:modified xsi:type="dcterms:W3CDTF">2014-12-10T15:02:12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