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BFE-AD3F-410F-ACB4-AE0DAE8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1D0-56AD-4552-8E3C-42C911B9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E01-9B9B-411F-B9F4-7DA15C24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96E-F158-4B43-B4A4-E43E4D0E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8B4-304A-4CEF-8043-9FBF7594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654-3710-4496-9609-D2F8D45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A21C-D309-4874-9966-2FDAE633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3E2-A1AB-4262-A59C-86C2BFB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5B0-EAE7-4756-80B8-7A76691B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48AD-BD37-4632-9BCD-61574BC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D38A-472F-4AFD-882A-C7229841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07A-94E1-41FC-9057-81B1CFB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500-29E2-4C06-8101-05A5312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4105-FC8E-4A69-AB32-F359026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022-14FF-4FC5-8336-1C5F8E0C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C439-D9CB-4A24-B820-B5DDDBE7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598-0210-4461-915F-BA43DA06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6E9C4-2323-4041-893A-DF040BB5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D1476-8C68-40F0-9A96-54AA20E0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B01BA-8939-4048-8D4E-EDD90C40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09A17-55A8-4C20-82BB-3C314C1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1C564-C975-424A-BA9E-7A9933C0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9E8-E0A9-4D30-ACC3-82C91ECA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29755-3B8A-46D2-A35F-AE9CABD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9ED88-0E7F-4C1F-A16D-7439557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D9CDF-AF81-43BF-8C72-00727D0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85DF2-1BBF-4C8D-A729-5898BB8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E75DE-13E4-486F-AF7F-DED69934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10041-3C4F-43EE-911B-BD1B0484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D8898F-CCDD-4558-B5C6-358C7024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DD2-953F-4766-B998-5F5F6DF0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618-46ED-421C-B3D8-169A5827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6160" y="131760"/>
            <a:ext cx="888984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76B-AF8A-4821-8CC8-C093673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492-F2D9-446A-81D1-4259975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861-5F03-4029-8E8B-A002C27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160" y="70560"/>
            <a:ext cx="888984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A39-43A1-4FE1-A561-AEC6BFC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5945-D6D2-44CE-A91B-ECB2086FE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2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5E4-3687-42F0-88BC-E3DCF0E7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5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127-DFA3-422E-A310-BB1409CAF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0424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886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46160" y="131760"/>
            <a:ext cx="8889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3:44:38Z</dcterms:created>
  <dc:creator>hejun</dc:creator>
  <dc:description/>
  <dc:language>en-US</dc:language>
  <cp:lastModifiedBy>king</cp:lastModifiedBy>
  <cp:lastPrinted>1899-12-30T00:00:00Z</cp:lastPrinted>
  <dcterms:modified xsi:type="dcterms:W3CDTF">2014-05-26T06:57:14Z</dcterms:modified>
  <cp:revision>10</cp:revision>
  <dc:subject/>
  <dc:title>P.P.Template Bo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