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D2D-EEE4-45C3-8AAC-4235443D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DFA-2D2E-46D4-B820-2BF677E2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B78-1DE8-4926-A2D8-39C0ED56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42A-63CD-4139-B2F0-6D5A6824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56B-58BA-4FA6-8E3F-040AB1DB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989-626E-48FD-99A3-5080D3B0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644-AE02-4CE7-BB6C-18916F04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5DE-8B19-4EEA-B5D8-1211B45D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214-B077-43C6-AE73-AC310E7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9D1-802C-485E-946F-D0E590F2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D16-1114-4970-AC8B-EB54AF56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B88-3048-4406-9EC2-D72BB83F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E647-577B-407F-B270-CEAC324C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F0AD-B7C5-4105-82F7-262E416D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94E4-5F18-416A-861E-9E7293BA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416B-DF96-48B2-A332-FF0836EC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F5AD-9CA4-47B5-9530-9A9377BE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CCFA-9EE2-4F6A-A828-7F16EAC4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693A-7147-4A5C-9255-6D96BE37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BF2B-AF80-4DFE-B3B8-123D6C00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1DB0-993C-46A0-84E8-B98DAB21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ECB9-8659-4BF7-B408-62F84FCA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55CF-8EE4-4E4D-9EF5-FE07356F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643D-CDC5-4143-9546-5FFFB2F4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-15840" y="1477800"/>
            <a:ext cx="9166320" cy="4697640"/>
          </a:xfrm>
          <a:prstGeom prst="rect">
            <a:avLst/>
          </a:prstGeom>
          <a:solidFill>
            <a:srgbClr val="f8f8f8">
              <a:alpha val="49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7B1F-09FA-4FF6-B4B1-0B6D67218D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9250-6044-4B91-A67A-1FED4C163D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3911-439F-43AE-86B0-B8D5C6FDC7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8D49-D850-4852-BFBB-0D61760945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Calibri"/>
              </a:rPr>
              <a:t>黑色线条</a:t>
            </a:r>
            <a:r>
              <a:rPr b="0" lang="zh-CN" sz="4400" spc="-1" strike="noStrike">
                <a:solidFill>
                  <a:srgbClr val="f8f8f8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f8f8f8"/>
                </a:solidFill>
                <a:latin typeface="Calibri"/>
              </a:rPr>
              <a:t>演示模板下载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13:17:00Z</dcterms:created>
  <dc:creator>Owner</dc:creator>
  <dc:description/>
  <dc:language>en-US</dc:language>
  <cp:lastModifiedBy>a</cp:lastModifiedBy>
  <dcterms:modified xsi:type="dcterms:W3CDTF">2014-12-10T15:09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