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7976-6682-48E9-857A-013BAF74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F149-2A7E-402D-B5E2-FE9AA882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62E0-CCE3-4E05-9B53-F6D7393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2C06-F004-4F63-A310-2315981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C3AA-5651-4A27-B237-A496B45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7EC2-D2BE-49F8-A85E-B0A4692F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77D2-913B-43B3-B1CD-425A8AB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A48B-C1AB-4A38-9E01-4663C05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149C-8435-4B0C-A968-3D1394F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4BE8-C750-4F81-A897-39772AF0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1899-6BC7-4944-92F3-B27B9F4E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819F-54C7-4735-B3D5-A89A66CB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9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36000" y="6327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C0185564-FD60-40E6-8C40-E4FEE9EFF296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149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92A-D44E-4D63-8D96-F326C63D78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2246-9CC5-476F-8CA1-1F7A8C249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8360" y="51130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4149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色中国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9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773360"/>
            <a:ext cx="8207280" cy="863640"/>
            <a:chOff x="457200" y="177336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773360"/>
              <a:ext cx="8207280" cy="576360"/>
              <a:chOff x="457200" y="177336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773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773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773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773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77336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77336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77336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77336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2349720"/>
              <a:ext cx="8207280" cy="287280"/>
              <a:chOff x="457200" y="234972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2349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2349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2349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674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492360" y="5084640"/>
            <a:ext cx="45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3960" y="6453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A1D7-816B-484A-BC58-C5D517965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022E-A4A5-4AB6-A778-93CE711A0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dcterms:modified xsi:type="dcterms:W3CDTF">2014-11-24T15:43:34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