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B727-7620-4DE8-BE51-520B9CBB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C29-19AF-4701-93D4-7CB64BE9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AE8-0FF4-443E-8D88-35F0BD61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8DA-F50C-4A09-A532-FB1BB56B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0D6C-C5AC-4729-8D9E-5B925A5A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76A5-CEBF-4E5F-9D43-66C87DEB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0C56-083F-447B-9888-54028D3C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2937-C656-421C-825B-87A06365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FAEC-949A-443C-A7AE-39BFBF71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13F4-3ABE-427B-AB40-AA5E74B7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4B96-CD98-4134-BCBA-A9A4900F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608C-CF89-4E68-9528-C9AC6BA7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0986-79DC-479B-BCC5-3DCBD1FB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A85E-D7C4-44C1-BAC6-E0CC95FC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5CA7-155D-41EE-B467-AC37D29C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B4E1-6E86-41D7-AD95-80A58B63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404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77C5-40F2-44D6-8078-BC406C7A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1F1-EDE6-45F0-BD43-C1D347BB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9884-8DCA-43C1-897F-ED902380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0E3-466B-488D-A792-6D76EE02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C9E9-8261-4B5E-889D-F5D77598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C4A-30C9-4DF1-970C-A3258C6E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72E-02D1-4749-B8B1-EDD721BA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6D2-39BA-4622-A773-2C97E015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设计素材\图片\通用纹理\1277274856789.jpg"/>
          <p:cNvPicPr/>
          <p:nvPr/>
        </p:nvPicPr>
        <p:blipFill>
          <a:blip r:embed="rId3"/>
          <a:srcRect l="21481" t="34045" r="21378" b="20434"/>
          <a:stretch/>
        </p:blipFill>
        <p:spPr>
          <a:xfrm>
            <a:off x="0" y="2305080"/>
            <a:ext cx="9144000" cy="4552920"/>
          </a:xfrm>
          <a:prstGeom prst="rect">
            <a:avLst/>
          </a:prstGeom>
          <a:ln w="0">
            <a:noFill/>
          </a:ln>
        </p:spPr>
      </p:pic>
      <p:sp>
        <p:nvSpPr>
          <p:cNvPr id="1" name="矩形 6"/>
          <p:cNvSpPr/>
          <p:nvPr/>
        </p:nvSpPr>
        <p:spPr>
          <a:xfrm>
            <a:off x="0" y="1916280"/>
            <a:ext cx="9144000" cy="2520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c2d1e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DBC5-3350-4FE5-9144-90D61C49EA2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327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2CB3-1B3F-4C41-92E8-F101084D2A7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592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黑色炫酷风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686448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1649880" y="60930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3:21:08Z</dcterms:created>
  <dc:creator>Administrator</dc:creator>
  <dc:description/>
  <dc:language>en-US</dc:language>
  <cp:lastModifiedBy/>
  <dcterms:modified xsi:type="dcterms:W3CDTF">2014-12-04T15:30:3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