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8999538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607-664D-4E70-B4BB-E77D9A84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940-BE8F-4974-B3D7-C3380A1C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014-193C-468B-9D62-BA45FBD6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0D3-A355-4DA6-B217-E46F4954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41B-FF99-4C8F-87DD-96F5872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44C-254D-46B5-BAA9-FDE23532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661-BFF1-445E-9FAF-919E3F5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A71-AF07-45FC-9E97-9D96ED8C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30040"/>
            <a:ext cx="81010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D95-DF4B-4A60-A417-09DD1F3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9B8-89D7-45F2-B75D-6604110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447-2DEF-43C3-922D-7BC1155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BF5-5807-46D8-9117-FA7C71C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24628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246280"/>
            <a:ext cx="2850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5246280"/>
            <a:ext cx="2100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B0F4-9452-4377-93EB-83591143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3120" y="1433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红色主题</a:t>
            </a: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模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9320" y="3110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24200" y="34909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90880" y="1662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24200" y="21956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6800" y="3719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640000">
            <a:off x="4042440" y="219528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97320" y="5396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10200" y="824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6120" y="19670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3120" y="30337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3120" y="1433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95600" y="25765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3120" y="250020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49680" y="53960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6680" y="105264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a1d1a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76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62480" y="23479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档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1:56:12Z</dcterms:created>
  <dc:creator/>
  <dc:description/>
  <dc:language>en-US</dc:language>
  <cp:lastModifiedBy>微软用户</cp:lastModifiedBy>
  <dcterms:modified xsi:type="dcterms:W3CDTF">2014-11-09T01:28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