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9DC-9B69-4421-8E65-C207CD57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89F-741A-4B83-9FE4-47FC721E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B20-2E04-4AEB-8852-C17E884B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ACB-A56B-4F59-AB1F-F6BE980B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8E07-C73C-4DDC-A0D7-6002C696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5D6D-29E1-4E24-9D53-713103DB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A1B8-CBCE-441D-8F5B-F5C09A17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25D-8ABE-4772-8BF3-8DD4A6BD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E847-A76A-42CC-8011-2159A8F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7A54-F74B-43DA-9B27-A554AEB2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1BE6-7A64-4B89-9435-6E5E07B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083-B8F1-4844-AA9F-4A69DA2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56F3-B149-4086-8D46-5368CB7F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98D1-5496-4F44-B2E4-D7E055E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2F96-9279-448B-A0B1-2CC0A0F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5EB-7C9C-41A9-AACD-EA367BC9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FF74-6E27-4124-AED8-8195B54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306-5907-4CB4-ADE9-0DB4647D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899-ABE9-4CAC-8746-657ECC7C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7DD-ED3D-4CDB-830E-B09A81AF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14E-7442-4D66-A1B5-CDE10C0A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378-0EFD-49BB-A347-DBC7DCE4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629-944B-4536-87C0-E12A35E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68C-D1B0-4459-AE4F-E24E2384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27C4-B6E3-47D6-AC0F-739794F367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BF07-1FF8-4FF3-8C5C-2751F2FE0C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91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滑雪场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53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45440" y="6742080"/>
            <a:ext cx="86364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26:39Z</dcterms:created>
  <dc:creator>Admin</dc:creator>
  <dc:description/>
  <dc:language>en-US</dc:language>
  <cp:lastModifiedBy>a</cp:lastModifiedBy>
  <dcterms:modified xsi:type="dcterms:W3CDTF">2014-12-10T14:59:29Z</dcterms:modified>
  <cp:revision>2</cp:revision>
  <dc:subject/>
  <dc:title>PRESENTATION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