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6428-B025-43CF-9703-03EAB698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534-392A-4849-BFDA-060EFA9A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851-1721-425C-9CB8-DD361697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846-0A6F-48F2-B538-338E0A10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638F-DB49-470C-AB04-9E0F3237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03D8-2AAE-4FB9-9D5B-2346BA68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BC18-2FF9-484D-BA70-2E585D74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5F21-8E84-414A-96E9-49C0190D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9C9C-140A-40C9-B23A-76C658A1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41AE-14A4-41D8-AE45-4A958834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93B4-EC1F-430F-83D4-CFF98D8A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169-2690-48D9-A730-4F611AB2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3116-9D25-4AFB-985B-496180D9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5460-A57B-4D2F-8A53-C6C23F52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5483-DB5B-4E70-B5A8-68834B3E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DB29-716F-45A4-A787-A96521F6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1174-604B-4527-BCA5-EBEDB67F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1B6-2DF1-41AA-A60B-E3344610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684-A44B-4D09-BA3F-E1815257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9BA-314F-45A1-9E5B-2C03345A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825-1EBE-4381-88A1-9FEBFAC8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FD2-44E9-49AC-A6E1-7A063A27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4EF-E0B7-4CC9-A006-FE0A0987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414-C915-4F8C-A485-835CDBE7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2BE3-962A-4772-974F-B66C9B972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39320" cy="609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6F55-7120-4573-91B7-04125405A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0360" y="6435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546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5:01:42Z</dcterms:created>
  <dc:creator>Administrator</dc:creator>
  <dc:description/>
  <dc:language>en-US</dc:language>
  <cp:lastModifiedBy/>
  <cp:lastPrinted>1899-12-30T00:00:00Z</cp:lastPrinted>
  <dcterms:modified xsi:type="dcterms:W3CDTF">2014-06-02T14:53:2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