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CE9-991B-4826-A298-16C1B9C3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3AD-86EF-4891-919C-F857024B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884-4C2C-4458-98B8-722139AE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1EF-D242-4021-9E6F-0E1B0746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825-909C-4018-9D50-579EEC85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366-2CB4-4F09-AD24-62887C6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A97A-F49D-4665-84AD-CF91F78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3B3-9913-477F-AE2E-30B12AE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3681-CBA9-4C08-B06B-0F23994C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24D3-37C7-43FD-8B03-E02C8C4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5870-A2E7-41A0-91DA-909D0AC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C80-3F30-4EDD-954D-BE4D9CE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1207-5332-437C-A8EC-751D8E7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725-AD1C-4211-9DC9-D06193E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289C-A65E-416F-BD20-E15ADFD6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5584-C664-443A-B2AF-F704C92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DA97-D2BB-46E6-86FC-38ED035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1F1-AD31-487E-892D-4FDFFA35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494-0183-4621-9DBD-EDA9DE8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AC4-13F4-45E6-B1BC-CF696AEA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F2B-942D-42C2-A7D5-9C614B7B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2D9-D343-4AEC-B67D-30039AD4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9C9-CD5B-4FDA-9901-BE91BBA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04C-FEA4-43F7-AFE0-2DD6A22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08D1-6E19-439B-B954-4B6211F2EF11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CC10-B6FF-4E11-8708-6F421C98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08720" y="1440"/>
            <a:ext cx="183528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72000" y="1440"/>
            <a:ext cx="1836720" cy="3068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3240"/>
            <a:ext cx="1836720" cy="30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800360" y="4680"/>
            <a:ext cx="183960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-20520" y="3240"/>
            <a:ext cx="1820880" cy="307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60720" y="3436920"/>
            <a:ext cx="179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1360" y="4653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216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6560" y="2205000"/>
            <a:ext cx="2504880" cy="271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1840" y="41497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34960" y="1047600"/>
            <a:ext cx="176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4240" y="1104840"/>
            <a:ext cx="12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</a:t>
            </a: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4800" y="4176720"/>
            <a:ext cx="184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</a:t>
            </a:r>
            <a:r>
              <a:rPr b="0" lang="zh-CN" sz="9600" spc="-1" strike="noStrike">
                <a:solidFill>
                  <a:srgbClr val="ff0000"/>
                </a:solidFill>
                <a:latin typeface="草檀斋毛泽东字体"/>
                <a:ea typeface="草檀斋毛泽东字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59101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5080" y="97632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37200" y="100476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3080" y="4062240"/>
            <a:ext cx="191304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83360" y="4062240"/>
            <a:ext cx="1914480" cy="1847880"/>
          </a:xfrm>
          <a:prstGeom prst="donut">
            <a:avLst>
              <a:gd name="adj" fmla="val 489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19080"/>
            <a:ext cx="0" cy="566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6308640"/>
            <a:ext cx="5902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82920" y="20952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 净 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2276640"/>
            <a:ext cx="3809880" cy="507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47640" y="1969920"/>
            <a:ext cx="54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生”是除了花脸以及丑角以外的男性角色的统称，又分老生（须生）、小生、武生、娃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5240" y="3429000"/>
            <a:ext cx="43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3030480"/>
            <a:ext cx="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3480" y="1741320"/>
            <a:ext cx="430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213680" y="17409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66000" y="209520"/>
            <a:ext cx="15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旦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 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生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14840" y="1969920"/>
            <a:ext cx="3397320" cy="452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3440" y="196992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旦”是女性角色的统称，内部又分为正旦、花旦、闺门旦、武旦、老旦、彩旦（揺旦）、刀马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32529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4760" y="2852640"/>
            <a:ext cx="0" cy="4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1741320"/>
            <a:ext cx="431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46920" y="174096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7920" y="6311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4920" y="206280"/>
            <a:ext cx="15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 旦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净 </a:t>
            </a: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生丑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11880" y="2598840"/>
            <a:ext cx="3597120" cy="4790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58800" y="17859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净”，俗称花脸，大多是扮演性格、品质或相貌上有些特异的男性人物，化妆用脸谱，音色洪亮，风格粗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3179880"/>
            <a:ext cx="43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1680" y="2781360"/>
            <a:ext cx="1440" cy="39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1557360"/>
            <a:ext cx="431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946920" y="1557000"/>
            <a:ext cx="14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4167" t="7971" r="9468" b="23741"/>
          <a:stretch/>
        </p:blipFill>
        <p:spPr>
          <a:xfrm>
            <a:off x="5869080" y="3429000"/>
            <a:ext cx="3074760" cy="324000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7020360" y="198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生 旦 净 </a:t>
            </a:r>
            <a:r>
              <a:rPr b="1" lang="zh-CN" sz="40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880" y="1741320"/>
            <a:ext cx="863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净生</a:t>
            </a:r>
            <a:r>
              <a:rPr b="0" lang="zh-CN" sz="2400" spc="-1" strike="noStrike">
                <a:solidFill>
                  <a:srgbClr val="ffffff"/>
                </a:solidFill>
                <a:latin typeface="经典繁印篆"/>
                <a:ea typeface="经典繁印篆"/>
              </a:rPr>
              <a:t>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繁印篆"/>
              </a:rPr>
              <a:t>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4280"/>
            <a:ext cx="144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7080" y="2924280"/>
            <a:ext cx="0" cy="3368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89200" y="2101680"/>
            <a:ext cx="46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丑”，扮演喜剧角色，因在鼻梁上抹一小块白粉，俗称小花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3108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040" y="27082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1844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588000" y="18428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144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72360" y="1773360"/>
            <a:ext cx="201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中國龍古印體"/>
              </a:rPr>
              <a:t>謝謝觀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4360" y="-11160"/>
            <a:ext cx="216000" cy="178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3960720"/>
            <a:ext cx="216000" cy="306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1844640"/>
            <a:ext cx="1889280" cy="2032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81440" y="3483000"/>
            <a:ext cx="688680" cy="689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64080" y="3673440"/>
            <a:ext cx="43164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240" y="4305240"/>
            <a:ext cx="177840" cy="179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4537080"/>
            <a:ext cx="12564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97120" y="4129200"/>
            <a:ext cx="265320" cy="264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4960" y="4010040"/>
            <a:ext cx="384120" cy="38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97240" y="3673440"/>
            <a:ext cx="431640" cy="43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12880" y="475308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95720" y="4010040"/>
            <a:ext cx="385920" cy="384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30520" y="4129200"/>
            <a:ext cx="266760" cy="264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17880" y="4324320"/>
            <a:ext cx="177840" cy="177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71880" y="4502160"/>
            <a:ext cx="12528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59080" y="4324320"/>
            <a:ext cx="1736640" cy="1368360"/>
          </a:xfrm>
          <a:prstGeom prst="blockArc">
            <a:avLst>
              <a:gd name="adj1" fmla="val 11999052"/>
              <a:gd name="adj2" fmla="val 20400948"/>
              <a:gd name="adj3" fmla="val 82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7120" y="46767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9560" y="45896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4040" y="453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3720" y="449892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0800" y="44845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7880" y="44845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45226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2200" y="457524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64080" y="4665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53000" y="47419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曲线 144"/>
          <p:cNvSpPr/>
          <p:nvPr/>
        </p:nvSpPr>
        <p:spPr>
          <a:xfrm>
            <a:off x="723960" y="1041480"/>
            <a:ext cx="1673280" cy="24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" y="159"/>
                </a:moveTo>
                <a:cubicBezTo>
                  <a:pt x="1295" y="204"/>
                  <a:pt x="3934" y="0"/>
                  <a:pt x="5680" y="426"/>
                </a:cubicBezTo>
                <a:cubicBezTo>
                  <a:pt x="7426" y="852"/>
                  <a:pt x="9525" y="1568"/>
                  <a:pt x="11107" y="2710"/>
                </a:cubicBezTo>
                <a:cubicBezTo>
                  <a:pt x="12689" y="3852"/>
                  <a:pt x="13820" y="5284"/>
                  <a:pt x="15173" y="7273"/>
                </a:cubicBezTo>
                <a:cubicBezTo>
                  <a:pt x="16525" y="9262"/>
                  <a:pt x="18206" y="12536"/>
                  <a:pt x="19239" y="14661"/>
                </a:cubicBezTo>
                <a:cubicBezTo>
                  <a:pt x="20272" y="16786"/>
                  <a:pt x="21140" y="19002"/>
                  <a:pt x="21370" y="20031"/>
                </a:cubicBezTo>
                <a:cubicBezTo>
                  <a:pt x="21600" y="21060"/>
                  <a:pt x="21083" y="21600"/>
                  <a:pt x="20599" y="20838"/>
                </a:cubicBezTo>
                <a:cubicBezTo>
                  <a:pt x="20116" y="20077"/>
                  <a:pt x="19181" y="17144"/>
                  <a:pt x="18468" y="15468"/>
                </a:cubicBezTo>
                <a:cubicBezTo>
                  <a:pt x="17755" y="13791"/>
                  <a:pt x="17239" y="12490"/>
                  <a:pt x="16337" y="10768"/>
                </a:cubicBezTo>
                <a:cubicBezTo>
                  <a:pt x="15435" y="9046"/>
                  <a:pt x="14173" y="6535"/>
                  <a:pt x="13041" y="5125"/>
                </a:cubicBezTo>
                <a:cubicBezTo>
                  <a:pt x="11910" y="3716"/>
                  <a:pt x="10722" y="3068"/>
                  <a:pt x="9558" y="2307"/>
                </a:cubicBezTo>
                <a:cubicBezTo>
                  <a:pt x="8394" y="1545"/>
                  <a:pt x="7361" y="920"/>
                  <a:pt x="6066" y="562"/>
                </a:cubicBezTo>
                <a:cubicBezTo>
                  <a:pt x="4770" y="204"/>
                  <a:pt x="2705" y="227"/>
                  <a:pt x="1803" y="159"/>
                </a:cubicBezTo>
                <a:cubicBezTo>
                  <a:pt x="901" y="90"/>
                  <a:pt x="0" y="113"/>
                  <a:pt x="647" y="15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曲线 144"/>
          <p:cNvSpPr/>
          <p:nvPr/>
        </p:nvSpPr>
        <p:spPr>
          <a:xfrm flipH="1" rot="60000">
            <a:off x="3828240" y="1041120"/>
            <a:ext cx="1621080" cy="23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" y="159"/>
                </a:moveTo>
                <a:cubicBezTo>
                  <a:pt x="1295" y="204"/>
                  <a:pt x="3934" y="0"/>
                  <a:pt x="5680" y="426"/>
                </a:cubicBezTo>
                <a:cubicBezTo>
                  <a:pt x="7426" y="852"/>
                  <a:pt x="9525" y="1568"/>
                  <a:pt x="11107" y="2710"/>
                </a:cubicBezTo>
                <a:cubicBezTo>
                  <a:pt x="12689" y="3852"/>
                  <a:pt x="13820" y="5284"/>
                  <a:pt x="15173" y="7273"/>
                </a:cubicBezTo>
                <a:cubicBezTo>
                  <a:pt x="16525" y="9262"/>
                  <a:pt x="18206" y="12536"/>
                  <a:pt x="19239" y="14661"/>
                </a:cubicBezTo>
                <a:cubicBezTo>
                  <a:pt x="20272" y="16786"/>
                  <a:pt x="21140" y="19002"/>
                  <a:pt x="21370" y="20031"/>
                </a:cubicBezTo>
                <a:cubicBezTo>
                  <a:pt x="21600" y="21060"/>
                  <a:pt x="21083" y="21600"/>
                  <a:pt x="20599" y="20838"/>
                </a:cubicBezTo>
                <a:cubicBezTo>
                  <a:pt x="20116" y="20077"/>
                  <a:pt x="19181" y="17144"/>
                  <a:pt x="18468" y="15468"/>
                </a:cubicBezTo>
                <a:cubicBezTo>
                  <a:pt x="17755" y="13791"/>
                  <a:pt x="17239" y="12490"/>
                  <a:pt x="16337" y="10768"/>
                </a:cubicBezTo>
                <a:cubicBezTo>
                  <a:pt x="15435" y="9046"/>
                  <a:pt x="14173" y="6535"/>
                  <a:pt x="13041" y="5125"/>
                </a:cubicBezTo>
                <a:cubicBezTo>
                  <a:pt x="11910" y="3716"/>
                  <a:pt x="10722" y="3068"/>
                  <a:pt x="9558" y="2307"/>
                </a:cubicBezTo>
                <a:cubicBezTo>
                  <a:pt x="8394" y="1545"/>
                  <a:pt x="7361" y="920"/>
                  <a:pt x="6066" y="562"/>
                </a:cubicBezTo>
                <a:cubicBezTo>
                  <a:pt x="4770" y="204"/>
                  <a:pt x="2705" y="227"/>
                  <a:pt x="1803" y="159"/>
                </a:cubicBezTo>
                <a:cubicBezTo>
                  <a:pt x="901" y="90"/>
                  <a:pt x="0" y="113"/>
                  <a:pt x="647" y="15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20700000">
            <a:off x="2347920" y="3488400"/>
            <a:ext cx="201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 rot="1380000">
            <a:off x="3695760" y="3412440"/>
            <a:ext cx="20304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/>
  <dcterms:modified xsi:type="dcterms:W3CDTF">2014-11-21T01:29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