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DDC5-B706-4C7A-8FC5-B647EF7B4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FEFF-6984-4F8A-AA67-E679F53A2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383E-95AB-4013-B3E8-DFCB3B3BE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5285-4D8D-4540-89AD-D98E5D234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3E1B-9A0F-4BD6-AD30-7BEFDD39C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BAFA-357E-4A8C-91BE-DEB411C44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BD84-7F33-4338-8E67-218411D1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4B55-EB3D-4C2A-A9E7-94ADC320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F8C3-9BDA-43AE-9AB3-D07E7ED3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E83D-9AFA-49D3-8B0E-195A93F6F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9D91-925F-4656-BC6B-405EABAF8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DCB3-4A01-4DB1-91DC-7E05437FE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198000"/>
            <a:ext cx="7467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icrosoft Sans Serif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294920"/>
            <a:ext cx="7467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76920" y="4876920"/>
            <a:ext cx="3657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titl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Microsoft Sans Serif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Microsoft Sans Serif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lvl="5" marL="1828800">
              <a:spcBef>
                <a:spcPts val="4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lvl="6" marL="1828800">
              <a:spcBef>
                <a:spcPts val="4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16DA9-29F0-44C5-9755-C290AAC7A77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876920" y="4876920"/>
            <a:ext cx="39621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d4d4d"/>
                </a:solidFill>
                <a:latin typeface="Microsoft Sans Serif"/>
              </a:rPr>
              <a:t>精美彩蛋</a:t>
            </a:r>
            <a:r>
              <a:rPr b="0" lang="ru-RU" sz="3200" spc="-1" strike="noStrike">
                <a:solidFill>
                  <a:srgbClr val="4d4d4d"/>
                </a:solidFill>
                <a:latin typeface="Microsoft Sans Serif"/>
              </a:rPr>
              <a:t>ppt</a:t>
            </a:r>
            <a:r>
              <a:rPr b="0" lang="ru-RU" sz="3200" spc="-1" strike="noStrike">
                <a:solidFill>
                  <a:srgbClr val="4d4d4d"/>
                </a:solidFill>
                <a:latin typeface="Microsoft Sans Serif"/>
              </a:rPr>
              <a:t>模板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876920" y="5790960"/>
            <a:ext cx="3962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d4d4d"/>
                </a:solidFill>
                <a:latin typeface="Microsoft Sans Serif"/>
                <a:ea typeface="宋体"/>
              </a:rPr>
              <a:t>单击此处添加副标题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1763640"/>
            <a:ext cx="7467840" cy="36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Microsoft Sans Serif"/>
                <a:ea typeface="宋体"/>
              </a:rPr>
              <a:t>单击此处添加内容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228240" y="198000"/>
            <a:ext cx="7467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81080" y="685440"/>
            <a:ext cx="69343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4d4d4d"/>
              </a:solidFill>
              <a:latin typeface="Microsoft Sans Serif"/>
              <a:ea typeface="宋体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981080" y="1831680"/>
            <a:ext cx="693432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d4d4d"/>
                </a:solidFill>
                <a:latin typeface="18"/>
                <a:ea typeface="宋体"/>
              </a:rPr>
              <a:t>单击此处添加内容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4d4d4d"/>
                </a:solidFill>
                <a:latin typeface="Arial"/>
              </a:endParaRPr>
            </a:p>
          </p:txBody>
        </p:sp>
        <p:pic>
          <p:nvPicPr>
            <p:cNvPr id="12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0T20:32:41Z</dcterms:created>
  <dc:creator>Administrator</dc:creator>
  <dc:description/>
  <dc:language>en-US</dc:language>
  <cp:lastModifiedBy>a</cp:lastModifiedBy>
  <dcterms:modified xsi:type="dcterms:W3CDTF">2014-12-10T14:59:48Z</dcterms:modified>
  <cp:revision>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