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44B-7AA5-4843-84B8-3D1CA4F0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627-07B8-4682-BBE4-29EBC7BF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CEA-7A39-4D56-8B19-611D499F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D45-E62E-447C-8B63-31E4E0DF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DD6A-E9F5-403D-B631-76ED6FDB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8010-5E8B-4BEB-8A52-66D50AA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FD89-B503-4D85-AFF1-CBC1C86A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99C2-C6B2-487D-B872-CF78E609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CD72-3542-433C-9FA4-37ECCE84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DEED-8AC3-4E32-8836-E10B2501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96DF-0F4C-4FD0-BE97-66EF6DFF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CE5-9D88-489A-9C07-06B7C2A8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CEAB-006B-4309-B932-CD25C15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CAC9-F601-4881-AE73-753DC89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450F-5C1A-4623-A0E5-FEE14175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AF8E-EAEE-4CA9-B4BB-657D35E2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41D0-76BC-4C18-84EA-10EE702C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162-9207-435B-B79A-A3D83D1F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BBF-8B7D-47AB-A128-2EB572ED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69E-09AE-4168-9B40-5800190E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D47-B1EC-427F-91CE-C62CD013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E16-F28F-40FD-83A8-000FA408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05A-9FB1-47D6-BF62-9E48A074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431-CE6B-44B0-9FC8-ABEDC2EC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E357-48D5-4366-9DCE-4ACF821A2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1773000"/>
            <a:ext cx="64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171B-E6A7-4365-9E80-7120601E4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1280" y="1773000"/>
            <a:ext cx="64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3080" y="2781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640" y="1989000"/>
            <a:ext cx="51721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00">
                        <a:alpha val="8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江山如此多娇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ff00">
                      <a:alpha val="80000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00360" y="3141720"/>
            <a:ext cx="5737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00">
                        <a:alpha val="8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祝祖国繁荣昌盛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ff00">
                      <a:alpha val="80000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"/>
          <p:cNvSpPr/>
          <p:nvPr/>
        </p:nvSpPr>
        <p:spPr>
          <a:xfrm>
            <a:off x="1866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1:43:02Z</dcterms:created>
  <dc:creator/>
  <dc:description/>
  <dc:language>en-US</dc:language>
  <cp:lastModifiedBy/>
  <dcterms:modified xsi:type="dcterms:W3CDTF">2014-11-21T00:53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