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A3B48-380F-4687-A0DB-89CBF9F21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FC162-5E21-4AEA-9F50-57D760528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2CC63D-9258-49E1-97C9-E7365B657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27044-C324-45D7-8E5F-73B8199CC4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A3C6EE-AD09-4920-9BDF-8676AA5551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42E087-A837-45A0-B9CC-5126802CE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890CEF-64BD-470A-95DF-DF4965EBF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5C8B7D-F199-4DB0-9FB8-1E0BBF22B5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EC579-D508-4DD6-8D98-12A0E1338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024D15-D14B-4F06-8BE0-D62C1F305B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D4A752-53BC-4652-BA2A-57E92E478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23B89-0B0A-45A1-8295-527505D59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E0E0B-2D72-4B78-B9C9-FF2FC36A3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7361C0-EDCA-4435-B9CE-568F4B9D7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85698-A1B0-4520-9A23-A12C5A6ED7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49F296-3A40-4A46-AFB1-17FF7F3019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F12FAE-F0F7-4E17-BEF4-B8D656BC3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09D342-9218-4BC4-A764-9B51EE9DE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FFA56-0516-4EE3-B602-FDEDAF350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9C313-57AF-4DB6-AD74-9A404BC2D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31773-7F5B-4910-ADD5-EFA37ADAF5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76CCD-5676-4742-B243-8743AC6CA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AC9C3-0A6B-4523-A29D-005564D8C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C17C1-EAEB-47BF-A5B0-6A4B35591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45A6-72D1-40BD-ADFD-05B24ED232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3C323-B3BA-4900-ABA9-377E01EE432D}"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2EAD7-F48E-422E-9DFD-451EC657769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276720" y="404280"/>
            <a:ext cx="7772400" cy="792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ccffff"/>
                </a:solidFill>
                <a:latin typeface="Tahoma"/>
              </a:rPr>
              <a:t>卡通小鸟</a:t>
            </a:r>
            <a:r>
              <a:rPr b="1" lang="ru-RU" sz="4400" spc="-1" strike="noStrike">
                <a:solidFill>
                  <a:srgbClr val="ccffff"/>
                </a:solidFill>
                <a:latin typeface="Tahoma"/>
              </a:rPr>
              <a:t>ppt</a:t>
            </a:r>
            <a:r>
              <a:rPr b="1" lang="ru-RU" sz="4400" spc="-1" strike="noStrike">
                <a:solidFill>
                  <a:srgbClr val="ccffff"/>
                </a:solidFill>
                <a:latin typeface="Tahoma"/>
              </a:rPr>
              <a:t>模板</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755280" y="14842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755280" y="152712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755280" y="14842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6" name="Picture 3"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755280" y="14842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8" name="Picture 3" descr="图片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55280" y="14842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755280" y="1484280"/>
            <a:ext cx="7427880" cy="47815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Gulim"/>
              </a:rPr>
              <a:t>Your Text he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91" name="Group 2"/>
          <p:cNvGrpSpPr/>
          <p:nvPr/>
        </p:nvGrpSpPr>
        <p:grpSpPr>
          <a:xfrm>
            <a:off x="0" y="0"/>
            <a:ext cx="8466120" cy="6858000"/>
            <a:chOff x="0" y="0"/>
            <a:chExt cx="8466120" cy="6858000"/>
          </a:xfrm>
        </p:grpSpPr>
        <p:sp>
          <p:nvSpPr>
            <p:cNvPr id="9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9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9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1T01:29:11Z</dcterms:created>
  <dc:creator>FiSh</dc:creator>
  <dc:description/>
  <dc:language>en-US</dc:language>
  <cp:lastModifiedBy>a</cp:lastModifiedBy>
  <dcterms:modified xsi:type="dcterms:W3CDTF">2014-12-10T15:08:34Z</dcterms:modified>
  <cp:revision>5</cp:revision>
  <dc:subject/>
  <dc:title>Name of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