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FA6-A4D6-49EC-8686-CBA5B6BF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176-5813-46A9-AC69-116CB661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94E-6DBA-46B8-A479-01C1AD12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48D8-5392-4F44-9423-9638D690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C40F-C25D-4052-8DBE-A9C72D47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7061-A93F-4867-9254-27414253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84C0-95BD-46EE-88FD-255B5780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7FE8-6438-423D-B311-54748D51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8A59-28F0-4CA6-9A61-DDCA03D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39CA-B97B-4EE7-9CE8-1B2EE87C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E34E-083B-47D5-A8DD-C6DBB34D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081-063F-4C07-8703-9259FC8F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1159-58CE-4D91-BECF-834F11D3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0B45-0ECA-4DD3-9975-5B60AFA8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5480-50A4-49B7-BC44-61782174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C502-21B9-4ED4-94CC-C6EB38B0A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D0BC-0C2C-4EA9-8A74-A87AB5BC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68F-346D-4A98-8205-2EDB9929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368-4E2E-412A-9E89-AF311FA8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9A8-4CC1-4CFB-B93D-4C84B237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DE0-61CB-4EA7-A177-F0674C9B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3E5-4697-4E76-878F-019AE06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C287-8FBF-4A7E-8AAA-2ADB4A0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6F3B-F963-4AC6-B510-42C0B6FC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6DB5-0F2B-4C8A-8137-B8EDC39B9B4B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微软雅黑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AD11-17EC-4A9D-ADDA-1B6D7AAC99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248F0-CE3D-4A2C-8AAB-E4BF8763D7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1440" y="6480"/>
            <a:ext cx="9144000" cy="327816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11280" y="2062080"/>
            <a:ext cx="418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简约就是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34400" y="344808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绿色简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69240" y="508644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Blackadder ITC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99cc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40960" y="450720"/>
            <a:ext cx="5134680" cy="1501560"/>
            <a:chOff x="1740960" y="450720"/>
            <a:chExt cx="5134680" cy="1501560"/>
          </a:xfrm>
        </p:grpSpPr>
        <p:sp>
          <p:nvSpPr>
            <p:cNvPr id="90" name="TextBox 7"/>
            <p:cNvSpPr/>
            <p:nvPr/>
          </p:nvSpPr>
          <p:spPr>
            <a:xfrm>
              <a:off x="1740960" y="4507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9"/>
            <p:cNvSpPr/>
            <p:nvPr/>
          </p:nvSpPr>
          <p:spPr>
            <a:xfrm>
              <a:off x="2483640" y="11278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336400" y="941400"/>
              <a:ext cx="532080" cy="1010880"/>
              <a:chOff x="2336400" y="941400"/>
              <a:chExt cx="532080" cy="1010880"/>
            </a:xfrm>
          </p:grpSpPr>
          <p:sp>
            <p:nvSpPr>
              <p:cNvPr id="93" name="直角三角形 20"/>
              <p:cNvSpPr/>
              <p:nvPr/>
            </p:nvSpPr>
            <p:spPr>
              <a:xfrm flipV="1">
                <a:off x="2483280" y="10724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接连接符 10"/>
              <p:cNvSpPr/>
              <p:nvPr/>
            </p:nvSpPr>
            <p:spPr>
              <a:xfrm flipH="1">
                <a:off x="2336400" y="9414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" name=""/>
          <p:cNvGrpSpPr/>
          <p:nvPr/>
        </p:nvGrpSpPr>
        <p:grpSpPr>
          <a:xfrm>
            <a:off x="1740960" y="2138400"/>
            <a:ext cx="5134680" cy="1501560"/>
            <a:chOff x="1740960" y="2138400"/>
            <a:chExt cx="5134680" cy="1501560"/>
          </a:xfrm>
        </p:grpSpPr>
        <p:sp>
          <p:nvSpPr>
            <p:cNvPr id="96" name="TextBox 28"/>
            <p:cNvSpPr/>
            <p:nvPr/>
          </p:nvSpPr>
          <p:spPr>
            <a:xfrm>
              <a:off x="1740960" y="213840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29"/>
            <p:cNvSpPr/>
            <p:nvPr/>
          </p:nvSpPr>
          <p:spPr>
            <a:xfrm>
              <a:off x="2483640" y="281556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2336400" y="2629080"/>
              <a:ext cx="532080" cy="1010880"/>
              <a:chOff x="2336400" y="2629080"/>
              <a:chExt cx="532080" cy="1010880"/>
            </a:xfrm>
          </p:grpSpPr>
          <p:sp>
            <p:nvSpPr>
              <p:cNvPr id="99" name="直角三角形 31"/>
              <p:cNvSpPr/>
              <p:nvPr/>
            </p:nvSpPr>
            <p:spPr>
              <a:xfrm flipV="1">
                <a:off x="2483280" y="2760120"/>
                <a:ext cx="338400" cy="60768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直接连接符 32"/>
              <p:cNvSpPr/>
              <p:nvPr/>
            </p:nvSpPr>
            <p:spPr>
              <a:xfrm flipH="1">
                <a:off x="2336400" y="262908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1812600" y="3803760"/>
            <a:ext cx="5064480" cy="1503360"/>
            <a:chOff x="1812600" y="3803760"/>
            <a:chExt cx="5064480" cy="1503360"/>
          </a:xfrm>
        </p:grpSpPr>
        <p:sp>
          <p:nvSpPr>
            <p:cNvPr id="102" name="TextBox 34"/>
            <p:cNvSpPr/>
            <p:nvPr/>
          </p:nvSpPr>
          <p:spPr>
            <a:xfrm>
              <a:off x="1812600" y="380376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3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35"/>
            <p:cNvSpPr/>
            <p:nvPr/>
          </p:nvSpPr>
          <p:spPr>
            <a:xfrm>
              <a:off x="2483280" y="4481640"/>
              <a:ext cx="4393800" cy="61740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简约与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336040" y="4295160"/>
              <a:ext cx="532440" cy="1011960"/>
              <a:chOff x="2336040" y="4295160"/>
              <a:chExt cx="532440" cy="1011960"/>
            </a:xfrm>
          </p:grpSpPr>
          <p:sp>
            <p:nvSpPr>
              <p:cNvPr id="105" name="直角三角形 37"/>
              <p:cNvSpPr/>
              <p:nvPr/>
            </p:nvSpPr>
            <p:spPr>
              <a:xfrm flipV="1">
                <a:off x="2483280" y="4426200"/>
                <a:ext cx="338760" cy="608400"/>
              </a:xfrm>
              <a:prstGeom prst="rtTriangle">
                <a:avLst/>
              </a:prstGeom>
              <a:solidFill>
                <a:srgbClr val="d6d6d6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接连接符 38"/>
              <p:cNvSpPr/>
              <p:nvPr/>
            </p:nvSpPr>
            <p:spPr>
              <a:xfrm flipH="1">
                <a:off x="2336040" y="4295160"/>
                <a:ext cx="532440" cy="101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6"/>
          <p:cNvSpPr/>
          <p:nvPr/>
        </p:nvSpPr>
        <p:spPr>
          <a:xfrm>
            <a:off x="466560" y="889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85320" y="2104920"/>
            <a:ext cx="5134680" cy="1501560"/>
            <a:chOff x="1885320" y="2104920"/>
            <a:chExt cx="5134680" cy="1501560"/>
          </a:xfrm>
        </p:grpSpPr>
        <p:sp>
          <p:nvSpPr>
            <p:cNvPr id="111" name="TextBox 7"/>
            <p:cNvSpPr/>
            <p:nvPr/>
          </p:nvSpPr>
          <p:spPr>
            <a:xfrm>
              <a:off x="1885320" y="2104920"/>
              <a:ext cx="802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800" spc="-1" strike="noStrike">
                  <a:solidFill>
                    <a:srgbClr val="a0d400"/>
                  </a:solidFill>
                  <a:latin typeface="Arial"/>
                  <a:ea typeface="微软雅黑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9"/>
            <p:cNvSpPr/>
            <p:nvPr/>
          </p:nvSpPr>
          <p:spPr>
            <a:xfrm>
              <a:off x="2628000" y="2782080"/>
              <a:ext cx="4392000" cy="617040"/>
            </a:xfrm>
            <a:prstGeom prst="rect">
              <a:avLst/>
            </a:prstGeom>
            <a:solidFill>
              <a:srgbClr val="94949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何为简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480760" y="2595600"/>
              <a:ext cx="532080" cy="1010880"/>
              <a:chOff x="2480760" y="2595600"/>
              <a:chExt cx="532080" cy="1010880"/>
            </a:xfrm>
          </p:grpSpPr>
          <p:sp>
            <p:nvSpPr>
              <p:cNvPr id="114" name="直角三角形 20"/>
              <p:cNvSpPr/>
              <p:nvPr/>
            </p:nvSpPr>
            <p:spPr>
              <a:xfrm flipV="1">
                <a:off x="2627640" y="2726640"/>
                <a:ext cx="338400" cy="607680"/>
              </a:xfrm>
              <a:prstGeom prst="rtTriangle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直接连接符 10"/>
              <p:cNvSpPr/>
              <p:nvPr/>
            </p:nvSpPr>
            <p:spPr>
              <a:xfrm flipH="1">
                <a:off x="2480760" y="2595600"/>
                <a:ext cx="532080" cy="101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1"/>
          <p:cNvSpPr/>
          <p:nvPr/>
        </p:nvSpPr>
        <p:spPr>
          <a:xfrm>
            <a:off x="0" y="0"/>
            <a:ext cx="9144000" cy="617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角三角形 3"/>
          <p:cNvSpPr/>
          <p:nvPr/>
        </p:nvSpPr>
        <p:spPr>
          <a:xfrm flipV="1">
            <a:off x="0" y="0"/>
            <a:ext cx="395280" cy="457200"/>
          </a:xfrm>
          <a:prstGeom prst="rtTriangle">
            <a:avLst/>
          </a:pr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66560" y="88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简约的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539640" y="60948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3"/>
          <p:cNvSpPr/>
          <p:nvPr/>
        </p:nvSpPr>
        <p:spPr>
          <a:xfrm>
            <a:off x="0" y="-25560"/>
            <a:ext cx="9144000" cy="5726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"/>
          <p:cNvSpPr/>
          <p:nvPr/>
        </p:nvSpPr>
        <p:spPr>
          <a:xfrm>
            <a:off x="519120" y="1336680"/>
            <a:ext cx="7067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聆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0" y="3576600"/>
            <a:ext cx="9144000" cy="213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519120" y="2346480"/>
            <a:ext cx="70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for your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</a:rPr>
              <a:t>list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08:02:13Z</dcterms:created>
  <dc:creator>yellownancy</dc:creator>
  <dc:description/>
  <dc:language>en-US</dc:language>
  <cp:lastModifiedBy>a</cp:lastModifiedBy>
  <dcterms:modified xsi:type="dcterms:W3CDTF">2014-12-10T15:11:14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