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F51-5DB2-4D5F-BB6C-13F2F47F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5A6-E6A8-45C7-B426-5FEDDFBE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711-B3E4-49A9-B80D-88B42907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392-0A7C-4E4A-9C8A-3803F5B6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830C-4BA9-49CC-A894-0BA30D84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2C0E-5087-4BEE-AA77-5B46BDEB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EF52-F320-430F-87F9-67FF413C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BFAE-3736-43BF-9A49-78A9B226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048D-EE16-4E22-8AB3-69F659D9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CC07-A0B8-47CE-9660-DBA6289D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191C-0FAA-4D47-8927-63254469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F0C-9D8D-4CA5-9057-50B31382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7C57-644F-4452-ABEF-03E797BC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676C-BB30-4D71-8996-249FEA7F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B865-CB7D-41F4-BC73-241FBB56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3EE6-7A6D-4DAF-85A2-EBBF5108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09D5-84BA-4498-B608-EE45F65F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61CA-E76E-4570-A3C7-36DAC9A7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55F6-DB5C-4E40-88D1-DC662A59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C908-FEED-4CFA-AB81-C5A42B7C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EFBE-614E-4434-AA58-758EED44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4BDC-1E2C-4E64-A52D-5A1B0B24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8FE-4D91-4600-A2D2-BCA4F43F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9A96-8A5D-4E4A-8CB5-3BB6B469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EFA9-A5CA-4ECB-A2AB-C30C86F8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6F4D-A526-4D41-B701-BEB371C3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D736-113C-4413-846B-E01BBD5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2D6A-EE78-47F1-B2FC-1D29E767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1C04-296C-4318-BBB5-A58D2380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784F-BD5C-41CE-A16F-0F39C003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347-E794-4D30-92CE-3D538069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0E3-7B55-4137-ABB7-DED1A4FD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6FA-5FBC-4D53-8B3F-50310481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EBD-87D6-4FFE-B6AB-CDC6A34F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294-5025-40A5-8B1B-5A3374C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B8A-3E22-4ABE-82F9-B9CE8B3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2"/>
          <p:cNvPicPr/>
          <p:nvPr/>
        </p:nvPicPr>
        <p:blipFill>
          <a:blip r:embed="rId2"/>
          <a:srcRect l="0" t="0" r="0" b="1141"/>
          <a:stretch/>
        </p:blipFill>
        <p:spPr>
          <a:xfrm>
            <a:off x="6480" y="506520"/>
            <a:ext cx="9159840" cy="580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569D-F738-4C8C-AB4B-089A6AC929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1"/>
          <p:cNvPicPr/>
          <p:nvPr/>
        </p:nvPicPr>
        <p:blipFill>
          <a:blip r:embed="rId2"/>
          <a:srcRect l="0" t="1615" r="0" b="1597"/>
          <a:stretch/>
        </p:blipFill>
        <p:spPr>
          <a:xfrm>
            <a:off x="0" y="512640"/>
            <a:ext cx="9144000" cy="581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ACA5-F238-490F-920D-D699A6CFA64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C6F2-2F64-442B-96AA-C6451C160E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8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6" name="beeth_5_life.mid" descr=""/>
          <p:cNvPicPr/>
          <p:nvPr/>
        </p:nvPicPr>
        <p:blipFill>
          <a:blip r:embed="rId1"/>
          <a:stretch/>
        </p:blipFill>
        <p:spPr>
          <a:xfrm>
            <a:off x="-588960" y="6283440"/>
            <a:ext cx="604800" cy="6094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生命的绿色从枝头凋零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春天的阳光不再明媚和清新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唯一的源泉从视野里消逝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最后的城郭被黄沙所掩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5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3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3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3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2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3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3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3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3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3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3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3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危在旦夕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充满危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95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25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孩子的目光找不到鸟雀的身影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城市的喧嚣只剩下机械的噪音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所有的珍禽都成为书本上的文字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将失去那最后的绿色基因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4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3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3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3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8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35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3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3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3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危在旦夕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充满危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95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25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的代价无可替代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绿色才有希望和光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珍惜你所得到的所有资源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怕那只是毫不起眼的一点一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绿色的家园是我们共同的期盼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绿色才能够唤醒沉睡的山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5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3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3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3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45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3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3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3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55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3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3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3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38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3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3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3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605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3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3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3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危在旦夕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充满危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300"/>
                            </p:stCondLst>
                            <p:childTnLst>
                              <p:par>
                                <p:cTn id="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950"/>
                            </p:stCondLst>
                            <p:childTnLst>
                              <p:par>
                                <p:cTn id="1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250"/>
                            </p:stCondLst>
                            <p:childTnLst>
                              <p:par>
                                <p:cTn id="1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不要再观望和犹豫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原本要靠我们自己来获得延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700"/>
                            </p:stCondLst>
                            <p:childTnLst>
                              <p:par>
                                <p:cTn id="20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众志才能成城，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携手才能共进！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3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3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3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20:58:23Z</dcterms:created>
  <dc:creator/>
  <dc:description/>
  <cp:keywords/>
  <dc:language>en-US</dc:language>
  <cp:lastModifiedBy>a</cp:lastModifiedBy>
  <dcterms:modified xsi:type="dcterms:W3CDTF">2014-05-19T01:08:08Z</dcterms:modified>
  <cp:revision>3</cp:revision>
  <dc:subject/>
  <dc:title>绿色家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