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CA2-7877-435D-A4AE-18CCDBA1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CA3-5D7B-4C71-AED5-4DD65ED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6C6-AEDB-4183-945C-F1D2864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D27-3213-4EFF-9EDE-03923DB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6F3-1E96-4983-8DB8-57DFAF1B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4B8-474B-4B40-982B-AD02C27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935-B7D4-4CF9-8B2C-D531CDE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098-32CA-42B9-A1AC-F5C00BC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DE1-B8E3-4359-AB63-C673651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78F-B25E-45C7-8E5A-094C3476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004-CEB3-49B5-B710-420294D7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E7C-78C2-4382-BD56-489B3A91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4012-869E-4D98-918F-75AAB388E8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绿色色块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0:58:51Z</dcterms:created>
  <dc:creator>微软用户</dc:creator>
  <dc:description/>
  <dc:language>en-US</dc:language>
  <cp:lastModifiedBy>a</cp:lastModifiedBy>
  <dcterms:modified xsi:type="dcterms:W3CDTF">2014-12-10T15:10:44Z</dcterms:modified>
  <cp:revision>9</cp:revision>
  <dc:subject/>
  <dc:title>第一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