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4B5D-7812-4707-9846-2E9DC4F6F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6BB5-6F5A-4E1F-B925-81CE8BE5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F32F-DC4A-4740-AF40-2A7417300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8AC6-33F3-4FFE-A981-B75D47FD5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75D1-2862-4EDA-83D3-D42DC415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510B-07A4-4C7F-9872-FB1E4CFD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C13A-CD13-46F4-9583-9B165F82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676A-926E-4484-B656-0B89CE1C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02CC-FB2C-4394-8B0B-28832AAB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CF8F-82A6-43AA-B228-E9E7B516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3B83-4760-4F6A-8D1F-9A190D67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A5C8-CDAA-407B-A8FA-F25D5BF0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F256-8F6B-400F-B363-5B61C0C3C07C}" type="slidenum">
              <a:rPr b="0" lang="fr-FR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4680" y="4773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ab5"/>
              </a:solidFill>
              <a:latin typeface="Arial"/>
              <a:ea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640" y="1197000"/>
            <a:ext cx="6337440" cy="55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b5"/>
              </a:solidFill>
              <a:latin typeface="Arial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308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56000" y="1599840"/>
            <a:ext cx="6130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8" name=""/>
          <p:cNvSpPr/>
          <p:nvPr/>
        </p:nvSpPr>
        <p:spPr>
          <a:xfrm>
            <a:off x="1794240" y="63086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8T17:36:17Z</dcterms:created>
  <dc:creator>Moyea PPT</dc:creator>
  <dc:description/>
  <dc:language>en-US</dc:language>
  <cp:lastModifiedBy>David Taylor</cp:lastModifiedBy>
  <cp:lastPrinted>1899-12-30T00:00:00Z</cp:lastPrinted>
  <dcterms:modified xsi:type="dcterms:W3CDTF">2014-05-29T06:36:22Z</dcterms:modified>
  <cp:revision>3</cp:revision>
  <dc:subject/>
  <dc:title>PRESENTATION 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