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7C93-7F22-4685-B0FD-DA027B1C4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70F9-1DC6-4900-AB64-DE4E982C4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0C5C-78C1-4BDE-9FA6-AF61024B9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D1EF-D6B4-490B-967F-5EBC20C81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F31C1-0E90-48F2-B85E-9F43695CE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58136-9549-43D7-8D1F-18DF7D654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CC890-6650-4BCA-9F7A-82F8A63FE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E7106-C366-4B09-AEB7-D63DFE841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FC5C2-EA35-485E-B3D2-7E70C89FE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68162-EC21-468A-980D-23617412D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5BB55-A4D2-41BB-8DD1-FD1D5F7D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85A7-327B-42DC-BB8F-40B7C5DFD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915AC-FD04-435A-8E03-9F422FC0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764A5-054E-40B0-81E0-864D50699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E1D7C-4DAE-4DDB-9142-5962B64E1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9C696-4647-4501-BF45-0455DF16E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1855E-57B4-4BA2-A446-63A78D591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D871-75A4-4897-ABD9-742C3B7CB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4E63-C64A-4133-970A-FC8EED5E0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DE02-D456-48A7-B049-E57E1F64B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5731-83E6-42B6-AB14-17C36003C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DBF7-2170-433E-99A2-9BF84418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8A2E-0F91-4C7A-99C7-F4239656D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391A-E09D-478F-84A1-4094C8846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50D97-369B-4D1F-9B4E-442E3C313E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E5385-7F77-4138-AF4F-0F7549652D9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49FD7-BD50-44EF-A042-0A322C14AE4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封面页"/>
          <p:cNvPicPr/>
          <p:nvPr/>
        </p:nvPicPr>
        <p:blipFill>
          <a:blip r:embed="rId1"/>
          <a:stretch/>
        </p:blipFill>
        <p:spPr>
          <a:xfrm>
            <a:off x="0" y="6480"/>
            <a:ext cx="9182160" cy="68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目录页"/>
          <p:cNvPicPr/>
          <p:nvPr/>
        </p:nvPicPr>
        <p:blipFill>
          <a:blip r:embed="rId1"/>
          <a:stretch/>
        </p:blipFill>
        <p:spPr>
          <a:xfrm>
            <a:off x="0" y="0"/>
            <a:ext cx="915192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0" y="2349360"/>
            <a:ext cx="9151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创艺简老宋"/>
              </a:rPr>
              <a:t>皮影</a:t>
            </a:r>
            <a:r>
              <a:rPr b="0" lang="zh-CN" sz="3200" spc="-1" strike="noStrike">
                <a:solidFill>
                  <a:srgbClr val="000000"/>
                </a:solidFill>
                <a:latin typeface="创艺简老宋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创艺简老宋"/>
              </a:rPr>
              <a:t>历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创艺简老宋"/>
              </a:rPr>
              <a:t>皮影</a:t>
            </a:r>
            <a:r>
              <a:rPr b="0" lang="zh-CN" sz="3200" spc="-1" strike="noStrike">
                <a:solidFill>
                  <a:srgbClr val="000000"/>
                </a:solidFill>
                <a:latin typeface="创艺简老宋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创艺简老宋"/>
              </a:rPr>
              <a:t>种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创艺简老宋"/>
              </a:rPr>
              <a:t>皮影</a:t>
            </a:r>
            <a:r>
              <a:rPr b="0" lang="zh-CN" sz="3200" spc="-1" strike="noStrike">
                <a:solidFill>
                  <a:srgbClr val="000000"/>
                </a:solidFill>
                <a:latin typeface="创艺简老宋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创艺简老宋"/>
              </a:rPr>
              <a:t>传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创艺简老宋"/>
              </a:rPr>
              <a:t>皮影</a:t>
            </a:r>
            <a:r>
              <a:rPr b="0" lang="zh-CN" sz="3200" spc="-1" strike="noStrike">
                <a:solidFill>
                  <a:srgbClr val="000000"/>
                </a:solidFill>
                <a:latin typeface="创艺简老宋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创艺简老宋"/>
              </a:rPr>
              <a:t>展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0" y="1160640"/>
            <a:ext cx="915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迷你简美黑"/>
                <a:ea typeface="迷你简美黑"/>
              </a:rPr>
              <a:t>传统艺术  皮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过渡页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87" name="Text Box 3"/>
          <p:cNvSpPr/>
          <p:nvPr/>
        </p:nvSpPr>
        <p:spPr>
          <a:xfrm>
            <a:off x="5105520" y="2924280"/>
            <a:ext cx="23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造字工房尚雅体演示版常规体"/>
                <a:ea typeface="造字工房尚雅体演示版常规体"/>
              </a:rPr>
              <a:t>皮影</a:t>
            </a:r>
            <a:r>
              <a:rPr b="0" lang="zh-CN" sz="5400" spc="-1" strike="noStrike">
                <a:solidFill>
                  <a:srgbClr val="ffffff"/>
                </a:solidFill>
                <a:latin typeface="造字工房尚雅体演示版常规体"/>
                <a:ea typeface="造字工房尚雅体演示版常规体"/>
              </a:rPr>
              <a:t>·</a:t>
            </a:r>
            <a:r>
              <a:rPr b="0" lang="zh-CN" sz="5400" spc="-1" strike="noStrike">
                <a:solidFill>
                  <a:srgbClr val="ffffff"/>
                </a:solidFill>
                <a:latin typeface="造字工房尚雅体演示版常规体"/>
                <a:ea typeface="造字工房尚雅体演示版常规体"/>
              </a:rPr>
              <a:t>历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内容页"/>
          <p:cNvPicPr/>
          <p:nvPr/>
        </p:nvPicPr>
        <p:blipFill>
          <a:blip r:embed="rId1"/>
          <a:stretch/>
        </p:blipFill>
        <p:spPr>
          <a:xfrm>
            <a:off x="0" y="0"/>
            <a:ext cx="9182160" cy="68803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3"/>
          <p:cNvSpPr/>
          <p:nvPr/>
        </p:nvSpPr>
        <p:spPr>
          <a:xfrm>
            <a:off x="1418040" y="4762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"/>
              </a:rPr>
              <a:t>皮影戏的传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108000" y="1158840"/>
            <a:ext cx="89676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•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渊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皮影是一门结合了戏剧，音乐等多种艺术手段的表演形式，它有着悠   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久历史的形式，也是最早传入西方的中国传统艺术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•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现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目前，皮影戏的现状却不容乐观。当年的制作和表演艺人如今都已年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逾百岁，这门精湛的技艺眼看着就要失传。而当今，越来越多的娱乐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方式使得皮影戏在人们心目中的地位一落千丈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•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遗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2011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申请世界非物质遗产成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•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未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皮影的制作工艺正在从曾经的娱乐为主，欣赏为辅向现如今以欣赏为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主，娱乐为辅缓慢过渡。将来的皮影更强调与突出其静态的艺术价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值，通过场景的布置，角色的表情，丰富的色彩等，展示着它独特的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魅力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结束页"/>
          <p:cNvPicPr/>
          <p:nvPr/>
        </p:nvPicPr>
        <p:blipFill>
          <a:blip r:embed="rId1"/>
          <a:stretch/>
        </p:blipFill>
        <p:spPr>
          <a:xfrm>
            <a:off x="0" y="0"/>
            <a:ext cx="9182160" cy="688032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"/>
          <p:cNvSpPr/>
          <p:nvPr/>
        </p:nvSpPr>
        <p:spPr>
          <a:xfrm>
            <a:off x="0" y="2906640"/>
            <a:ext cx="918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迷你简美黑"/>
              </a:rPr>
              <a:t>谢谢</a:t>
            </a:r>
            <a:r>
              <a:rPr b="1" lang="zh-CN" sz="4800" spc="-1" strike="noStrike">
                <a:solidFill>
                  <a:srgbClr val="808080"/>
                </a:solidFill>
                <a:latin typeface="Arial"/>
                <a:ea typeface="迷你简美黑"/>
              </a:rPr>
              <a:t>聆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4-05-20T07:50:12Z</dcterms:modified>
  <cp:revision>1</cp:revision>
  <dc:subject/>
  <dc:title>PowerPoint 演示文稿</dc:title>
</cp:coreProperties>
</file>