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56B-E79B-4BAE-AD4C-F7419A04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71B-07CA-47D3-B59C-D64558FA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DE4-5982-490D-AA4F-480CABC3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5C0-FB5D-4BB1-B8B9-AC456D50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287-E2F8-4038-957F-B3571229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688-7C42-4392-BF81-4D70815C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87F-DCC7-4F3B-B953-A04DBAC2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A4C-E108-4F00-857F-CDE722FD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138-0FF5-452C-B6A5-E2B0180F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5EE-5604-4324-9C43-8F3B249E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1B2-005A-4D83-84F7-8C9A4B33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419-18D6-4223-887A-90BEDAB5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32D9-4B11-45DA-99EE-9B4E051DF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273" r="0" b="11328"/>
          <a:stretch/>
        </p:blipFill>
        <p:spPr>
          <a:xfrm>
            <a:off x="0" y="15840"/>
            <a:ext cx="9148680" cy="512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51920" cy="5160960"/>
            <a:chOff x="0" y="0"/>
            <a:chExt cx="9151920" cy="51609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rcRect l="329" t="4706" r="0" b="4731"/>
            <a:stretch/>
          </p:blipFill>
          <p:spPr>
            <a:xfrm>
              <a:off x="0" y="0"/>
              <a:ext cx="9151920" cy="516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10800" y="4748040"/>
              <a:ext cx="1762560" cy="402840"/>
              <a:chOff x="10800" y="4748040"/>
              <a:chExt cx="1762560" cy="402840"/>
            </a:xfrm>
          </p:grpSpPr>
          <p:sp>
            <p:nvSpPr>
              <p:cNvPr id="45" name=""/>
              <p:cNvSpPr/>
              <p:nvPr/>
            </p:nvSpPr>
            <p:spPr>
              <a:xfrm>
                <a:off x="993600" y="4892040"/>
                <a:ext cx="15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9c623"/>
                    </a:solidFill>
                    <a:latin typeface="華康流風體"/>
                    <a:ea typeface="華康流風體"/>
                  </a:rPr>
                  <a:t>青衣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259280" y="4928760"/>
                <a:ext cx="514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9c623"/>
                    </a:solidFill>
                    <a:latin typeface="Arial"/>
                  </a:rPr>
                  <a:t>2011.05.0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10800" y="4748040"/>
                <a:ext cx="1026360" cy="402840"/>
                <a:chOff x="10800" y="4748040"/>
                <a:chExt cx="1026360" cy="402840"/>
              </a:xfrm>
            </p:grpSpPr>
            <p:pic>
              <p:nvPicPr>
                <p:cNvPr id="4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800" y="4748040"/>
                  <a:ext cx="1026360" cy="402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800" y="4748040"/>
                  <a:ext cx="1026360" cy="40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0" name=""/>
              <p:cNvSpPr/>
              <p:nvPr/>
            </p:nvSpPr>
            <p:spPr>
              <a:xfrm>
                <a:off x="867240" y="4862160"/>
                <a:ext cx="1440" cy="212040"/>
              </a:xfrm>
              <a:prstGeom prst="line">
                <a:avLst/>
              </a:prstGeom>
              <a:ln w="144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7640" y="4872960"/>
                <a:ext cx="108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10800" y="4748040"/>
                <a:ext cx="1026360" cy="402840"/>
                <a:chOff x="10800" y="4748040"/>
                <a:chExt cx="1026360" cy="402840"/>
              </a:xfrm>
            </p:grpSpPr>
            <p:pic>
              <p:nvPicPr>
                <p:cNvPr id="5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800" y="4748040"/>
                  <a:ext cx="1026360" cy="402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800" y="4748040"/>
                  <a:ext cx="1026360" cy="40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" name=""/>
              <p:cNvSpPr/>
              <p:nvPr/>
            </p:nvSpPr>
            <p:spPr>
              <a:xfrm>
                <a:off x="867240" y="4862160"/>
                <a:ext cx="1440" cy="212040"/>
              </a:xfrm>
              <a:prstGeom prst="line">
                <a:avLst/>
              </a:prstGeom>
              <a:ln w="144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539640" y="773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超粗黑简体"/>
              </a:rPr>
              <a:t>青春活力激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超粗黑简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超粗黑简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22200" y="480528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442" t="0" r="34223" b="34639"/>
          <a:stretch/>
        </p:blipFill>
        <p:spPr>
          <a:xfrm>
            <a:off x="0" y="-14400"/>
            <a:ext cx="9144000" cy="5246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1640" y="412920"/>
            <a:ext cx="8280720" cy="3528720"/>
          </a:xfrm>
          <a:prstGeom prst="roundRect">
            <a:avLst>
              <a:gd name="adj" fmla="val 4588"/>
            </a:avLst>
          </a:prstGeom>
          <a:solidFill>
            <a:srgbClr val="ac9404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773280"/>
            <a:ext cx="7345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628560"/>
            <a:ext cx="784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1409" t="0" r="11489" b="32041"/>
          <a:stretch/>
        </p:blipFill>
        <p:spPr>
          <a:xfrm>
            <a:off x="22320" y="0"/>
            <a:ext cx="9121680" cy="5145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843280" y="1773360"/>
            <a:ext cx="3382920" cy="101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e1c205"/>
                  </a:solidFill>
                  <a:miter/>
                </a:ln>
                <a:solidFill>
                  <a:srgbClr val="9e2d1e"/>
                </a:solidFill>
                <a:latin typeface="方正超粗黑简体"/>
              </a:rPr>
              <a:t>谢 谢 欣 赏</a:t>
            </a:r>
            <a:endParaRPr b="0" lang="en-US" sz="1800" spc="-1" strike="noStrike">
              <a:ln w="9360">
                <a:solidFill>
                  <a:srgbClr val="e1c205"/>
                </a:solidFill>
                <a:miter/>
              </a:ln>
              <a:solidFill>
                <a:srgbClr val="9e2d1e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118" name=""/>
          <p:cNvSpPr/>
          <p:nvPr/>
        </p:nvSpPr>
        <p:spPr>
          <a:xfrm>
            <a:off x="2503080" y="480528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8466120" cy="5145120"/>
            <a:chOff x="0" y="0"/>
            <a:chExt cx="8466120" cy="5145120"/>
          </a:xfrm>
        </p:grpSpPr>
        <p:sp>
          <p:nvSpPr>
            <p:cNvPr id="12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6280"/>
              <a:ext cx="8466120" cy="38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Box 7"/>
            <p:cNvSpPr/>
            <p:nvPr/>
          </p:nvSpPr>
          <p:spPr>
            <a:xfrm rot="20926800">
              <a:off x="1946880" y="26769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35" t="1924" r="11422" b="35738"/>
          <a:stretch/>
        </p:blipFill>
        <p:spPr>
          <a:xfrm>
            <a:off x="-38160" y="0"/>
            <a:ext cx="9205920" cy="51451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116000" y="1563840"/>
            <a:ext cx="5759280" cy="542880"/>
            <a:chOff x="1116000" y="1563840"/>
            <a:chExt cx="5759280" cy="542880"/>
          </a:xfrm>
        </p:grpSpPr>
        <p:sp>
          <p:nvSpPr>
            <p:cNvPr id="60" name=""/>
            <p:cNvSpPr/>
            <p:nvPr/>
          </p:nvSpPr>
          <p:spPr>
            <a:xfrm>
              <a:off x="1403280" y="158292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116000" y="1563840"/>
              <a:ext cx="5548320" cy="542880"/>
              <a:chOff x="1116000" y="1563840"/>
              <a:chExt cx="5548320" cy="542880"/>
            </a:xfrm>
          </p:grpSpPr>
          <p:pic>
            <p:nvPicPr>
              <p:cNvPr id="62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156384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1216080" y="166860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1116000" y="2284560"/>
            <a:ext cx="5759280" cy="542880"/>
            <a:chOff x="1116000" y="2284560"/>
            <a:chExt cx="5759280" cy="542880"/>
          </a:xfrm>
        </p:grpSpPr>
        <p:sp>
          <p:nvSpPr>
            <p:cNvPr id="65" name=""/>
            <p:cNvSpPr/>
            <p:nvPr/>
          </p:nvSpPr>
          <p:spPr>
            <a:xfrm>
              <a:off x="1403280" y="230364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9e2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116000" y="2284560"/>
              <a:ext cx="5548320" cy="542880"/>
              <a:chOff x="1116000" y="2284560"/>
              <a:chExt cx="5548320" cy="542880"/>
            </a:xfrm>
          </p:grpSpPr>
          <p:pic>
            <p:nvPicPr>
              <p:cNvPr id="6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00" y="228456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1216080" y="238932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1117440" y="878040"/>
            <a:ext cx="5759280" cy="542880"/>
            <a:chOff x="1117440" y="878040"/>
            <a:chExt cx="5759280" cy="542880"/>
          </a:xfrm>
        </p:grpSpPr>
        <p:sp>
          <p:nvSpPr>
            <p:cNvPr id="70" name=""/>
            <p:cNvSpPr/>
            <p:nvPr/>
          </p:nvSpPr>
          <p:spPr>
            <a:xfrm>
              <a:off x="1404720" y="89712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9e2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117440" y="878040"/>
              <a:ext cx="5548320" cy="542880"/>
              <a:chOff x="1117440" y="878040"/>
              <a:chExt cx="5548320" cy="542880"/>
            </a:xfrm>
          </p:grpSpPr>
          <p:pic>
            <p:nvPicPr>
              <p:cNvPr id="72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7440" y="87804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1217520" y="98280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1116000" y="3005280"/>
            <a:ext cx="5759280" cy="542880"/>
            <a:chOff x="1116000" y="3005280"/>
            <a:chExt cx="5759280" cy="542880"/>
          </a:xfrm>
        </p:grpSpPr>
        <p:sp>
          <p:nvSpPr>
            <p:cNvPr id="75" name=""/>
            <p:cNvSpPr/>
            <p:nvPr/>
          </p:nvSpPr>
          <p:spPr>
            <a:xfrm>
              <a:off x="1403280" y="302436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1116000" y="3005280"/>
              <a:ext cx="5548320" cy="542880"/>
              <a:chOff x="1116000" y="3005280"/>
              <a:chExt cx="5548320" cy="542880"/>
            </a:xfrm>
          </p:grpSpPr>
          <p:pic>
            <p:nvPicPr>
              <p:cNvPr id="77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00" y="300528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1216080" y="311004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8104680" y="1563840"/>
            <a:ext cx="6678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e2d1e"/>
                </a:solidFill>
                <a:latin typeface="Arial"/>
                <a:ea typeface="方正超粗黑简体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692360" y="2246400"/>
            <a:ext cx="5759280" cy="542880"/>
            <a:chOff x="1692360" y="2246400"/>
            <a:chExt cx="5759280" cy="542880"/>
          </a:xfrm>
        </p:grpSpPr>
        <p:sp>
          <p:nvSpPr>
            <p:cNvPr id="81" name=""/>
            <p:cNvSpPr/>
            <p:nvPr/>
          </p:nvSpPr>
          <p:spPr>
            <a:xfrm>
              <a:off x="1979640" y="226548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9e2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692360" y="2246400"/>
              <a:ext cx="5548320" cy="542880"/>
              <a:chOff x="1692360" y="2246400"/>
              <a:chExt cx="5548320" cy="542880"/>
            </a:xfrm>
          </p:grpSpPr>
          <p:pic>
            <p:nvPicPr>
              <p:cNvPr id="83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224640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1792440" y="235116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442" t="0" r="34223" b="34639"/>
          <a:stretch/>
        </p:blipFill>
        <p:spPr>
          <a:xfrm>
            <a:off x="0" y="-14400"/>
            <a:ext cx="9144000" cy="5246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1640" y="412920"/>
            <a:ext cx="8280720" cy="3528720"/>
          </a:xfrm>
          <a:prstGeom prst="roundRect">
            <a:avLst>
              <a:gd name="adj" fmla="val 4588"/>
            </a:avLst>
          </a:prstGeom>
          <a:solidFill>
            <a:srgbClr val="9e2d1e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773280"/>
            <a:ext cx="7345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628560"/>
            <a:ext cx="763272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如果你说我现在正在嫉妒，这样不对，我不该嫉妒，那么嫉妒这个问题就会没完没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教育给我们的束缚总是躲在黑暗的一角伺机而动，因此我们的心才出现了毛病。我们能不能只是纯粹地保持在烦恼中而不企图逃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92360" y="2246400"/>
            <a:ext cx="5759280" cy="542880"/>
            <a:chOff x="1692360" y="2246400"/>
            <a:chExt cx="5759280" cy="542880"/>
          </a:xfrm>
        </p:grpSpPr>
        <p:sp>
          <p:nvSpPr>
            <p:cNvPr id="90" name=""/>
            <p:cNvSpPr/>
            <p:nvPr/>
          </p:nvSpPr>
          <p:spPr>
            <a:xfrm>
              <a:off x="1979640" y="226548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692360" y="2246400"/>
              <a:ext cx="5548320" cy="542880"/>
              <a:chOff x="1692360" y="2246400"/>
              <a:chExt cx="5548320" cy="542880"/>
            </a:xfrm>
          </p:grpSpPr>
          <p:pic>
            <p:nvPicPr>
              <p:cNvPr id="92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224640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1792440" y="235116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7593840" y="480528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731" t="0" r="11678" b="35723"/>
          <a:stretch/>
        </p:blipFill>
        <p:spPr>
          <a:xfrm>
            <a:off x="0" y="-14400"/>
            <a:ext cx="9144000" cy="5159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1640" y="412920"/>
            <a:ext cx="8280720" cy="3528720"/>
          </a:xfrm>
          <a:prstGeom prst="roundRect">
            <a:avLst>
              <a:gd name="adj" fmla="val 4588"/>
            </a:avLst>
          </a:prstGeom>
          <a:solidFill>
            <a:srgbClr val="ac9404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640" y="785880"/>
            <a:ext cx="7848720" cy="22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所有逃避的心理活动都在为自己辩解或制造压力。当烦恼产生时就彻底和她共处。至上法门是不讲人情的，其他的方法都只是些小把戏。如果你真能和自己的“本来面目”共处，你就已经在采取解脱的行动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般若之旅》 克里希那穆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763640" y="2139840"/>
            <a:ext cx="5759280" cy="542880"/>
            <a:chOff x="1763640" y="2139840"/>
            <a:chExt cx="5759280" cy="542880"/>
          </a:xfrm>
        </p:grpSpPr>
        <p:sp>
          <p:nvSpPr>
            <p:cNvPr id="99" name=""/>
            <p:cNvSpPr/>
            <p:nvPr/>
          </p:nvSpPr>
          <p:spPr>
            <a:xfrm>
              <a:off x="2050920" y="215892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9e2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763640" y="2139840"/>
              <a:ext cx="5548320" cy="542880"/>
              <a:chOff x="1763640" y="2139840"/>
              <a:chExt cx="5548320" cy="542880"/>
            </a:xfrm>
          </p:grpSpPr>
          <p:pic>
            <p:nvPicPr>
              <p:cNvPr id="101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3640" y="213984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1863720" y="224460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335" t="1924" r="11422" b="35738"/>
          <a:stretch/>
        </p:blipFill>
        <p:spPr>
          <a:xfrm>
            <a:off x="-28440" y="0"/>
            <a:ext cx="9205920" cy="5143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31640" y="412920"/>
            <a:ext cx="8280720" cy="3528720"/>
          </a:xfrm>
          <a:prstGeom prst="roundRect">
            <a:avLst>
              <a:gd name="adj" fmla="val 4588"/>
            </a:avLst>
          </a:prstGeom>
          <a:solidFill>
            <a:srgbClr val="9e2d1e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692360" y="2246400"/>
            <a:ext cx="5759280" cy="542880"/>
            <a:chOff x="1692360" y="2246400"/>
            <a:chExt cx="5759280" cy="542880"/>
          </a:xfrm>
        </p:grpSpPr>
        <p:sp>
          <p:nvSpPr>
            <p:cNvPr id="106" name=""/>
            <p:cNvSpPr/>
            <p:nvPr/>
          </p:nvSpPr>
          <p:spPr>
            <a:xfrm>
              <a:off x="1979640" y="2265480"/>
              <a:ext cx="5472000" cy="485640"/>
            </a:xfrm>
            <a:prstGeom prst="roundRect">
              <a:avLst>
                <a:gd name="adj" fmla="val 16667"/>
              </a:avLst>
            </a:prstGeom>
            <a:solidFill>
              <a:srgbClr val="e1c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692360" y="2246400"/>
              <a:ext cx="5548320" cy="542880"/>
              <a:chOff x="1692360" y="2246400"/>
              <a:chExt cx="5548320" cy="542880"/>
            </a:xfrm>
          </p:grpSpPr>
          <p:pic>
            <p:nvPicPr>
              <p:cNvPr id="108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2246400"/>
                <a:ext cx="55483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792440" y="2351160"/>
                <a:ext cx="53611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单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627120" y="-349200"/>
            <a:ext cx="10404360" cy="5846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170560" y="509256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4:41:31Z</dcterms:created>
  <dc:creator>yk</dc:creator>
  <dc:description/>
  <dc:language>en-US</dc:language>
  <cp:lastModifiedBy>yk</cp:lastModifiedBy>
  <dcterms:modified xsi:type="dcterms:W3CDTF">2014-11-21T01:11:03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