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E1D-D067-4C39-B053-B29CA639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0AA-B92A-4EAB-8FB3-2A2BC51E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1DE-34A8-445D-9B2F-EDCE1C78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EB7-D3FC-4CB3-9A34-14B98EBB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B4B-BD92-4748-A08E-9922E29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B84-792B-488B-A951-69774B5F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C33-A8DA-48BE-9D3E-6CEBFBF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A1C-4885-499C-B016-47FF6B9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506-BB6B-42CB-992E-6254AE4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E7C-C86E-40E8-890F-F5506176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BEE-02AF-4A3B-9F09-5A499BCA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18F-24C7-46D4-B88F-EA190CE4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BD69-904E-4E31-AF5F-9E8437E8868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5D5-07D0-45B9-8E5A-C63B13288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30002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浅绿</a:t>
            </a: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ppt</a:t>
            </a: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模板在线下载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71280" y="4000680"/>
            <a:ext cx="7561080" cy="94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- Create software video tutorial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451f"/>
                </a:solidFill>
                <a:latin typeface="Tahoma"/>
              </a:rPr>
              <a:t>How it helps software users and provider</a:t>
            </a:r>
            <a:endParaRPr b="0" lang="en-US" sz="28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Create “How-to” videos to guide user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apid help technical support to solve the user’s software trouble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Build the presentation videos of the special features for new product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Make training videos to helps users or distributor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How DemoCreator works</a:t>
            </a:r>
            <a:r>
              <a:rPr b="0" lang="en-US" sz="3600" spc="-1" strike="noStrike">
                <a:solidFill>
                  <a:srgbClr val="35451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62864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ecord the actions taken on the application 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5451f"/>
                </a:solidFill>
                <a:latin typeface="Tahoma"/>
              </a:rPr>
              <a:t>- Record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5451f"/>
                </a:solidFill>
                <a:latin typeface="Tahoma"/>
              </a:rPr>
              <a:t>mouse movements and keystrokes</a:t>
            </a:r>
            <a:endParaRPr b="0" lang="en-US" sz="20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Record narrations as instruction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Add balloons, highlights and animations to enhance the video tutorials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545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5451f"/>
                </a:solidFill>
                <a:latin typeface="Tahoma"/>
              </a:rPr>
              <a:t>Publish to Flash movie, auto-running CD/EXE, LMS and email with AICC/SCROM compliance</a:t>
            </a:r>
            <a:endParaRPr b="0" lang="en-US" sz="24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30002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451f"/>
                </a:solidFill>
                <a:latin typeface="Tahoma"/>
              </a:rPr>
              <a:t>Thank You!</a:t>
            </a:r>
            <a:endParaRPr b="0" lang="en-US" sz="3600" spc="-1" strike="noStrike">
              <a:solidFill>
                <a:srgbClr val="35451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1:09:07Z</dcterms:created>
  <dc:creator/>
  <dc:description/>
  <dc:language>en-US</dc:language>
  <cp:lastModifiedBy>a</cp:lastModifiedBy>
  <dcterms:modified xsi:type="dcterms:W3CDTF">2014-12-10T15:10:14Z</dcterms:modified>
  <cp:revision>24</cp:revision>
  <dc:subject/>
  <dc:title>Wondershare DemoCre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