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656-8CF8-4C57-B13B-8D8B0A0D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088-D03A-44E5-BE98-41AC5139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3FD-DC95-4B80-80BB-B6899BBF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E0D-CA26-4E2B-8983-9C384016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9993-7DAB-4887-B9F1-DEE68415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00B0-3BAD-40C7-B55D-DF5B6251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E5FE-6C39-4403-B274-522758B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32A0-BFBD-4C32-8BB1-D3FA0130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D4F9-0A24-4661-B206-B1781A67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F800-E52F-412C-85BF-00C2464F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205E-76B7-49FE-B901-DD216F6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958-9188-4019-87F8-F62052BE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71AB-5E39-4739-AC5E-9C2ED164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2ED0-14E2-4628-876E-6E98E4A5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B088-98F4-4633-B86A-6EE0BB24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BE9B-0F93-417B-844D-69802FF6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848E-1B34-4F82-AEB5-9382FBD3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E45-35FE-41DD-A43A-92E9850F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802-C5E4-407D-9CF1-96AFBDD1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C59-FE2F-4979-96CB-5B2E3C80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834-0A85-41C4-AAA6-5626114B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446-E704-4B3D-913A-45268C6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850-15E2-43CF-944D-BEFA616C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E7E-E522-4AFE-AB97-83EC9910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70AC-4535-418E-BFE5-9EF3C996CC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6689-0BED-457A-8143-40A5554AC08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BF83-807B-471B-83CF-E233F0A952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签字笔商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5:36:29Z</dcterms:created>
  <dc:creator/>
  <dc:description/>
  <dc:language>en-US</dc:language>
  <cp:lastModifiedBy>a</cp:lastModifiedBy>
  <dcterms:modified xsi:type="dcterms:W3CDTF">2014-12-10T15:10:24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