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D0F1-9882-42E4-B122-5EF54B60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CA7-CC8A-4D64-BB06-776E01C8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55158-B870-4F86-BA1A-73E4278E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9A1A6-BE4B-4013-800D-77103A9D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9CA97-1CE1-4DD1-A0A3-F4CCB320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5DA35-AD72-4942-966B-0B02F5B6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5C180-9A76-494B-8F66-3F99BB19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12929-4577-4876-A2B6-DDFC1A52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D20CD-839C-467E-826E-2447672D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CAD02-80D6-473E-A810-1F07EEB1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2A439-616B-4336-B051-3F212774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E3137-E67B-43DB-B958-37E6C8BB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DD4E-A9DC-4CF4-BDA3-70E82FE8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DEF1F-7A22-4DDF-A522-AF36FFB9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07F74-9FFA-49F1-A7A6-1F696F6C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466CE-A1A2-48B6-93D3-F95E9039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07970-4BC4-4F2C-931D-41CA8C49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9B1B2-8AFE-4B67-8A10-007FD6BE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E9A40-A6C4-410F-BE08-909E0F03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218EB-E072-4D1B-9D97-FEBF6B71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7CE67-EF29-4072-8E1B-7B73C268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694FD-7920-4746-8784-6EAE2FE8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D2842-3B23-4CC9-80FF-59F44E78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397-E0A1-4585-89EB-86A039B1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071C7-72CD-4D00-B438-E53B23E1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A0D6D-CAE9-4561-B238-12CA2DC2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44F93-1453-4D56-AB44-19F73523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BAA71-34B9-442D-933B-20008C2F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16973-0656-4076-9A0E-4D9CD7BD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CF3F9-34A4-4311-B110-49181CA8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A5177-535A-4DE4-AED3-59425210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CB65D-2961-43E0-96E1-957E6F3C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0FB50-CEF5-4184-A5EB-CCE291C2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9D24E-A266-4BEF-B61F-004A0E27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36A0-AF2F-470B-BD93-A110F4CC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D0142-1C15-45EE-9D06-FBD1B987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42042-0BB9-4049-A01D-13909076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DE211-895D-4540-AC33-14023C18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004FE-4087-4DAC-BAB0-8D3563FF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035CF-1165-450E-8910-23C11E32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9DD09-F357-45F0-8FF1-EADE7BA1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11FEA-0CFC-4061-9780-7C864B91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947D1-8312-4424-ABA3-B44BAECC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D69EA-9609-42C8-944F-D5418B20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D7A2F-7658-4F6A-8229-288D7230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A028-647C-4233-BBA5-4AC39643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566A0-8DD1-4348-B4FF-50D61AC6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42C03-066E-41E3-B941-F3D59822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7F275-434A-42E1-98C1-485551F3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C9251-BFD9-4E10-AE46-5B79B22C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A967A-1368-4FD1-8C50-21741FD7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1DC5D-FF8B-419C-9199-C89906E0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41F64E-AB79-4545-A3EC-43D529B0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7EC14-04F1-4213-A9EF-377C3483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9BE54-2149-49F2-B046-613AB9C9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40090-AFD6-4AB2-8014-CD45FA98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C26D-C890-4666-A2A3-42557DEE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B3023-A965-4410-961F-971CB093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452C0-207A-4197-971F-A964618B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40DEB-26AE-4D1C-9382-997E0973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A4848-A334-42EB-8C7D-FD99A5EF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FAD64-E4A7-49F4-8157-BA74AD99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55C54-5055-4C62-A653-846F34D1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647AB-64BA-4748-AA40-509BBDF6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120A-042B-49DF-973D-61AFC381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3CBC-FDF8-4830-A0C6-EFC0401D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5AD7-95F6-40F6-9795-B51794DA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A190-BE33-4122-96CA-126025DE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578-26AF-48D1-BC86-B66B42F2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31FD-28F2-44E1-83D9-58207DD5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4A07-1E17-4624-BCF0-4E7977BD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F3F2-95A1-4002-A43F-26A34D7C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B399-DAD3-4A4D-8E18-4DD17FAB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4308-99E7-4429-8213-11E632E3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84F88-B455-4DAE-B6D5-CACC083E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07DA-B8F7-4320-A5C5-FFCADC0B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3E272-EA78-44BC-8F22-AF4FC5ED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163D9-AFAA-4122-9B50-6F88FCE5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9D1C9-622D-455C-883A-727000A9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1CDA-9DA3-4F30-9433-3B945C5A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74FF5-B04D-4A4E-B2D0-FBAD1226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31CDD-2D5C-45D9-A522-990E2E8E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E022F-B8E0-47E5-96C6-B78F374D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D13B0-0EB1-4540-9EEC-78A423DF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597A5-B1D7-4DE7-9BD9-34FDF3A0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B996-9AAC-4178-AFB0-3754F691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78FC5-BE0A-41C1-883F-BD36F527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F9EAC-C240-4FB6-A069-B75CBFDC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2C4E2-AA82-4597-A2BA-6B9DA366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CF42A-5515-4AD0-BAB6-DCA40028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F29-749A-4E67-8C85-41F1586E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80270-2AA6-449B-ADDC-1553DFDC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7F021-651F-47BB-8ECB-0649D7BD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22B2D-C5F5-4CCB-9A2D-D4891291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B8C88-5589-403A-8F47-C8CD78BA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2CC0E-E564-43D6-AE48-0A5EA55D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E1356-45C6-440C-A6F3-493396D7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209F3-37EB-4269-8EA8-012C075A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1B5A6-1C55-4B09-BD25-F75BAAB1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714DB-3127-402B-AB0E-11D118D0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7B0FE-AB1C-4790-AAA8-6225F5D7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FA56-1ABD-4375-87FE-E5AE9CB6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48798-5000-4339-9D81-7110ABFE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E21A9-1ABF-4F51-A18C-05BBFBA4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72745-C62E-4D19-BAFD-E5B993C6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881E1-238D-4C1C-ACC8-14583A2B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B779E-4E66-43CD-B623-7BAF0671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E5572-BE96-4996-B31B-34487770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BA46A-A6EC-4B7A-823F-DA98878A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FEE38-F60F-444F-B75D-B643BB45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90901-1B67-4C58-A89F-9D071CDD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7F149-FEBB-43D3-9727-EC64319C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C48-CAFB-462C-BAFB-27FD9C22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CD2EA-B98E-4A87-B2F4-297761B9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B1B06-ED9A-4135-BF7F-AD66AFE2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3B22D-81CA-427C-957B-9677FB35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5FA24-E20B-472B-9C5F-D66D1083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CB2C8-ABDA-4415-B52D-58597494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34AB4-C42D-4165-B93B-2C196F93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AD81E-EC6F-428E-A3AB-6B94AEC4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965C9-89B2-4812-BE69-EE415661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D15FD-7521-41E1-97C5-87554EE6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1B67A-1E6B-46A5-A2CA-652AA8ED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CED-6667-4BED-AB9B-357C01D4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80454-71DE-47B1-8509-366BC2D5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4F7FF-C6DD-4085-9905-69E1B603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94EFC-FF8B-4C3C-B50E-B77901AF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B9523-A418-4D3F-A696-83D8B814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E4343-224B-44AA-B3DA-28D79FBA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9635F-458A-4934-83AB-6BE79ACB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52432-8789-4145-BB04-6071BB4B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CA9FC-08EE-40C3-A592-871C7377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B8B3A-1476-47EF-B9DF-20036420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4FFA7-533E-43F1-969C-B204AB97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FA7-EF6D-4E7D-9CD4-CCC637BF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001B0-9DD4-4061-A149-66E175F6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12AEA-34E3-4FEC-BF83-59ABC3C5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EB557-1276-4251-969A-774F283C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06A0F-F9C4-42ED-B6FF-EFCE556A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661D7-237D-4DB3-A394-A3F7A78C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970B0-D1AD-4FFB-BE44-586B4AA4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8A361-CE58-4D37-BFDB-EAD5B929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5218E-96D6-4830-BA50-EA70998A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48610-1B45-4495-B9D6-39759648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50A08-4A15-40C2-B428-915A5D7B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058-FF1F-4A3C-BB2D-98053D6D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471F0-C5EE-4C4D-8179-B0BEA175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99E2D-C159-4F93-B3E9-1B48730B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8CCA6-CE66-4A07-B8FD-D8340795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501AF-B2BE-4C0F-A5AF-C0982294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AFCAB-3156-414C-888B-ABC6D3D8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0ED82-1484-4962-A144-D2ED7D6E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0D88E-45E2-4605-8FE6-538939A4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490C4-3BA5-4485-BA4A-A487A2A0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F229F-AD42-40CD-ABFC-3AEF2A6B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A687D-F2B3-4858-972E-CABCC45D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FB1D-A128-419A-8712-13D80E2E8F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DF67-F1CB-4DBC-825D-CD069132CA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B299-B82C-4D4F-871B-62B4A3C492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5043-4A55-4F69-99B0-94132E9C7F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136D-A95B-49FB-B1D7-933CB9559E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1705-C09A-4764-8AB9-3C76D65057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904F-84E9-41D0-A601-0978F6C3DD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03F2-A855-47ED-A79B-74A0DB545E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67C3-771A-46D7-B3B7-8E0D66631C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3732-0CCB-45BA-B130-5F9330A1F1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CF7E-E391-4ACA-8625-9525080EDC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831E-83C1-43A1-8A50-DAF2960187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7674-2A09-4315-BB17-3F0A7F5DC9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Line 2"/>
          <p:cNvSpPr/>
          <p:nvPr/>
        </p:nvSpPr>
        <p:spPr>
          <a:xfrm>
            <a:off x="0" y="2781360"/>
            <a:ext cx="421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未知"/>
          <p:cNvSpPr/>
          <p:nvPr/>
        </p:nvSpPr>
        <p:spPr>
          <a:xfrm>
            <a:off x="5575320" y="2421000"/>
            <a:ext cx="2494080" cy="1762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560"/>
                </a:moveTo>
                <a:cubicBezTo>
                  <a:pt x="22" y="746"/>
                  <a:pt x="82" y="1330"/>
                  <a:pt x="126" y="1672"/>
                </a:cubicBezTo>
                <a:cubicBezTo>
                  <a:pt x="170" y="2015"/>
                  <a:pt x="214" y="2295"/>
                  <a:pt x="258" y="2606"/>
                </a:cubicBezTo>
                <a:cubicBezTo>
                  <a:pt x="302" y="2917"/>
                  <a:pt x="346" y="3221"/>
                  <a:pt x="390" y="3532"/>
                </a:cubicBezTo>
                <a:cubicBezTo>
                  <a:pt x="434" y="3843"/>
                  <a:pt x="478" y="4155"/>
                  <a:pt x="522" y="4466"/>
                </a:cubicBezTo>
                <a:cubicBezTo>
                  <a:pt x="566" y="4777"/>
                  <a:pt x="610" y="5049"/>
                  <a:pt x="654" y="5392"/>
                </a:cubicBezTo>
                <a:cubicBezTo>
                  <a:pt x="698" y="5734"/>
                  <a:pt x="764" y="6139"/>
                  <a:pt x="786" y="6512"/>
                </a:cubicBezTo>
                <a:cubicBezTo>
                  <a:pt x="808" y="6886"/>
                  <a:pt x="742" y="7282"/>
                  <a:pt x="786" y="7625"/>
                </a:cubicBezTo>
                <a:cubicBezTo>
                  <a:pt x="830" y="7967"/>
                  <a:pt x="962" y="8208"/>
                  <a:pt x="1050" y="8551"/>
                </a:cubicBezTo>
                <a:cubicBezTo>
                  <a:pt x="1138" y="8893"/>
                  <a:pt x="1221" y="9298"/>
                  <a:pt x="1309" y="9671"/>
                </a:cubicBezTo>
                <a:cubicBezTo>
                  <a:pt x="1397" y="10045"/>
                  <a:pt x="1485" y="10442"/>
                  <a:pt x="1573" y="10784"/>
                </a:cubicBezTo>
                <a:cubicBezTo>
                  <a:pt x="1661" y="11126"/>
                  <a:pt x="1727" y="11406"/>
                  <a:pt x="1837" y="11718"/>
                </a:cubicBezTo>
                <a:cubicBezTo>
                  <a:pt x="1947" y="12029"/>
                  <a:pt x="2145" y="12301"/>
                  <a:pt x="2233" y="12644"/>
                </a:cubicBezTo>
                <a:cubicBezTo>
                  <a:pt x="2321" y="12986"/>
                  <a:pt x="2277" y="13383"/>
                  <a:pt x="2365" y="13756"/>
                </a:cubicBezTo>
                <a:cubicBezTo>
                  <a:pt x="2453" y="14130"/>
                  <a:pt x="2646" y="14534"/>
                  <a:pt x="2756" y="14877"/>
                </a:cubicBezTo>
                <a:cubicBezTo>
                  <a:pt x="2866" y="15219"/>
                  <a:pt x="2932" y="15491"/>
                  <a:pt x="3020" y="15803"/>
                </a:cubicBezTo>
                <a:cubicBezTo>
                  <a:pt x="3108" y="16114"/>
                  <a:pt x="3130" y="16456"/>
                  <a:pt x="3284" y="16736"/>
                </a:cubicBezTo>
                <a:cubicBezTo>
                  <a:pt x="3438" y="17017"/>
                  <a:pt x="3719" y="17227"/>
                  <a:pt x="3939" y="17476"/>
                </a:cubicBezTo>
                <a:cubicBezTo>
                  <a:pt x="4159" y="17725"/>
                  <a:pt x="4357" y="17974"/>
                  <a:pt x="4599" y="18223"/>
                </a:cubicBezTo>
                <a:cubicBezTo>
                  <a:pt x="4841" y="18472"/>
                  <a:pt x="5144" y="18775"/>
                  <a:pt x="5386" y="18962"/>
                </a:cubicBezTo>
                <a:cubicBezTo>
                  <a:pt x="5628" y="19148"/>
                  <a:pt x="5826" y="19180"/>
                  <a:pt x="6046" y="19335"/>
                </a:cubicBezTo>
                <a:cubicBezTo>
                  <a:pt x="6266" y="19491"/>
                  <a:pt x="6481" y="19740"/>
                  <a:pt x="6701" y="19895"/>
                </a:cubicBezTo>
                <a:cubicBezTo>
                  <a:pt x="6921" y="20051"/>
                  <a:pt x="7141" y="20113"/>
                  <a:pt x="7361" y="20269"/>
                </a:cubicBezTo>
                <a:cubicBezTo>
                  <a:pt x="7581" y="20425"/>
                  <a:pt x="7796" y="20697"/>
                  <a:pt x="8016" y="20821"/>
                </a:cubicBezTo>
                <a:cubicBezTo>
                  <a:pt x="8236" y="20946"/>
                  <a:pt x="8456" y="20946"/>
                  <a:pt x="8676" y="21008"/>
                </a:cubicBezTo>
                <a:cubicBezTo>
                  <a:pt x="8896" y="21070"/>
                  <a:pt x="9110" y="21164"/>
                  <a:pt x="9331" y="21195"/>
                </a:cubicBezTo>
                <a:cubicBezTo>
                  <a:pt x="9551" y="21226"/>
                  <a:pt x="9765" y="21164"/>
                  <a:pt x="9985" y="21195"/>
                </a:cubicBezTo>
                <a:cubicBezTo>
                  <a:pt x="10205" y="21226"/>
                  <a:pt x="10425" y="21319"/>
                  <a:pt x="10645" y="21382"/>
                </a:cubicBezTo>
                <a:cubicBezTo>
                  <a:pt x="10866" y="21444"/>
                  <a:pt x="11080" y="21537"/>
                  <a:pt x="11300" y="21568"/>
                </a:cubicBezTo>
                <a:cubicBezTo>
                  <a:pt x="11520" y="21600"/>
                  <a:pt x="11740" y="21568"/>
                  <a:pt x="11960" y="21568"/>
                </a:cubicBezTo>
                <a:cubicBezTo>
                  <a:pt x="12180" y="21568"/>
                  <a:pt x="12395" y="21568"/>
                  <a:pt x="12615" y="21568"/>
                </a:cubicBezTo>
                <a:cubicBezTo>
                  <a:pt x="12835" y="21568"/>
                  <a:pt x="13055" y="21600"/>
                  <a:pt x="13275" y="21568"/>
                </a:cubicBezTo>
                <a:cubicBezTo>
                  <a:pt x="13495" y="21537"/>
                  <a:pt x="13710" y="21444"/>
                  <a:pt x="13930" y="21382"/>
                </a:cubicBezTo>
                <a:cubicBezTo>
                  <a:pt x="14150" y="21319"/>
                  <a:pt x="14370" y="21351"/>
                  <a:pt x="14590" y="21195"/>
                </a:cubicBezTo>
                <a:cubicBezTo>
                  <a:pt x="14810" y="21039"/>
                  <a:pt x="15025" y="20705"/>
                  <a:pt x="15245" y="20456"/>
                </a:cubicBezTo>
                <a:cubicBezTo>
                  <a:pt x="15465" y="20207"/>
                  <a:pt x="15685" y="19958"/>
                  <a:pt x="15905" y="19709"/>
                </a:cubicBezTo>
                <a:cubicBezTo>
                  <a:pt x="16125" y="19460"/>
                  <a:pt x="16340" y="19211"/>
                  <a:pt x="16560" y="18962"/>
                </a:cubicBezTo>
                <a:cubicBezTo>
                  <a:pt x="16780" y="18713"/>
                  <a:pt x="17022" y="18503"/>
                  <a:pt x="17220" y="18223"/>
                </a:cubicBezTo>
                <a:cubicBezTo>
                  <a:pt x="17418" y="17942"/>
                  <a:pt x="17545" y="17538"/>
                  <a:pt x="17743" y="17289"/>
                </a:cubicBezTo>
                <a:cubicBezTo>
                  <a:pt x="17941" y="17040"/>
                  <a:pt x="18183" y="16954"/>
                  <a:pt x="18403" y="16736"/>
                </a:cubicBezTo>
                <a:cubicBezTo>
                  <a:pt x="18623" y="16519"/>
                  <a:pt x="18838" y="16238"/>
                  <a:pt x="19058" y="15989"/>
                </a:cubicBezTo>
                <a:cubicBezTo>
                  <a:pt x="19278" y="15740"/>
                  <a:pt x="19520" y="15530"/>
                  <a:pt x="19718" y="15250"/>
                </a:cubicBezTo>
                <a:cubicBezTo>
                  <a:pt x="19916" y="14970"/>
                  <a:pt x="20065" y="14628"/>
                  <a:pt x="20241" y="14317"/>
                </a:cubicBezTo>
                <a:cubicBezTo>
                  <a:pt x="20417" y="14005"/>
                  <a:pt x="20659" y="13702"/>
                  <a:pt x="20769" y="13391"/>
                </a:cubicBezTo>
                <a:cubicBezTo>
                  <a:pt x="20879" y="13079"/>
                  <a:pt x="20857" y="12768"/>
                  <a:pt x="20901" y="12457"/>
                </a:cubicBezTo>
                <a:cubicBezTo>
                  <a:pt x="20945" y="12146"/>
                  <a:pt x="20989" y="11873"/>
                  <a:pt x="21033" y="11531"/>
                </a:cubicBezTo>
                <a:cubicBezTo>
                  <a:pt x="21077" y="11189"/>
                  <a:pt x="21137" y="10753"/>
                  <a:pt x="21159" y="10410"/>
                </a:cubicBezTo>
                <a:cubicBezTo>
                  <a:pt x="21181" y="10068"/>
                  <a:pt x="21159" y="9796"/>
                  <a:pt x="21159" y="9485"/>
                </a:cubicBezTo>
                <a:cubicBezTo>
                  <a:pt x="21159" y="9173"/>
                  <a:pt x="21159" y="8862"/>
                  <a:pt x="21159" y="8551"/>
                </a:cubicBezTo>
                <a:cubicBezTo>
                  <a:pt x="21159" y="8240"/>
                  <a:pt x="21159" y="7967"/>
                  <a:pt x="21159" y="7625"/>
                </a:cubicBezTo>
                <a:cubicBezTo>
                  <a:pt x="21159" y="7282"/>
                  <a:pt x="21137" y="6855"/>
                  <a:pt x="21159" y="6512"/>
                </a:cubicBezTo>
                <a:cubicBezTo>
                  <a:pt x="21181" y="6170"/>
                  <a:pt x="21269" y="5890"/>
                  <a:pt x="21291" y="5578"/>
                </a:cubicBezTo>
                <a:cubicBezTo>
                  <a:pt x="21313" y="5267"/>
                  <a:pt x="21247" y="4964"/>
                  <a:pt x="21291" y="4653"/>
                </a:cubicBezTo>
                <a:cubicBezTo>
                  <a:pt x="21335" y="4341"/>
                  <a:pt x="21511" y="4030"/>
                  <a:pt x="21555" y="3719"/>
                </a:cubicBezTo>
                <a:cubicBezTo>
                  <a:pt x="21600" y="3408"/>
                  <a:pt x="21555" y="3104"/>
                  <a:pt x="21555" y="2793"/>
                </a:cubicBezTo>
                <a:cubicBezTo>
                  <a:pt x="21555" y="2482"/>
                  <a:pt x="21555" y="2170"/>
                  <a:pt x="21555" y="1859"/>
                </a:cubicBezTo>
                <a:cubicBezTo>
                  <a:pt x="21555" y="1548"/>
                  <a:pt x="21555" y="1244"/>
                  <a:pt x="21555" y="933"/>
                </a:cubicBezTo>
                <a:cubicBezTo>
                  <a:pt x="21555" y="622"/>
                  <a:pt x="21555" y="155"/>
                  <a:pt x="21555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未知"/>
          <p:cNvSpPr/>
          <p:nvPr/>
        </p:nvSpPr>
        <p:spPr>
          <a:xfrm>
            <a:off x="6026040" y="988920"/>
            <a:ext cx="2559240" cy="28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" y="3749"/>
                </a:moveTo>
                <a:cubicBezTo>
                  <a:pt x="385" y="3652"/>
                  <a:pt x="235" y="3361"/>
                  <a:pt x="171" y="3167"/>
                </a:cubicBezTo>
                <a:cubicBezTo>
                  <a:pt x="107" y="2973"/>
                  <a:pt x="0" y="2784"/>
                  <a:pt x="42" y="2590"/>
                </a:cubicBezTo>
                <a:cubicBezTo>
                  <a:pt x="85" y="2396"/>
                  <a:pt x="257" y="2168"/>
                  <a:pt x="428" y="2013"/>
                </a:cubicBezTo>
                <a:cubicBezTo>
                  <a:pt x="600" y="1857"/>
                  <a:pt x="851" y="1799"/>
                  <a:pt x="1066" y="1663"/>
                </a:cubicBezTo>
                <a:cubicBezTo>
                  <a:pt x="1280" y="1527"/>
                  <a:pt x="1495" y="1333"/>
                  <a:pt x="1709" y="1198"/>
                </a:cubicBezTo>
                <a:cubicBezTo>
                  <a:pt x="1923" y="1062"/>
                  <a:pt x="2132" y="970"/>
                  <a:pt x="2347" y="853"/>
                </a:cubicBezTo>
                <a:cubicBezTo>
                  <a:pt x="2561" y="737"/>
                  <a:pt x="2775" y="601"/>
                  <a:pt x="2990" y="504"/>
                </a:cubicBezTo>
                <a:cubicBezTo>
                  <a:pt x="3204" y="407"/>
                  <a:pt x="3413" y="349"/>
                  <a:pt x="3627" y="271"/>
                </a:cubicBezTo>
                <a:cubicBezTo>
                  <a:pt x="3842" y="194"/>
                  <a:pt x="4056" y="77"/>
                  <a:pt x="4270" y="38"/>
                </a:cubicBezTo>
                <a:cubicBezTo>
                  <a:pt x="4485" y="0"/>
                  <a:pt x="4694" y="38"/>
                  <a:pt x="4908" y="38"/>
                </a:cubicBezTo>
                <a:cubicBezTo>
                  <a:pt x="5122" y="38"/>
                  <a:pt x="5337" y="38"/>
                  <a:pt x="5551" y="38"/>
                </a:cubicBezTo>
                <a:cubicBezTo>
                  <a:pt x="5765" y="38"/>
                  <a:pt x="5974" y="38"/>
                  <a:pt x="6189" y="38"/>
                </a:cubicBezTo>
                <a:cubicBezTo>
                  <a:pt x="6403" y="38"/>
                  <a:pt x="6617" y="38"/>
                  <a:pt x="6832" y="38"/>
                </a:cubicBezTo>
                <a:cubicBezTo>
                  <a:pt x="7046" y="38"/>
                  <a:pt x="7255" y="38"/>
                  <a:pt x="7469" y="38"/>
                </a:cubicBezTo>
                <a:cubicBezTo>
                  <a:pt x="7684" y="38"/>
                  <a:pt x="7898" y="38"/>
                  <a:pt x="8112" y="38"/>
                </a:cubicBezTo>
                <a:cubicBezTo>
                  <a:pt x="8327" y="38"/>
                  <a:pt x="8536" y="38"/>
                  <a:pt x="8750" y="38"/>
                </a:cubicBezTo>
                <a:cubicBezTo>
                  <a:pt x="8964" y="38"/>
                  <a:pt x="9179" y="38"/>
                  <a:pt x="9393" y="38"/>
                </a:cubicBezTo>
                <a:cubicBezTo>
                  <a:pt x="9607" y="38"/>
                  <a:pt x="9816" y="38"/>
                  <a:pt x="10031" y="38"/>
                </a:cubicBezTo>
                <a:cubicBezTo>
                  <a:pt x="10245" y="38"/>
                  <a:pt x="10459" y="38"/>
                  <a:pt x="10674" y="38"/>
                </a:cubicBezTo>
                <a:cubicBezTo>
                  <a:pt x="10888" y="38"/>
                  <a:pt x="11097" y="38"/>
                  <a:pt x="11311" y="38"/>
                </a:cubicBezTo>
                <a:cubicBezTo>
                  <a:pt x="11526" y="38"/>
                  <a:pt x="11735" y="38"/>
                  <a:pt x="11949" y="38"/>
                </a:cubicBezTo>
                <a:cubicBezTo>
                  <a:pt x="12163" y="38"/>
                  <a:pt x="12378" y="19"/>
                  <a:pt x="12592" y="38"/>
                </a:cubicBezTo>
                <a:cubicBezTo>
                  <a:pt x="12806" y="58"/>
                  <a:pt x="13015" y="97"/>
                  <a:pt x="13230" y="155"/>
                </a:cubicBezTo>
                <a:cubicBezTo>
                  <a:pt x="13444" y="213"/>
                  <a:pt x="13658" y="291"/>
                  <a:pt x="13873" y="388"/>
                </a:cubicBezTo>
                <a:cubicBezTo>
                  <a:pt x="14087" y="485"/>
                  <a:pt x="14296" y="659"/>
                  <a:pt x="14510" y="737"/>
                </a:cubicBezTo>
                <a:cubicBezTo>
                  <a:pt x="14725" y="814"/>
                  <a:pt x="14939" y="776"/>
                  <a:pt x="15153" y="853"/>
                </a:cubicBezTo>
                <a:cubicBezTo>
                  <a:pt x="15368" y="931"/>
                  <a:pt x="15577" y="1081"/>
                  <a:pt x="15791" y="1198"/>
                </a:cubicBezTo>
                <a:cubicBezTo>
                  <a:pt x="16005" y="1314"/>
                  <a:pt x="16220" y="1450"/>
                  <a:pt x="16434" y="1547"/>
                </a:cubicBezTo>
                <a:cubicBezTo>
                  <a:pt x="16648" y="1644"/>
                  <a:pt x="16857" y="1702"/>
                  <a:pt x="17072" y="1780"/>
                </a:cubicBezTo>
                <a:cubicBezTo>
                  <a:pt x="17286" y="1857"/>
                  <a:pt x="17500" y="1877"/>
                  <a:pt x="17715" y="2013"/>
                </a:cubicBezTo>
                <a:cubicBezTo>
                  <a:pt x="17929" y="2148"/>
                  <a:pt x="18138" y="2435"/>
                  <a:pt x="18352" y="2590"/>
                </a:cubicBezTo>
                <a:cubicBezTo>
                  <a:pt x="18567" y="2745"/>
                  <a:pt x="18781" y="2803"/>
                  <a:pt x="18995" y="2939"/>
                </a:cubicBezTo>
                <a:cubicBezTo>
                  <a:pt x="19210" y="3075"/>
                  <a:pt x="19419" y="3245"/>
                  <a:pt x="19633" y="3400"/>
                </a:cubicBezTo>
                <a:cubicBezTo>
                  <a:pt x="19847" y="3555"/>
                  <a:pt x="20104" y="3691"/>
                  <a:pt x="20276" y="3865"/>
                </a:cubicBezTo>
                <a:cubicBezTo>
                  <a:pt x="20447" y="4040"/>
                  <a:pt x="20528" y="4249"/>
                  <a:pt x="20656" y="4443"/>
                </a:cubicBezTo>
                <a:cubicBezTo>
                  <a:pt x="20785" y="4637"/>
                  <a:pt x="20956" y="4831"/>
                  <a:pt x="21042" y="5025"/>
                </a:cubicBezTo>
                <a:cubicBezTo>
                  <a:pt x="21128" y="5219"/>
                  <a:pt x="21128" y="5408"/>
                  <a:pt x="21171" y="5602"/>
                </a:cubicBezTo>
                <a:cubicBezTo>
                  <a:pt x="21214" y="5796"/>
                  <a:pt x="21257" y="5990"/>
                  <a:pt x="21299" y="6184"/>
                </a:cubicBezTo>
                <a:cubicBezTo>
                  <a:pt x="21342" y="6378"/>
                  <a:pt x="21407" y="6567"/>
                  <a:pt x="21428" y="6761"/>
                </a:cubicBezTo>
                <a:cubicBezTo>
                  <a:pt x="21449" y="6955"/>
                  <a:pt x="21428" y="7130"/>
                  <a:pt x="21428" y="7343"/>
                </a:cubicBezTo>
                <a:cubicBezTo>
                  <a:pt x="21428" y="7557"/>
                  <a:pt x="21407" y="7824"/>
                  <a:pt x="21428" y="8037"/>
                </a:cubicBezTo>
                <a:cubicBezTo>
                  <a:pt x="21449" y="8250"/>
                  <a:pt x="21535" y="8420"/>
                  <a:pt x="21557" y="8614"/>
                </a:cubicBezTo>
                <a:cubicBezTo>
                  <a:pt x="21578" y="8808"/>
                  <a:pt x="21557" y="9002"/>
                  <a:pt x="21557" y="9196"/>
                </a:cubicBezTo>
                <a:cubicBezTo>
                  <a:pt x="21557" y="9390"/>
                  <a:pt x="21557" y="9580"/>
                  <a:pt x="21557" y="9774"/>
                </a:cubicBezTo>
                <a:cubicBezTo>
                  <a:pt x="21557" y="9968"/>
                  <a:pt x="21557" y="10162"/>
                  <a:pt x="21557" y="10356"/>
                </a:cubicBezTo>
                <a:cubicBezTo>
                  <a:pt x="21557" y="10550"/>
                  <a:pt x="21557" y="10719"/>
                  <a:pt x="21557" y="10933"/>
                </a:cubicBezTo>
                <a:cubicBezTo>
                  <a:pt x="21557" y="11146"/>
                  <a:pt x="21557" y="11399"/>
                  <a:pt x="21557" y="11631"/>
                </a:cubicBezTo>
                <a:cubicBezTo>
                  <a:pt x="21557" y="11864"/>
                  <a:pt x="21557" y="12112"/>
                  <a:pt x="21557" y="12325"/>
                </a:cubicBezTo>
                <a:cubicBezTo>
                  <a:pt x="21557" y="12538"/>
                  <a:pt x="21600" y="12713"/>
                  <a:pt x="21557" y="12907"/>
                </a:cubicBezTo>
                <a:cubicBezTo>
                  <a:pt x="21514" y="13101"/>
                  <a:pt x="21407" y="13290"/>
                  <a:pt x="21299" y="13484"/>
                </a:cubicBezTo>
                <a:cubicBezTo>
                  <a:pt x="21192" y="13678"/>
                  <a:pt x="21021" y="13868"/>
                  <a:pt x="20914" y="14062"/>
                </a:cubicBezTo>
                <a:cubicBezTo>
                  <a:pt x="20806" y="14256"/>
                  <a:pt x="20742" y="14450"/>
                  <a:pt x="20656" y="14644"/>
                </a:cubicBezTo>
                <a:cubicBezTo>
                  <a:pt x="20571" y="14838"/>
                  <a:pt x="20485" y="15027"/>
                  <a:pt x="20399" y="15221"/>
                </a:cubicBezTo>
                <a:cubicBezTo>
                  <a:pt x="20313" y="15415"/>
                  <a:pt x="20212" y="15609"/>
                  <a:pt x="20147" y="15803"/>
                </a:cubicBezTo>
                <a:cubicBezTo>
                  <a:pt x="20083" y="15997"/>
                  <a:pt x="20062" y="16186"/>
                  <a:pt x="20019" y="16380"/>
                </a:cubicBezTo>
                <a:cubicBezTo>
                  <a:pt x="19976" y="16574"/>
                  <a:pt x="19954" y="16768"/>
                  <a:pt x="19890" y="16962"/>
                </a:cubicBezTo>
                <a:cubicBezTo>
                  <a:pt x="19826" y="17156"/>
                  <a:pt x="19740" y="17345"/>
                  <a:pt x="19633" y="17539"/>
                </a:cubicBezTo>
                <a:cubicBezTo>
                  <a:pt x="19526" y="17734"/>
                  <a:pt x="19376" y="17928"/>
                  <a:pt x="19247" y="18122"/>
                </a:cubicBezTo>
                <a:cubicBezTo>
                  <a:pt x="19119" y="18316"/>
                  <a:pt x="18995" y="18505"/>
                  <a:pt x="18867" y="18699"/>
                </a:cubicBezTo>
                <a:cubicBezTo>
                  <a:pt x="18738" y="18893"/>
                  <a:pt x="18588" y="19087"/>
                  <a:pt x="18481" y="19281"/>
                </a:cubicBezTo>
                <a:cubicBezTo>
                  <a:pt x="18374" y="19475"/>
                  <a:pt x="18309" y="19664"/>
                  <a:pt x="18224" y="19858"/>
                </a:cubicBezTo>
                <a:cubicBezTo>
                  <a:pt x="18138" y="20052"/>
                  <a:pt x="18074" y="20246"/>
                  <a:pt x="17966" y="20440"/>
                </a:cubicBezTo>
                <a:cubicBezTo>
                  <a:pt x="17859" y="20634"/>
                  <a:pt x="17672" y="20823"/>
                  <a:pt x="17586" y="21017"/>
                </a:cubicBezTo>
                <a:cubicBezTo>
                  <a:pt x="17500" y="21211"/>
                  <a:pt x="17500" y="21600"/>
                  <a:pt x="17457" y="21600"/>
                </a:cubicBezTo>
                <a:cubicBezTo>
                  <a:pt x="17415" y="21600"/>
                  <a:pt x="17393" y="21211"/>
                  <a:pt x="17329" y="21017"/>
                </a:cubicBezTo>
                <a:cubicBezTo>
                  <a:pt x="17264" y="20823"/>
                  <a:pt x="17157" y="20634"/>
                  <a:pt x="17072" y="20440"/>
                </a:cubicBezTo>
                <a:cubicBezTo>
                  <a:pt x="16986" y="20246"/>
                  <a:pt x="16857" y="19955"/>
                  <a:pt x="16814" y="198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未知"/>
          <p:cNvSpPr/>
          <p:nvPr/>
        </p:nvSpPr>
        <p:spPr>
          <a:xfrm>
            <a:off x="5133960" y="1461960"/>
            <a:ext cx="880920" cy="240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2"/>
                </a:moveTo>
                <a:cubicBezTo>
                  <a:pt x="21288" y="22"/>
                  <a:pt x="20433" y="22"/>
                  <a:pt x="19749" y="22"/>
                </a:cubicBezTo>
                <a:cubicBezTo>
                  <a:pt x="19065" y="22"/>
                  <a:pt x="18209" y="22"/>
                  <a:pt x="17525" y="22"/>
                </a:cubicBezTo>
                <a:cubicBezTo>
                  <a:pt x="16841" y="22"/>
                  <a:pt x="16281" y="22"/>
                  <a:pt x="15659" y="22"/>
                </a:cubicBezTo>
                <a:cubicBezTo>
                  <a:pt x="15037" y="22"/>
                  <a:pt x="14431" y="22"/>
                  <a:pt x="13809" y="22"/>
                </a:cubicBezTo>
                <a:cubicBezTo>
                  <a:pt x="13187" y="22"/>
                  <a:pt x="12565" y="22"/>
                  <a:pt x="11942" y="22"/>
                </a:cubicBezTo>
                <a:cubicBezTo>
                  <a:pt x="11320" y="22"/>
                  <a:pt x="10714" y="0"/>
                  <a:pt x="10092" y="22"/>
                </a:cubicBezTo>
                <a:cubicBezTo>
                  <a:pt x="9470" y="45"/>
                  <a:pt x="8848" y="68"/>
                  <a:pt x="8226" y="159"/>
                </a:cubicBezTo>
                <a:cubicBezTo>
                  <a:pt x="7604" y="251"/>
                  <a:pt x="6873" y="388"/>
                  <a:pt x="6375" y="570"/>
                </a:cubicBezTo>
                <a:cubicBezTo>
                  <a:pt x="5878" y="753"/>
                  <a:pt x="5691" y="1022"/>
                  <a:pt x="5256" y="1250"/>
                </a:cubicBezTo>
                <a:cubicBezTo>
                  <a:pt x="4820" y="1478"/>
                  <a:pt x="4152" y="1707"/>
                  <a:pt x="3778" y="1935"/>
                </a:cubicBezTo>
                <a:cubicBezTo>
                  <a:pt x="3405" y="2163"/>
                  <a:pt x="3281" y="2386"/>
                  <a:pt x="3032" y="2615"/>
                </a:cubicBezTo>
                <a:cubicBezTo>
                  <a:pt x="2783" y="2843"/>
                  <a:pt x="2596" y="3066"/>
                  <a:pt x="2285" y="3294"/>
                </a:cubicBezTo>
                <a:cubicBezTo>
                  <a:pt x="1974" y="3522"/>
                  <a:pt x="1477" y="3751"/>
                  <a:pt x="1166" y="3979"/>
                </a:cubicBezTo>
                <a:cubicBezTo>
                  <a:pt x="855" y="4208"/>
                  <a:pt x="622" y="4430"/>
                  <a:pt x="435" y="4659"/>
                </a:cubicBezTo>
                <a:cubicBezTo>
                  <a:pt x="248" y="4887"/>
                  <a:pt x="124" y="5115"/>
                  <a:pt x="62" y="5344"/>
                </a:cubicBezTo>
                <a:cubicBezTo>
                  <a:pt x="0" y="5572"/>
                  <a:pt x="62" y="5795"/>
                  <a:pt x="62" y="6023"/>
                </a:cubicBezTo>
                <a:cubicBezTo>
                  <a:pt x="62" y="6252"/>
                  <a:pt x="62" y="6457"/>
                  <a:pt x="62" y="6708"/>
                </a:cubicBezTo>
                <a:cubicBezTo>
                  <a:pt x="62" y="6960"/>
                  <a:pt x="62" y="7274"/>
                  <a:pt x="62" y="7525"/>
                </a:cubicBezTo>
                <a:cubicBezTo>
                  <a:pt x="62" y="7776"/>
                  <a:pt x="62" y="7982"/>
                  <a:pt x="62" y="8210"/>
                </a:cubicBezTo>
                <a:cubicBezTo>
                  <a:pt x="62" y="8439"/>
                  <a:pt x="0" y="8661"/>
                  <a:pt x="62" y="8890"/>
                </a:cubicBezTo>
                <a:cubicBezTo>
                  <a:pt x="124" y="9118"/>
                  <a:pt x="186" y="9346"/>
                  <a:pt x="435" y="9575"/>
                </a:cubicBezTo>
                <a:cubicBezTo>
                  <a:pt x="684" y="9803"/>
                  <a:pt x="1166" y="10026"/>
                  <a:pt x="1539" y="10254"/>
                </a:cubicBezTo>
                <a:cubicBezTo>
                  <a:pt x="1912" y="10483"/>
                  <a:pt x="2285" y="10711"/>
                  <a:pt x="2659" y="10939"/>
                </a:cubicBezTo>
                <a:cubicBezTo>
                  <a:pt x="3032" y="11168"/>
                  <a:pt x="3530" y="11390"/>
                  <a:pt x="3778" y="11619"/>
                </a:cubicBezTo>
                <a:cubicBezTo>
                  <a:pt x="4027" y="11847"/>
                  <a:pt x="4074" y="12070"/>
                  <a:pt x="4136" y="12298"/>
                </a:cubicBezTo>
                <a:cubicBezTo>
                  <a:pt x="4198" y="12527"/>
                  <a:pt x="4136" y="12755"/>
                  <a:pt x="4136" y="12983"/>
                </a:cubicBezTo>
                <a:cubicBezTo>
                  <a:pt x="4136" y="13212"/>
                  <a:pt x="4136" y="13435"/>
                  <a:pt x="4136" y="13663"/>
                </a:cubicBezTo>
                <a:cubicBezTo>
                  <a:pt x="4136" y="13891"/>
                  <a:pt x="4136" y="14120"/>
                  <a:pt x="4136" y="14348"/>
                </a:cubicBezTo>
                <a:cubicBezTo>
                  <a:pt x="4136" y="14577"/>
                  <a:pt x="4136" y="14799"/>
                  <a:pt x="4136" y="15028"/>
                </a:cubicBezTo>
                <a:cubicBezTo>
                  <a:pt x="4136" y="15256"/>
                  <a:pt x="4136" y="15484"/>
                  <a:pt x="4136" y="15713"/>
                </a:cubicBezTo>
                <a:cubicBezTo>
                  <a:pt x="4136" y="15941"/>
                  <a:pt x="4074" y="16164"/>
                  <a:pt x="4136" y="16392"/>
                </a:cubicBezTo>
                <a:cubicBezTo>
                  <a:pt x="4198" y="16621"/>
                  <a:pt x="4447" y="16849"/>
                  <a:pt x="4509" y="17077"/>
                </a:cubicBezTo>
                <a:cubicBezTo>
                  <a:pt x="4571" y="17306"/>
                  <a:pt x="4385" y="17528"/>
                  <a:pt x="4509" y="17757"/>
                </a:cubicBezTo>
                <a:cubicBezTo>
                  <a:pt x="4634" y="17985"/>
                  <a:pt x="5069" y="18214"/>
                  <a:pt x="5256" y="18442"/>
                </a:cubicBezTo>
                <a:cubicBezTo>
                  <a:pt x="5442" y="18670"/>
                  <a:pt x="5504" y="18893"/>
                  <a:pt x="5629" y="19121"/>
                </a:cubicBezTo>
                <a:cubicBezTo>
                  <a:pt x="5753" y="19350"/>
                  <a:pt x="5691" y="19578"/>
                  <a:pt x="6002" y="19807"/>
                </a:cubicBezTo>
                <a:cubicBezTo>
                  <a:pt x="6313" y="20035"/>
                  <a:pt x="6920" y="20258"/>
                  <a:pt x="7479" y="20486"/>
                </a:cubicBezTo>
                <a:cubicBezTo>
                  <a:pt x="8039" y="20714"/>
                  <a:pt x="8723" y="20989"/>
                  <a:pt x="9346" y="21171"/>
                </a:cubicBezTo>
                <a:cubicBezTo>
                  <a:pt x="9968" y="21354"/>
                  <a:pt x="10574" y="21600"/>
                  <a:pt x="11196" y="21577"/>
                </a:cubicBezTo>
                <a:cubicBezTo>
                  <a:pt x="11818" y="21554"/>
                  <a:pt x="12689" y="21240"/>
                  <a:pt x="13062" y="21034"/>
                </a:cubicBezTo>
                <a:cubicBezTo>
                  <a:pt x="13435" y="20829"/>
                  <a:pt x="13249" y="20577"/>
                  <a:pt x="13435" y="20349"/>
                </a:cubicBezTo>
                <a:cubicBezTo>
                  <a:pt x="13622" y="20121"/>
                  <a:pt x="13933" y="19898"/>
                  <a:pt x="14182" y="19670"/>
                </a:cubicBezTo>
                <a:cubicBezTo>
                  <a:pt x="14431" y="19441"/>
                  <a:pt x="14726" y="19213"/>
                  <a:pt x="14913" y="18984"/>
                </a:cubicBezTo>
                <a:cubicBezTo>
                  <a:pt x="15099" y="18756"/>
                  <a:pt x="15224" y="18419"/>
                  <a:pt x="15286" y="18305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未知"/>
          <p:cNvSpPr/>
          <p:nvPr/>
        </p:nvSpPr>
        <p:spPr>
          <a:xfrm>
            <a:off x="5667480" y="1951200"/>
            <a:ext cx="515880" cy="106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31" y="21341"/>
                  <a:pt x="2125" y="20527"/>
                  <a:pt x="3188" y="20062"/>
                </a:cubicBezTo>
                <a:cubicBezTo>
                  <a:pt x="4250" y="19597"/>
                  <a:pt x="5605" y="19287"/>
                  <a:pt x="6349" y="18822"/>
                </a:cubicBezTo>
                <a:cubicBezTo>
                  <a:pt x="7093" y="18357"/>
                  <a:pt x="7093" y="17801"/>
                  <a:pt x="7625" y="17285"/>
                </a:cubicBezTo>
                <a:cubicBezTo>
                  <a:pt x="8156" y="16768"/>
                  <a:pt x="9006" y="16251"/>
                  <a:pt x="9538" y="15734"/>
                </a:cubicBezTo>
                <a:cubicBezTo>
                  <a:pt x="10069" y="15218"/>
                  <a:pt x="10361" y="14714"/>
                  <a:pt x="10786" y="14197"/>
                </a:cubicBezTo>
                <a:cubicBezTo>
                  <a:pt x="11211" y="13680"/>
                  <a:pt x="11849" y="13164"/>
                  <a:pt x="12061" y="12647"/>
                </a:cubicBezTo>
                <a:cubicBezTo>
                  <a:pt x="12274" y="12130"/>
                  <a:pt x="11955" y="11626"/>
                  <a:pt x="12061" y="11110"/>
                </a:cubicBezTo>
                <a:cubicBezTo>
                  <a:pt x="12168" y="10593"/>
                  <a:pt x="12593" y="10076"/>
                  <a:pt x="12699" y="9559"/>
                </a:cubicBezTo>
                <a:cubicBezTo>
                  <a:pt x="12805" y="9043"/>
                  <a:pt x="12487" y="8539"/>
                  <a:pt x="12699" y="8022"/>
                </a:cubicBezTo>
                <a:cubicBezTo>
                  <a:pt x="12912" y="7505"/>
                  <a:pt x="13337" y="6988"/>
                  <a:pt x="13974" y="6472"/>
                </a:cubicBezTo>
                <a:cubicBezTo>
                  <a:pt x="14612" y="5955"/>
                  <a:pt x="15754" y="5451"/>
                  <a:pt x="16498" y="4934"/>
                </a:cubicBezTo>
                <a:cubicBezTo>
                  <a:pt x="17242" y="4418"/>
                  <a:pt x="17667" y="3953"/>
                  <a:pt x="18411" y="3384"/>
                </a:cubicBezTo>
                <a:cubicBezTo>
                  <a:pt x="19155" y="2816"/>
                  <a:pt x="20430" y="2105"/>
                  <a:pt x="20962" y="1537"/>
                </a:cubicBezTo>
                <a:cubicBezTo>
                  <a:pt x="21493" y="968"/>
                  <a:pt x="21493" y="258"/>
                  <a:pt x="21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未知"/>
          <p:cNvSpPr/>
          <p:nvPr/>
        </p:nvSpPr>
        <p:spPr>
          <a:xfrm>
            <a:off x="6172200" y="1978200"/>
            <a:ext cx="1870200" cy="87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73"/>
                </a:moveTo>
                <a:cubicBezTo>
                  <a:pt x="153" y="73"/>
                  <a:pt x="582" y="73"/>
                  <a:pt x="919" y="73"/>
                </a:cubicBezTo>
                <a:cubicBezTo>
                  <a:pt x="1256" y="73"/>
                  <a:pt x="1677" y="0"/>
                  <a:pt x="2014" y="73"/>
                </a:cubicBezTo>
                <a:cubicBezTo>
                  <a:pt x="2351" y="147"/>
                  <a:pt x="2627" y="367"/>
                  <a:pt x="2933" y="514"/>
                </a:cubicBezTo>
                <a:cubicBezTo>
                  <a:pt x="3240" y="661"/>
                  <a:pt x="3508" y="735"/>
                  <a:pt x="3845" y="955"/>
                </a:cubicBezTo>
                <a:cubicBezTo>
                  <a:pt x="4182" y="1176"/>
                  <a:pt x="4611" y="1617"/>
                  <a:pt x="4948" y="1838"/>
                </a:cubicBezTo>
                <a:cubicBezTo>
                  <a:pt x="5285" y="2058"/>
                  <a:pt x="5553" y="2132"/>
                  <a:pt x="5859" y="2279"/>
                </a:cubicBezTo>
                <a:cubicBezTo>
                  <a:pt x="6165" y="2426"/>
                  <a:pt x="6472" y="2426"/>
                  <a:pt x="6778" y="2720"/>
                </a:cubicBezTo>
                <a:cubicBezTo>
                  <a:pt x="7085" y="3014"/>
                  <a:pt x="7383" y="3584"/>
                  <a:pt x="7690" y="4025"/>
                </a:cubicBezTo>
                <a:cubicBezTo>
                  <a:pt x="7996" y="4467"/>
                  <a:pt x="8295" y="4981"/>
                  <a:pt x="8601" y="5349"/>
                </a:cubicBezTo>
                <a:cubicBezTo>
                  <a:pt x="8908" y="5717"/>
                  <a:pt x="9183" y="5717"/>
                  <a:pt x="9520" y="6231"/>
                </a:cubicBezTo>
                <a:cubicBezTo>
                  <a:pt x="9857" y="6746"/>
                  <a:pt x="10279" y="7904"/>
                  <a:pt x="10616" y="8419"/>
                </a:cubicBezTo>
                <a:cubicBezTo>
                  <a:pt x="10953" y="8934"/>
                  <a:pt x="11228" y="9081"/>
                  <a:pt x="11535" y="9301"/>
                </a:cubicBezTo>
                <a:cubicBezTo>
                  <a:pt x="11841" y="9522"/>
                  <a:pt x="12140" y="9595"/>
                  <a:pt x="12446" y="9742"/>
                </a:cubicBezTo>
                <a:cubicBezTo>
                  <a:pt x="12753" y="9890"/>
                  <a:pt x="13059" y="9963"/>
                  <a:pt x="13365" y="10184"/>
                </a:cubicBezTo>
                <a:cubicBezTo>
                  <a:pt x="13672" y="10404"/>
                  <a:pt x="13971" y="10772"/>
                  <a:pt x="14277" y="11066"/>
                </a:cubicBezTo>
                <a:cubicBezTo>
                  <a:pt x="14583" y="11360"/>
                  <a:pt x="14859" y="11654"/>
                  <a:pt x="15196" y="11948"/>
                </a:cubicBezTo>
                <a:cubicBezTo>
                  <a:pt x="15533" y="12243"/>
                  <a:pt x="15954" y="12518"/>
                  <a:pt x="16291" y="12812"/>
                </a:cubicBezTo>
                <a:cubicBezTo>
                  <a:pt x="16628" y="13107"/>
                  <a:pt x="16897" y="13474"/>
                  <a:pt x="17203" y="13695"/>
                </a:cubicBezTo>
                <a:cubicBezTo>
                  <a:pt x="17509" y="13915"/>
                  <a:pt x="17816" y="13768"/>
                  <a:pt x="18122" y="14136"/>
                </a:cubicBezTo>
                <a:cubicBezTo>
                  <a:pt x="18428" y="14504"/>
                  <a:pt x="18727" y="15386"/>
                  <a:pt x="19034" y="15901"/>
                </a:cubicBezTo>
                <a:cubicBezTo>
                  <a:pt x="19340" y="16416"/>
                  <a:pt x="19677" y="16618"/>
                  <a:pt x="19953" y="17206"/>
                </a:cubicBezTo>
                <a:cubicBezTo>
                  <a:pt x="20228" y="17794"/>
                  <a:pt x="20405" y="18677"/>
                  <a:pt x="20680" y="19412"/>
                </a:cubicBezTo>
                <a:cubicBezTo>
                  <a:pt x="20956" y="20147"/>
                  <a:pt x="21446" y="21232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未知"/>
          <p:cNvSpPr/>
          <p:nvPr/>
        </p:nvSpPr>
        <p:spPr>
          <a:xfrm>
            <a:off x="5934240" y="2643120"/>
            <a:ext cx="52380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9" y="21600"/>
                </a:moveTo>
                <a:cubicBezTo>
                  <a:pt x="209" y="20664"/>
                  <a:pt x="0" y="17859"/>
                  <a:pt x="209" y="15989"/>
                </a:cubicBezTo>
                <a:cubicBezTo>
                  <a:pt x="419" y="14119"/>
                  <a:pt x="733" y="12296"/>
                  <a:pt x="1467" y="10425"/>
                </a:cubicBezTo>
                <a:cubicBezTo>
                  <a:pt x="2201" y="8555"/>
                  <a:pt x="3538" y="6311"/>
                  <a:pt x="4587" y="4815"/>
                </a:cubicBezTo>
                <a:cubicBezTo>
                  <a:pt x="5635" y="3319"/>
                  <a:pt x="6684" y="2244"/>
                  <a:pt x="7733" y="1496"/>
                </a:cubicBezTo>
                <a:cubicBezTo>
                  <a:pt x="8781" y="748"/>
                  <a:pt x="9803" y="561"/>
                  <a:pt x="10852" y="374"/>
                </a:cubicBezTo>
                <a:cubicBezTo>
                  <a:pt x="11900" y="187"/>
                  <a:pt x="12949" y="0"/>
                  <a:pt x="13998" y="374"/>
                </a:cubicBezTo>
                <a:cubicBezTo>
                  <a:pt x="15046" y="748"/>
                  <a:pt x="15964" y="1870"/>
                  <a:pt x="17117" y="2618"/>
                </a:cubicBezTo>
                <a:cubicBezTo>
                  <a:pt x="18270" y="3366"/>
                  <a:pt x="20132" y="3506"/>
                  <a:pt x="20866" y="4815"/>
                </a:cubicBezTo>
                <a:cubicBezTo>
                  <a:pt x="21600" y="6124"/>
                  <a:pt x="21390" y="9490"/>
                  <a:pt x="21495" y="1042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未知"/>
          <p:cNvSpPr/>
          <p:nvPr/>
        </p:nvSpPr>
        <p:spPr>
          <a:xfrm>
            <a:off x="7108920" y="2584440"/>
            <a:ext cx="590400" cy="23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78" y="20409"/>
                  <a:pt x="903" y="16601"/>
                  <a:pt x="1645" y="14459"/>
                </a:cubicBezTo>
                <a:cubicBezTo>
                  <a:pt x="2387" y="12317"/>
                  <a:pt x="3499" y="10948"/>
                  <a:pt x="4426" y="8806"/>
                </a:cubicBezTo>
                <a:cubicBezTo>
                  <a:pt x="5353" y="6664"/>
                  <a:pt x="6164" y="3094"/>
                  <a:pt x="7184" y="1666"/>
                </a:cubicBezTo>
                <a:cubicBezTo>
                  <a:pt x="8204" y="238"/>
                  <a:pt x="9502" y="476"/>
                  <a:pt x="10521" y="238"/>
                </a:cubicBezTo>
                <a:cubicBezTo>
                  <a:pt x="11541" y="0"/>
                  <a:pt x="12352" y="0"/>
                  <a:pt x="13279" y="238"/>
                </a:cubicBezTo>
                <a:cubicBezTo>
                  <a:pt x="14206" y="476"/>
                  <a:pt x="15133" y="952"/>
                  <a:pt x="16060" y="1666"/>
                </a:cubicBezTo>
                <a:cubicBezTo>
                  <a:pt x="16987" y="2380"/>
                  <a:pt x="17891" y="2856"/>
                  <a:pt x="18818" y="4522"/>
                </a:cubicBezTo>
                <a:cubicBezTo>
                  <a:pt x="19745" y="6188"/>
                  <a:pt x="21136" y="10413"/>
                  <a:pt x="21600" y="1160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未知"/>
          <p:cNvSpPr/>
          <p:nvPr/>
        </p:nvSpPr>
        <p:spPr>
          <a:xfrm>
            <a:off x="6500880" y="3740040"/>
            <a:ext cx="744480" cy="139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368" y="1578"/>
                  <a:pt x="1475" y="6706"/>
                  <a:pt x="2213" y="9468"/>
                </a:cubicBezTo>
                <a:cubicBezTo>
                  <a:pt x="2951" y="12230"/>
                  <a:pt x="3670" y="14893"/>
                  <a:pt x="4408" y="16471"/>
                </a:cubicBezTo>
                <a:cubicBezTo>
                  <a:pt x="5146" y="18049"/>
                  <a:pt x="5865" y="18049"/>
                  <a:pt x="6603" y="18838"/>
                </a:cubicBezTo>
                <a:cubicBezTo>
                  <a:pt x="7341" y="19627"/>
                  <a:pt x="8079" y="20810"/>
                  <a:pt x="8817" y="21205"/>
                </a:cubicBezTo>
                <a:cubicBezTo>
                  <a:pt x="9554" y="21600"/>
                  <a:pt x="10274" y="21205"/>
                  <a:pt x="11012" y="21205"/>
                </a:cubicBezTo>
                <a:cubicBezTo>
                  <a:pt x="11749" y="21205"/>
                  <a:pt x="12487" y="21205"/>
                  <a:pt x="13225" y="21205"/>
                </a:cubicBezTo>
                <a:cubicBezTo>
                  <a:pt x="13963" y="21205"/>
                  <a:pt x="14682" y="21600"/>
                  <a:pt x="15420" y="21205"/>
                </a:cubicBezTo>
                <a:cubicBezTo>
                  <a:pt x="16158" y="20810"/>
                  <a:pt x="16896" y="20416"/>
                  <a:pt x="17634" y="18838"/>
                </a:cubicBezTo>
                <a:cubicBezTo>
                  <a:pt x="18371" y="17260"/>
                  <a:pt x="19165" y="14991"/>
                  <a:pt x="19829" y="11835"/>
                </a:cubicBezTo>
                <a:cubicBezTo>
                  <a:pt x="20493" y="8679"/>
                  <a:pt x="21304" y="1972"/>
                  <a:pt x="2160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4875120" y="4218120"/>
            <a:ext cx="3888000" cy="23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82" y="3644"/>
                </a:moveTo>
                <a:cubicBezTo>
                  <a:pt x="3446" y="3735"/>
                  <a:pt x="3663" y="3979"/>
                  <a:pt x="3766" y="4184"/>
                </a:cubicBezTo>
                <a:cubicBezTo>
                  <a:pt x="3868" y="4389"/>
                  <a:pt x="3941" y="4639"/>
                  <a:pt x="3992" y="4866"/>
                </a:cubicBezTo>
                <a:cubicBezTo>
                  <a:pt x="4044" y="5094"/>
                  <a:pt x="4056" y="5316"/>
                  <a:pt x="4069" y="5543"/>
                </a:cubicBezTo>
                <a:cubicBezTo>
                  <a:pt x="4082" y="5770"/>
                  <a:pt x="4069" y="5998"/>
                  <a:pt x="4069" y="6225"/>
                </a:cubicBezTo>
                <a:cubicBezTo>
                  <a:pt x="4069" y="6453"/>
                  <a:pt x="4069" y="6675"/>
                  <a:pt x="4069" y="6902"/>
                </a:cubicBezTo>
                <a:cubicBezTo>
                  <a:pt x="4069" y="7129"/>
                  <a:pt x="4069" y="7357"/>
                  <a:pt x="4069" y="7584"/>
                </a:cubicBezTo>
                <a:cubicBezTo>
                  <a:pt x="4069" y="7812"/>
                  <a:pt x="4069" y="8033"/>
                  <a:pt x="4069" y="8261"/>
                </a:cubicBezTo>
                <a:cubicBezTo>
                  <a:pt x="4069" y="8488"/>
                  <a:pt x="4069" y="8693"/>
                  <a:pt x="4069" y="8943"/>
                </a:cubicBezTo>
                <a:cubicBezTo>
                  <a:pt x="4069" y="9193"/>
                  <a:pt x="4095" y="9506"/>
                  <a:pt x="4069" y="9756"/>
                </a:cubicBezTo>
                <a:cubicBezTo>
                  <a:pt x="4044" y="10006"/>
                  <a:pt x="3954" y="10211"/>
                  <a:pt x="3916" y="10438"/>
                </a:cubicBezTo>
                <a:cubicBezTo>
                  <a:pt x="3877" y="10666"/>
                  <a:pt x="3893" y="10888"/>
                  <a:pt x="3842" y="11115"/>
                </a:cubicBezTo>
                <a:cubicBezTo>
                  <a:pt x="3791" y="11342"/>
                  <a:pt x="3676" y="11564"/>
                  <a:pt x="3612" y="11792"/>
                </a:cubicBezTo>
                <a:cubicBezTo>
                  <a:pt x="3548" y="12019"/>
                  <a:pt x="3523" y="12247"/>
                  <a:pt x="3459" y="12474"/>
                </a:cubicBezTo>
                <a:cubicBezTo>
                  <a:pt x="3395" y="12701"/>
                  <a:pt x="3306" y="12923"/>
                  <a:pt x="3229" y="13151"/>
                </a:cubicBezTo>
                <a:cubicBezTo>
                  <a:pt x="3152" y="13378"/>
                  <a:pt x="3079" y="13605"/>
                  <a:pt x="3002" y="13833"/>
                </a:cubicBezTo>
                <a:cubicBezTo>
                  <a:pt x="2925" y="14060"/>
                  <a:pt x="2862" y="14282"/>
                  <a:pt x="2772" y="14509"/>
                </a:cubicBezTo>
                <a:cubicBezTo>
                  <a:pt x="2683" y="14737"/>
                  <a:pt x="2568" y="14964"/>
                  <a:pt x="2466" y="15192"/>
                </a:cubicBezTo>
                <a:cubicBezTo>
                  <a:pt x="2363" y="15419"/>
                  <a:pt x="2277" y="15641"/>
                  <a:pt x="2162" y="15868"/>
                </a:cubicBezTo>
                <a:cubicBezTo>
                  <a:pt x="2047" y="16096"/>
                  <a:pt x="1894" y="16323"/>
                  <a:pt x="1779" y="16551"/>
                </a:cubicBezTo>
                <a:cubicBezTo>
                  <a:pt x="1664" y="16778"/>
                  <a:pt x="1590" y="17023"/>
                  <a:pt x="1475" y="17227"/>
                </a:cubicBezTo>
                <a:cubicBezTo>
                  <a:pt x="1360" y="17432"/>
                  <a:pt x="1207" y="17546"/>
                  <a:pt x="1092" y="17773"/>
                </a:cubicBezTo>
                <a:cubicBezTo>
                  <a:pt x="977" y="18000"/>
                  <a:pt x="878" y="18336"/>
                  <a:pt x="788" y="18586"/>
                </a:cubicBezTo>
                <a:cubicBezTo>
                  <a:pt x="699" y="18836"/>
                  <a:pt x="648" y="19041"/>
                  <a:pt x="559" y="19268"/>
                </a:cubicBezTo>
                <a:cubicBezTo>
                  <a:pt x="469" y="19496"/>
                  <a:pt x="344" y="19718"/>
                  <a:pt x="255" y="19945"/>
                </a:cubicBezTo>
                <a:cubicBezTo>
                  <a:pt x="166" y="20172"/>
                  <a:pt x="0" y="20468"/>
                  <a:pt x="25" y="20627"/>
                </a:cubicBezTo>
                <a:cubicBezTo>
                  <a:pt x="51" y="20786"/>
                  <a:pt x="277" y="20849"/>
                  <a:pt x="405" y="20894"/>
                </a:cubicBezTo>
                <a:cubicBezTo>
                  <a:pt x="533" y="20940"/>
                  <a:pt x="661" y="20894"/>
                  <a:pt x="788" y="20894"/>
                </a:cubicBezTo>
                <a:cubicBezTo>
                  <a:pt x="916" y="20894"/>
                  <a:pt x="1041" y="20894"/>
                  <a:pt x="1169" y="20894"/>
                </a:cubicBezTo>
                <a:cubicBezTo>
                  <a:pt x="1296" y="20894"/>
                  <a:pt x="1424" y="20894"/>
                  <a:pt x="1552" y="20894"/>
                </a:cubicBezTo>
                <a:cubicBezTo>
                  <a:pt x="1680" y="20894"/>
                  <a:pt x="1804" y="20894"/>
                  <a:pt x="1932" y="20894"/>
                </a:cubicBezTo>
                <a:cubicBezTo>
                  <a:pt x="2060" y="20894"/>
                  <a:pt x="2188" y="20894"/>
                  <a:pt x="2315" y="20894"/>
                </a:cubicBezTo>
                <a:cubicBezTo>
                  <a:pt x="2443" y="20894"/>
                  <a:pt x="2555" y="20872"/>
                  <a:pt x="2696" y="20894"/>
                </a:cubicBezTo>
                <a:cubicBezTo>
                  <a:pt x="2836" y="20917"/>
                  <a:pt x="2999" y="21008"/>
                  <a:pt x="3152" y="21031"/>
                </a:cubicBezTo>
                <a:cubicBezTo>
                  <a:pt x="3306" y="21054"/>
                  <a:pt x="3472" y="21031"/>
                  <a:pt x="3612" y="21031"/>
                </a:cubicBezTo>
                <a:cubicBezTo>
                  <a:pt x="3753" y="21031"/>
                  <a:pt x="3865" y="21031"/>
                  <a:pt x="3992" y="21031"/>
                </a:cubicBezTo>
                <a:cubicBezTo>
                  <a:pt x="4120" y="21031"/>
                  <a:pt x="4248" y="21031"/>
                  <a:pt x="4376" y="21031"/>
                </a:cubicBezTo>
                <a:cubicBezTo>
                  <a:pt x="4503" y="21031"/>
                  <a:pt x="4628" y="21031"/>
                  <a:pt x="4756" y="21031"/>
                </a:cubicBezTo>
                <a:cubicBezTo>
                  <a:pt x="4884" y="21031"/>
                  <a:pt x="5011" y="21031"/>
                  <a:pt x="5139" y="21031"/>
                </a:cubicBezTo>
                <a:cubicBezTo>
                  <a:pt x="5267" y="21031"/>
                  <a:pt x="5392" y="21031"/>
                  <a:pt x="5519" y="21031"/>
                </a:cubicBezTo>
                <a:cubicBezTo>
                  <a:pt x="5647" y="21031"/>
                  <a:pt x="5775" y="21031"/>
                  <a:pt x="5903" y="21031"/>
                </a:cubicBezTo>
                <a:cubicBezTo>
                  <a:pt x="6030" y="21031"/>
                  <a:pt x="6155" y="21031"/>
                  <a:pt x="6283" y="21031"/>
                </a:cubicBezTo>
                <a:cubicBezTo>
                  <a:pt x="6411" y="21031"/>
                  <a:pt x="6538" y="21031"/>
                  <a:pt x="6666" y="21031"/>
                </a:cubicBezTo>
                <a:cubicBezTo>
                  <a:pt x="6794" y="21031"/>
                  <a:pt x="6918" y="21031"/>
                  <a:pt x="7046" y="21031"/>
                </a:cubicBezTo>
                <a:cubicBezTo>
                  <a:pt x="7174" y="21031"/>
                  <a:pt x="7276" y="20985"/>
                  <a:pt x="7429" y="21031"/>
                </a:cubicBezTo>
                <a:cubicBezTo>
                  <a:pt x="7583" y="21076"/>
                  <a:pt x="7810" y="21258"/>
                  <a:pt x="7963" y="21304"/>
                </a:cubicBezTo>
                <a:cubicBezTo>
                  <a:pt x="8116" y="21349"/>
                  <a:pt x="8215" y="21304"/>
                  <a:pt x="8343" y="21304"/>
                </a:cubicBezTo>
                <a:cubicBezTo>
                  <a:pt x="8471" y="21304"/>
                  <a:pt x="8599" y="21304"/>
                  <a:pt x="8726" y="21304"/>
                </a:cubicBezTo>
                <a:cubicBezTo>
                  <a:pt x="8854" y="21304"/>
                  <a:pt x="8979" y="21304"/>
                  <a:pt x="9107" y="21304"/>
                </a:cubicBezTo>
                <a:cubicBezTo>
                  <a:pt x="9234" y="21304"/>
                  <a:pt x="9362" y="21304"/>
                  <a:pt x="9490" y="21304"/>
                </a:cubicBezTo>
                <a:cubicBezTo>
                  <a:pt x="9618" y="21304"/>
                  <a:pt x="9742" y="21304"/>
                  <a:pt x="9870" y="21304"/>
                </a:cubicBezTo>
                <a:cubicBezTo>
                  <a:pt x="9998" y="21304"/>
                  <a:pt x="10125" y="21304"/>
                  <a:pt x="10253" y="21304"/>
                </a:cubicBezTo>
                <a:cubicBezTo>
                  <a:pt x="10381" y="21304"/>
                  <a:pt x="10506" y="21304"/>
                  <a:pt x="10633" y="21304"/>
                </a:cubicBezTo>
                <a:cubicBezTo>
                  <a:pt x="10761" y="21304"/>
                  <a:pt x="10863" y="21304"/>
                  <a:pt x="11017" y="21304"/>
                </a:cubicBezTo>
                <a:cubicBezTo>
                  <a:pt x="11170" y="21304"/>
                  <a:pt x="11384" y="21281"/>
                  <a:pt x="11550" y="21304"/>
                </a:cubicBezTo>
                <a:cubicBezTo>
                  <a:pt x="11716" y="21327"/>
                  <a:pt x="11866" y="21418"/>
                  <a:pt x="12007" y="21440"/>
                </a:cubicBezTo>
                <a:cubicBezTo>
                  <a:pt x="12148" y="21463"/>
                  <a:pt x="12262" y="21440"/>
                  <a:pt x="12390" y="21440"/>
                </a:cubicBezTo>
                <a:cubicBezTo>
                  <a:pt x="12518" y="21440"/>
                  <a:pt x="12643" y="21440"/>
                  <a:pt x="12770" y="21440"/>
                </a:cubicBezTo>
                <a:cubicBezTo>
                  <a:pt x="12898" y="21440"/>
                  <a:pt x="13013" y="21440"/>
                  <a:pt x="13154" y="21440"/>
                </a:cubicBezTo>
                <a:cubicBezTo>
                  <a:pt x="13294" y="21440"/>
                  <a:pt x="13470" y="21440"/>
                  <a:pt x="13611" y="21440"/>
                </a:cubicBezTo>
                <a:cubicBezTo>
                  <a:pt x="13751" y="21440"/>
                  <a:pt x="13850" y="21418"/>
                  <a:pt x="13991" y="21440"/>
                </a:cubicBezTo>
                <a:cubicBezTo>
                  <a:pt x="14131" y="21463"/>
                  <a:pt x="14310" y="21554"/>
                  <a:pt x="14451" y="21577"/>
                </a:cubicBezTo>
                <a:cubicBezTo>
                  <a:pt x="14591" y="21600"/>
                  <a:pt x="14703" y="21577"/>
                  <a:pt x="14831" y="21577"/>
                </a:cubicBezTo>
                <a:cubicBezTo>
                  <a:pt x="14959" y="21577"/>
                  <a:pt x="15086" y="21577"/>
                  <a:pt x="15214" y="21577"/>
                </a:cubicBezTo>
                <a:cubicBezTo>
                  <a:pt x="15342" y="21577"/>
                  <a:pt x="15466" y="21577"/>
                  <a:pt x="15594" y="21577"/>
                </a:cubicBezTo>
                <a:cubicBezTo>
                  <a:pt x="15722" y="21577"/>
                  <a:pt x="15850" y="21577"/>
                  <a:pt x="15977" y="21577"/>
                </a:cubicBezTo>
                <a:cubicBezTo>
                  <a:pt x="16105" y="21577"/>
                  <a:pt x="16230" y="21577"/>
                  <a:pt x="16358" y="21577"/>
                </a:cubicBezTo>
                <a:cubicBezTo>
                  <a:pt x="16485" y="21577"/>
                  <a:pt x="16613" y="21600"/>
                  <a:pt x="16741" y="21577"/>
                </a:cubicBezTo>
                <a:cubicBezTo>
                  <a:pt x="16869" y="21554"/>
                  <a:pt x="16993" y="21509"/>
                  <a:pt x="17121" y="21440"/>
                </a:cubicBezTo>
                <a:cubicBezTo>
                  <a:pt x="17249" y="21372"/>
                  <a:pt x="17377" y="21258"/>
                  <a:pt x="17504" y="21167"/>
                </a:cubicBezTo>
                <a:cubicBezTo>
                  <a:pt x="17632" y="21076"/>
                  <a:pt x="17757" y="20963"/>
                  <a:pt x="17885" y="20894"/>
                </a:cubicBezTo>
                <a:cubicBezTo>
                  <a:pt x="18012" y="20826"/>
                  <a:pt x="18137" y="20804"/>
                  <a:pt x="18265" y="20758"/>
                </a:cubicBezTo>
                <a:cubicBezTo>
                  <a:pt x="18392" y="20713"/>
                  <a:pt x="18520" y="20695"/>
                  <a:pt x="18648" y="20627"/>
                </a:cubicBezTo>
                <a:cubicBezTo>
                  <a:pt x="18776" y="20559"/>
                  <a:pt x="18926" y="20514"/>
                  <a:pt x="19028" y="20354"/>
                </a:cubicBezTo>
                <a:cubicBezTo>
                  <a:pt x="19130" y="20195"/>
                  <a:pt x="19194" y="19899"/>
                  <a:pt x="19258" y="19672"/>
                </a:cubicBezTo>
                <a:cubicBezTo>
                  <a:pt x="19322" y="19445"/>
                  <a:pt x="19360" y="19223"/>
                  <a:pt x="19411" y="18995"/>
                </a:cubicBezTo>
                <a:cubicBezTo>
                  <a:pt x="19462" y="18768"/>
                  <a:pt x="19526" y="18541"/>
                  <a:pt x="19565" y="18313"/>
                </a:cubicBezTo>
                <a:cubicBezTo>
                  <a:pt x="19603" y="18086"/>
                  <a:pt x="19616" y="17864"/>
                  <a:pt x="19641" y="17637"/>
                </a:cubicBezTo>
                <a:cubicBezTo>
                  <a:pt x="19667" y="17409"/>
                  <a:pt x="19702" y="17204"/>
                  <a:pt x="19715" y="16954"/>
                </a:cubicBezTo>
                <a:cubicBezTo>
                  <a:pt x="19728" y="16704"/>
                  <a:pt x="19715" y="16391"/>
                  <a:pt x="19715" y="16141"/>
                </a:cubicBezTo>
                <a:cubicBezTo>
                  <a:pt x="19715" y="15891"/>
                  <a:pt x="19715" y="15692"/>
                  <a:pt x="19715" y="15465"/>
                </a:cubicBezTo>
                <a:cubicBezTo>
                  <a:pt x="19715" y="15237"/>
                  <a:pt x="19715" y="15033"/>
                  <a:pt x="19715" y="14782"/>
                </a:cubicBezTo>
                <a:cubicBezTo>
                  <a:pt x="19715" y="14532"/>
                  <a:pt x="19715" y="14265"/>
                  <a:pt x="19715" y="13969"/>
                </a:cubicBezTo>
                <a:cubicBezTo>
                  <a:pt x="19715" y="13674"/>
                  <a:pt x="19715" y="13287"/>
                  <a:pt x="19715" y="13014"/>
                </a:cubicBezTo>
                <a:cubicBezTo>
                  <a:pt x="19715" y="12741"/>
                  <a:pt x="19715" y="12565"/>
                  <a:pt x="19715" y="12337"/>
                </a:cubicBezTo>
                <a:cubicBezTo>
                  <a:pt x="19715" y="12110"/>
                  <a:pt x="19702" y="11911"/>
                  <a:pt x="19715" y="11661"/>
                </a:cubicBezTo>
                <a:cubicBezTo>
                  <a:pt x="19728" y="11411"/>
                  <a:pt x="19779" y="11092"/>
                  <a:pt x="19792" y="10842"/>
                </a:cubicBezTo>
                <a:cubicBezTo>
                  <a:pt x="19804" y="10592"/>
                  <a:pt x="19792" y="10393"/>
                  <a:pt x="19792" y="10166"/>
                </a:cubicBezTo>
                <a:cubicBezTo>
                  <a:pt x="19792" y="9938"/>
                  <a:pt x="19792" y="9733"/>
                  <a:pt x="19792" y="9483"/>
                </a:cubicBezTo>
                <a:cubicBezTo>
                  <a:pt x="19792" y="9233"/>
                  <a:pt x="19792" y="8920"/>
                  <a:pt x="19792" y="8670"/>
                </a:cubicBezTo>
                <a:cubicBezTo>
                  <a:pt x="19792" y="8420"/>
                  <a:pt x="19779" y="8238"/>
                  <a:pt x="19792" y="7988"/>
                </a:cubicBezTo>
                <a:cubicBezTo>
                  <a:pt x="19804" y="7738"/>
                  <a:pt x="19804" y="7448"/>
                  <a:pt x="19868" y="7175"/>
                </a:cubicBezTo>
                <a:cubicBezTo>
                  <a:pt x="19932" y="6902"/>
                  <a:pt x="20098" y="6612"/>
                  <a:pt x="20175" y="6362"/>
                </a:cubicBezTo>
                <a:cubicBezTo>
                  <a:pt x="20251" y="6112"/>
                  <a:pt x="20264" y="5907"/>
                  <a:pt x="20328" y="5680"/>
                </a:cubicBezTo>
                <a:cubicBezTo>
                  <a:pt x="20392" y="5452"/>
                  <a:pt x="20504" y="5230"/>
                  <a:pt x="20555" y="5003"/>
                </a:cubicBezTo>
                <a:cubicBezTo>
                  <a:pt x="20606" y="4775"/>
                  <a:pt x="20581" y="4548"/>
                  <a:pt x="20632" y="4321"/>
                </a:cubicBezTo>
                <a:cubicBezTo>
                  <a:pt x="20683" y="4093"/>
                  <a:pt x="20785" y="3894"/>
                  <a:pt x="20862" y="3644"/>
                </a:cubicBezTo>
                <a:cubicBezTo>
                  <a:pt x="20938" y="3394"/>
                  <a:pt x="21028" y="3075"/>
                  <a:pt x="21092" y="2825"/>
                </a:cubicBezTo>
                <a:cubicBezTo>
                  <a:pt x="21155" y="2575"/>
                  <a:pt x="21191" y="2376"/>
                  <a:pt x="21242" y="2149"/>
                </a:cubicBezTo>
                <a:cubicBezTo>
                  <a:pt x="21293" y="1921"/>
                  <a:pt x="21357" y="1700"/>
                  <a:pt x="21395" y="1472"/>
                </a:cubicBezTo>
                <a:cubicBezTo>
                  <a:pt x="21433" y="1245"/>
                  <a:pt x="21446" y="1017"/>
                  <a:pt x="21472" y="790"/>
                </a:cubicBezTo>
                <a:cubicBezTo>
                  <a:pt x="21497" y="562"/>
                  <a:pt x="21600" y="227"/>
                  <a:pt x="21548" y="113"/>
                </a:cubicBezTo>
                <a:cubicBezTo>
                  <a:pt x="21497" y="0"/>
                  <a:pt x="21293" y="90"/>
                  <a:pt x="21165" y="113"/>
                </a:cubicBezTo>
                <a:cubicBezTo>
                  <a:pt x="21037" y="136"/>
                  <a:pt x="20913" y="221"/>
                  <a:pt x="20785" y="244"/>
                </a:cubicBezTo>
                <a:cubicBezTo>
                  <a:pt x="20657" y="267"/>
                  <a:pt x="20529" y="244"/>
                  <a:pt x="20402" y="244"/>
                </a:cubicBezTo>
                <a:cubicBezTo>
                  <a:pt x="20274" y="244"/>
                  <a:pt x="20149" y="244"/>
                  <a:pt x="20022" y="244"/>
                </a:cubicBezTo>
                <a:cubicBezTo>
                  <a:pt x="19894" y="244"/>
                  <a:pt x="19769" y="244"/>
                  <a:pt x="19641" y="244"/>
                </a:cubicBezTo>
                <a:cubicBezTo>
                  <a:pt x="19514" y="244"/>
                  <a:pt x="19386" y="244"/>
                  <a:pt x="19258" y="244"/>
                </a:cubicBezTo>
                <a:cubicBezTo>
                  <a:pt x="19130" y="244"/>
                  <a:pt x="19018" y="244"/>
                  <a:pt x="18878" y="244"/>
                </a:cubicBezTo>
                <a:cubicBezTo>
                  <a:pt x="18737" y="244"/>
                  <a:pt x="18559" y="244"/>
                  <a:pt x="18418" y="244"/>
                </a:cubicBezTo>
                <a:cubicBezTo>
                  <a:pt x="18277" y="244"/>
                  <a:pt x="18166" y="244"/>
                  <a:pt x="18038" y="244"/>
                </a:cubicBezTo>
                <a:cubicBezTo>
                  <a:pt x="17910" y="244"/>
                  <a:pt x="17782" y="244"/>
                  <a:pt x="17655" y="244"/>
                </a:cubicBezTo>
                <a:cubicBezTo>
                  <a:pt x="17527" y="244"/>
                  <a:pt x="17402" y="244"/>
                  <a:pt x="17274" y="244"/>
                </a:cubicBezTo>
                <a:cubicBezTo>
                  <a:pt x="17147" y="244"/>
                  <a:pt x="17032" y="244"/>
                  <a:pt x="16891" y="244"/>
                </a:cubicBezTo>
                <a:cubicBezTo>
                  <a:pt x="16751" y="244"/>
                  <a:pt x="16575" y="244"/>
                  <a:pt x="16434" y="244"/>
                </a:cubicBezTo>
                <a:cubicBezTo>
                  <a:pt x="16294" y="244"/>
                  <a:pt x="16182" y="221"/>
                  <a:pt x="16054" y="244"/>
                </a:cubicBezTo>
                <a:cubicBezTo>
                  <a:pt x="15926" y="267"/>
                  <a:pt x="15799" y="335"/>
                  <a:pt x="15671" y="380"/>
                </a:cubicBezTo>
                <a:cubicBezTo>
                  <a:pt x="15543" y="426"/>
                  <a:pt x="15418" y="494"/>
                  <a:pt x="15291" y="517"/>
                </a:cubicBezTo>
                <a:cubicBezTo>
                  <a:pt x="15163" y="540"/>
                  <a:pt x="15035" y="449"/>
                  <a:pt x="14907" y="517"/>
                </a:cubicBezTo>
                <a:cubicBezTo>
                  <a:pt x="14780" y="585"/>
                  <a:pt x="14655" y="790"/>
                  <a:pt x="14527" y="926"/>
                </a:cubicBezTo>
                <a:cubicBezTo>
                  <a:pt x="14400" y="1063"/>
                  <a:pt x="14272" y="1176"/>
                  <a:pt x="14144" y="1336"/>
                </a:cubicBezTo>
                <a:cubicBezTo>
                  <a:pt x="14016" y="1495"/>
                  <a:pt x="13904" y="1717"/>
                  <a:pt x="13764" y="1876"/>
                </a:cubicBezTo>
                <a:cubicBezTo>
                  <a:pt x="13623" y="2035"/>
                  <a:pt x="13444" y="2171"/>
                  <a:pt x="13304" y="2285"/>
                </a:cubicBezTo>
                <a:cubicBezTo>
                  <a:pt x="13163" y="2399"/>
                  <a:pt x="13051" y="2490"/>
                  <a:pt x="12924" y="2558"/>
                </a:cubicBezTo>
                <a:cubicBezTo>
                  <a:pt x="12796" y="2626"/>
                  <a:pt x="12668" y="2672"/>
                  <a:pt x="12540" y="2695"/>
                </a:cubicBezTo>
                <a:cubicBezTo>
                  <a:pt x="12413" y="2717"/>
                  <a:pt x="12288" y="2695"/>
                  <a:pt x="12160" y="2695"/>
                </a:cubicBezTo>
                <a:cubicBezTo>
                  <a:pt x="12033" y="2695"/>
                  <a:pt x="11905" y="2695"/>
                  <a:pt x="11777" y="2695"/>
                </a:cubicBezTo>
                <a:cubicBezTo>
                  <a:pt x="11649" y="2695"/>
                  <a:pt x="11525" y="2695"/>
                  <a:pt x="11397" y="2695"/>
                </a:cubicBezTo>
                <a:cubicBezTo>
                  <a:pt x="11269" y="2695"/>
                  <a:pt x="11144" y="2695"/>
                  <a:pt x="11017" y="2695"/>
                </a:cubicBezTo>
                <a:cubicBezTo>
                  <a:pt x="10889" y="2695"/>
                  <a:pt x="10774" y="2695"/>
                  <a:pt x="10633" y="2695"/>
                </a:cubicBezTo>
                <a:cubicBezTo>
                  <a:pt x="10493" y="2695"/>
                  <a:pt x="10317" y="2695"/>
                  <a:pt x="10177" y="2695"/>
                </a:cubicBezTo>
                <a:cubicBezTo>
                  <a:pt x="10036" y="2695"/>
                  <a:pt x="9921" y="2695"/>
                  <a:pt x="9793" y="2695"/>
                </a:cubicBezTo>
                <a:cubicBezTo>
                  <a:pt x="9666" y="2695"/>
                  <a:pt x="9541" y="2695"/>
                  <a:pt x="9413" y="2695"/>
                </a:cubicBezTo>
                <a:cubicBezTo>
                  <a:pt x="9285" y="2695"/>
                  <a:pt x="9158" y="2695"/>
                  <a:pt x="9030" y="2695"/>
                </a:cubicBezTo>
                <a:cubicBezTo>
                  <a:pt x="8902" y="2695"/>
                  <a:pt x="8777" y="2695"/>
                  <a:pt x="8650" y="2695"/>
                </a:cubicBezTo>
                <a:cubicBezTo>
                  <a:pt x="8522" y="2695"/>
                  <a:pt x="8394" y="2695"/>
                  <a:pt x="8266" y="2695"/>
                </a:cubicBezTo>
                <a:cubicBezTo>
                  <a:pt x="8139" y="2695"/>
                  <a:pt x="8014" y="2695"/>
                  <a:pt x="7886" y="2695"/>
                </a:cubicBezTo>
                <a:cubicBezTo>
                  <a:pt x="7759" y="2695"/>
                  <a:pt x="7644" y="2695"/>
                  <a:pt x="7503" y="2695"/>
                </a:cubicBezTo>
                <a:cubicBezTo>
                  <a:pt x="7362" y="2695"/>
                  <a:pt x="7187" y="2695"/>
                  <a:pt x="7046" y="2695"/>
                </a:cubicBezTo>
                <a:cubicBezTo>
                  <a:pt x="6906" y="2695"/>
                  <a:pt x="6794" y="2695"/>
                  <a:pt x="6666" y="2695"/>
                </a:cubicBezTo>
                <a:cubicBezTo>
                  <a:pt x="6538" y="2695"/>
                  <a:pt x="6411" y="2695"/>
                  <a:pt x="6283" y="2695"/>
                </a:cubicBezTo>
                <a:cubicBezTo>
                  <a:pt x="6155" y="2695"/>
                  <a:pt x="6043" y="2695"/>
                  <a:pt x="5903" y="2695"/>
                </a:cubicBezTo>
                <a:cubicBezTo>
                  <a:pt x="5762" y="2695"/>
                  <a:pt x="5596" y="2695"/>
                  <a:pt x="5443" y="2695"/>
                </a:cubicBezTo>
                <a:cubicBezTo>
                  <a:pt x="5289" y="2695"/>
                  <a:pt x="5126" y="2695"/>
                  <a:pt x="4986" y="2695"/>
                </a:cubicBezTo>
                <a:cubicBezTo>
                  <a:pt x="4845" y="2695"/>
                  <a:pt x="4730" y="2695"/>
                  <a:pt x="4603" y="2695"/>
                </a:cubicBezTo>
                <a:cubicBezTo>
                  <a:pt x="4475" y="2695"/>
                  <a:pt x="4350" y="2695"/>
                  <a:pt x="4222" y="2695"/>
                </a:cubicBezTo>
                <a:cubicBezTo>
                  <a:pt x="4095" y="2695"/>
                  <a:pt x="3970" y="2717"/>
                  <a:pt x="3842" y="2695"/>
                </a:cubicBezTo>
                <a:cubicBezTo>
                  <a:pt x="3714" y="2672"/>
                  <a:pt x="3587" y="2604"/>
                  <a:pt x="3459" y="2558"/>
                </a:cubicBezTo>
                <a:cubicBezTo>
                  <a:pt x="3331" y="2513"/>
                  <a:pt x="3207" y="2467"/>
                  <a:pt x="3079" y="2422"/>
                </a:cubicBezTo>
                <a:cubicBezTo>
                  <a:pt x="2951" y="2376"/>
                  <a:pt x="2696" y="2285"/>
                  <a:pt x="2696" y="2285"/>
                </a:cubicBezTo>
                <a:cubicBezTo>
                  <a:pt x="2696" y="2285"/>
                  <a:pt x="2964" y="2285"/>
                  <a:pt x="3079" y="2422"/>
                </a:cubicBezTo>
                <a:cubicBezTo>
                  <a:pt x="3194" y="2558"/>
                  <a:pt x="3331" y="2871"/>
                  <a:pt x="3382" y="3098"/>
                </a:cubicBezTo>
                <a:cubicBezTo>
                  <a:pt x="3433" y="3326"/>
                  <a:pt x="3344" y="3553"/>
                  <a:pt x="3382" y="3780"/>
                </a:cubicBezTo>
                <a:cubicBezTo>
                  <a:pt x="3421" y="4008"/>
                  <a:pt x="3574" y="4343"/>
                  <a:pt x="3612" y="44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未知"/>
          <p:cNvSpPr/>
          <p:nvPr/>
        </p:nvSpPr>
        <p:spPr>
          <a:xfrm>
            <a:off x="6031080" y="4181400"/>
            <a:ext cx="528480" cy="31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81" y="0"/>
                </a:moveTo>
                <a:cubicBezTo>
                  <a:pt x="21081" y="860"/>
                  <a:pt x="21600" y="3571"/>
                  <a:pt x="21081" y="5120"/>
                </a:cubicBezTo>
                <a:cubicBezTo>
                  <a:pt x="20562" y="6669"/>
                  <a:pt x="19006" y="8562"/>
                  <a:pt x="17969" y="9250"/>
                </a:cubicBezTo>
                <a:cubicBezTo>
                  <a:pt x="16932" y="9939"/>
                  <a:pt x="15921" y="9250"/>
                  <a:pt x="14884" y="9250"/>
                </a:cubicBezTo>
                <a:cubicBezTo>
                  <a:pt x="13846" y="9250"/>
                  <a:pt x="12809" y="8906"/>
                  <a:pt x="11772" y="9250"/>
                </a:cubicBezTo>
                <a:cubicBezTo>
                  <a:pt x="10735" y="9595"/>
                  <a:pt x="9723" y="10627"/>
                  <a:pt x="8686" y="11316"/>
                </a:cubicBezTo>
                <a:cubicBezTo>
                  <a:pt x="7649" y="12004"/>
                  <a:pt x="6612" y="12521"/>
                  <a:pt x="5575" y="13381"/>
                </a:cubicBezTo>
                <a:cubicBezTo>
                  <a:pt x="4537" y="14242"/>
                  <a:pt x="3422" y="15059"/>
                  <a:pt x="2489" y="16436"/>
                </a:cubicBezTo>
                <a:cubicBezTo>
                  <a:pt x="1555" y="17813"/>
                  <a:pt x="414" y="20739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未知"/>
          <p:cNvSpPr/>
          <p:nvPr/>
        </p:nvSpPr>
        <p:spPr>
          <a:xfrm>
            <a:off x="7047000" y="4197240"/>
            <a:ext cx="419040" cy="11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2" y="2468"/>
                  <a:pt x="2889" y="11232"/>
                  <a:pt x="4334" y="14688"/>
                </a:cubicBezTo>
                <a:cubicBezTo>
                  <a:pt x="5779" y="18144"/>
                  <a:pt x="7187" y="19625"/>
                  <a:pt x="8632" y="20612"/>
                </a:cubicBezTo>
                <a:cubicBezTo>
                  <a:pt x="10077" y="21600"/>
                  <a:pt x="11522" y="20612"/>
                  <a:pt x="12967" y="20612"/>
                </a:cubicBezTo>
                <a:cubicBezTo>
                  <a:pt x="14412" y="20612"/>
                  <a:pt x="15820" y="20612"/>
                  <a:pt x="17265" y="20612"/>
                </a:cubicBezTo>
                <a:cubicBezTo>
                  <a:pt x="18710" y="20612"/>
                  <a:pt x="20877" y="20612"/>
                  <a:pt x="21600" y="206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6012000" y="515772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经典行书简"/>
              </a:rPr>
              <a:t>求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15"/>
          <p:cNvSpPr/>
          <p:nvPr/>
        </p:nvSpPr>
        <p:spPr>
          <a:xfrm>
            <a:off x="5581800" y="5302080"/>
            <a:ext cx="358560" cy="432000"/>
          </a:xfrm>
          <a:custGeom>
            <a:avLst/>
            <a:gdLst/>
            <a:ahLst/>
            <a:rect l="l" t="t" r="r" b="b"/>
            <a:pathLst>
              <a:path w="697038" h="743699">
                <a:moveTo>
                  <a:pt x="75021" y="571699"/>
                </a:moveTo>
                <a:cubicBezTo>
                  <a:pt x="41683" y="476449"/>
                  <a:pt x="-34516" y="266899"/>
                  <a:pt x="17871" y="171649"/>
                </a:cubicBezTo>
                <a:cubicBezTo>
                  <a:pt x="70258" y="76399"/>
                  <a:pt x="277427" y="-4563"/>
                  <a:pt x="389346" y="199"/>
                </a:cubicBezTo>
                <a:cubicBezTo>
                  <a:pt x="501265" y="4961"/>
                  <a:pt x="656046" y="135930"/>
                  <a:pt x="689383" y="200224"/>
                </a:cubicBezTo>
                <a:cubicBezTo>
                  <a:pt x="722720" y="264518"/>
                  <a:pt x="639377" y="366911"/>
                  <a:pt x="589371" y="385961"/>
                </a:cubicBezTo>
                <a:cubicBezTo>
                  <a:pt x="539365" y="405011"/>
                  <a:pt x="386965" y="307380"/>
                  <a:pt x="389346" y="314524"/>
                </a:cubicBezTo>
                <a:cubicBezTo>
                  <a:pt x="391727" y="321668"/>
                  <a:pt x="584608" y="381199"/>
                  <a:pt x="603658" y="428824"/>
                </a:cubicBezTo>
                <a:cubicBezTo>
                  <a:pt x="622708" y="476449"/>
                  <a:pt x="563177" y="583605"/>
                  <a:pt x="503646" y="600274"/>
                </a:cubicBezTo>
                <a:cubicBezTo>
                  <a:pt x="444115" y="616943"/>
                  <a:pt x="270283" y="528836"/>
                  <a:pt x="246471" y="528836"/>
                </a:cubicBezTo>
                <a:cubicBezTo>
                  <a:pt x="222659" y="528836"/>
                  <a:pt x="365533" y="564555"/>
                  <a:pt x="360771" y="600274"/>
                </a:cubicBezTo>
                <a:cubicBezTo>
                  <a:pt x="356009" y="635993"/>
                  <a:pt x="265521" y="752674"/>
                  <a:pt x="217896" y="743149"/>
                </a:cubicBezTo>
                <a:cubicBezTo>
                  <a:pt x="170271" y="733624"/>
                  <a:pt x="108359" y="666949"/>
                  <a:pt x="75021" y="571699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任意多边形 16"/>
          <p:cNvSpPr/>
          <p:nvPr/>
        </p:nvSpPr>
        <p:spPr>
          <a:xfrm flipH="1">
            <a:off x="8099280" y="5157720"/>
            <a:ext cx="362160" cy="358920"/>
          </a:xfrm>
          <a:custGeom>
            <a:avLst/>
            <a:gdLst/>
            <a:ahLst/>
            <a:rect l="l" t="t" r="r" b="b"/>
            <a:pathLst>
              <a:path w="697038" h="743699">
                <a:moveTo>
                  <a:pt x="75021" y="571699"/>
                </a:moveTo>
                <a:cubicBezTo>
                  <a:pt x="41683" y="476449"/>
                  <a:pt x="-34516" y="266899"/>
                  <a:pt x="17871" y="171649"/>
                </a:cubicBezTo>
                <a:cubicBezTo>
                  <a:pt x="70258" y="76399"/>
                  <a:pt x="277427" y="-4563"/>
                  <a:pt x="389346" y="199"/>
                </a:cubicBezTo>
                <a:cubicBezTo>
                  <a:pt x="501265" y="4961"/>
                  <a:pt x="656046" y="135930"/>
                  <a:pt x="689383" y="200224"/>
                </a:cubicBezTo>
                <a:cubicBezTo>
                  <a:pt x="722720" y="264518"/>
                  <a:pt x="639377" y="366911"/>
                  <a:pt x="589371" y="385961"/>
                </a:cubicBezTo>
                <a:cubicBezTo>
                  <a:pt x="539365" y="405011"/>
                  <a:pt x="386965" y="307380"/>
                  <a:pt x="389346" y="314524"/>
                </a:cubicBezTo>
                <a:cubicBezTo>
                  <a:pt x="391727" y="321668"/>
                  <a:pt x="584608" y="381199"/>
                  <a:pt x="603658" y="428824"/>
                </a:cubicBezTo>
                <a:cubicBezTo>
                  <a:pt x="622708" y="476449"/>
                  <a:pt x="563177" y="583605"/>
                  <a:pt x="503646" y="600274"/>
                </a:cubicBezTo>
                <a:cubicBezTo>
                  <a:pt x="444115" y="616943"/>
                  <a:pt x="270283" y="528836"/>
                  <a:pt x="246471" y="528836"/>
                </a:cubicBezTo>
                <a:cubicBezTo>
                  <a:pt x="222659" y="528836"/>
                  <a:pt x="365533" y="564555"/>
                  <a:pt x="360771" y="600274"/>
                </a:cubicBezTo>
                <a:cubicBezTo>
                  <a:pt x="356009" y="635993"/>
                  <a:pt x="265521" y="752674"/>
                  <a:pt x="217896" y="743149"/>
                </a:cubicBezTo>
                <a:cubicBezTo>
                  <a:pt x="170271" y="733624"/>
                  <a:pt x="108359" y="666949"/>
                  <a:pt x="75021" y="571699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1044720" y="3286080"/>
            <a:ext cx="23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经典细圆简"/>
              </a:rPr>
              <a:t>我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未知"/>
          <p:cNvSpPr/>
          <p:nvPr/>
        </p:nvSpPr>
        <p:spPr>
          <a:xfrm>
            <a:off x="6732720" y="3213000"/>
            <a:ext cx="156960" cy="2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303" y="0"/>
                </a:moveTo>
                <a:cubicBezTo>
                  <a:pt x="13554" y="904"/>
                  <a:pt x="7345" y="3336"/>
                  <a:pt x="4897" y="5371"/>
                </a:cubicBezTo>
                <a:cubicBezTo>
                  <a:pt x="2448" y="7407"/>
                  <a:pt x="0" y="9895"/>
                  <a:pt x="699" y="12157"/>
                </a:cubicBezTo>
                <a:cubicBezTo>
                  <a:pt x="1399" y="14418"/>
                  <a:pt x="5509" y="17302"/>
                  <a:pt x="9007" y="18885"/>
                </a:cubicBezTo>
                <a:cubicBezTo>
                  <a:pt x="12505" y="20469"/>
                  <a:pt x="19501" y="21147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6445080" y="587700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 wanna the 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7904160" y="6450120"/>
            <a:ext cx="12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971640" y="1917720"/>
            <a:ext cx="363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经典细圆简"/>
              </a:rPr>
              <a:t>我不是艺术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经典细圆简"/>
              </a:rPr>
              <a:t>也不是文科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经典细圆简"/>
              </a:rPr>
              <a:t>而是悲哀的理科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经典细圆简"/>
              </a:rPr>
              <a:t>但是现在的我跟数理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经典细圆简"/>
              </a:rPr>
              <a:t>半毛钱关系没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971640" y="44370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经典细圆简"/>
                <a:ea typeface="经典细圆简"/>
              </a:rPr>
              <a:t>因为现在——我是广告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221440" y="3618000"/>
            <a:ext cx="355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5" descr="未命名_副本"/>
          <p:cNvPicPr/>
          <p:nvPr/>
        </p:nvPicPr>
        <p:blipFill>
          <a:blip r:embed="rId1"/>
          <a:stretch/>
        </p:blipFill>
        <p:spPr>
          <a:xfrm>
            <a:off x="3637080" y="1270080"/>
            <a:ext cx="5932440" cy="395928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6"/>
          <p:cNvSpPr/>
          <p:nvPr/>
        </p:nvSpPr>
        <p:spPr>
          <a:xfrm>
            <a:off x="6012000" y="2421000"/>
            <a:ext cx="1296720" cy="1225440"/>
          </a:xfrm>
          <a:custGeom>
            <a:avLst/>
            <a:gdLst>
              <a:gd name="textAreaLeft" fmla="*/ 189720 w 1296720"/>
              <a:gd name="textAreaRight" fmla="*/ 1107000 w 1296720"/>
              <a:gd name="textAreaTop" fmla="*/ 179280 h 1225440"/>
              <a:gd name="textAreaBottom" fmla="*/ 10461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文科生"/>
          <p:cNvPicPr/>
          <p:nvPr/>
        </p:nvPicPr>
        <p:blipFill>
          <a:blip r:embed="rId2"/>
          <a:stretch/>
        </p:blipFill>
        <p:spPr>
          <a:xfrm>
            <a:off x="3635280" y="1197000"/>
            <a:ext cx="6037200" cy="4032360"/>
          </a:xfrm>
          <a:prstGeom prst="rect">
            <a:avLst/>
          </a:prstGeom>
          <a:ln w="0">
            <a:noFill/>
          </a:ln>
        </p:spPr>
      </p:pic>
      <p:sp>
        <p:nvSpPr>
          <p:cNvPr id="558" name="AutoShape 8"/>
          <p:cNvSpPr/>
          <p:nvPr/>
        </p:nvSpPr>
        <p:spPr>
          <a:xfrm>
            <a:off x="6084720" y="2421000"/>
            <a:ext cx="1297080" cy="1224000"/>
          </a:xfrm>
          <a:custGeom>
            <a:avLst/>
            <a:gdLst>
              <a:gd name="textAreaLeft" fmla="*/ 189720 w 1297080"/>
              <a:gd name="textAreaRight" fmla="*/ 1107360 w 1297080"/>
              <a:gd name="textAreaTop" fmla="*/ 179280 h 1224000"/>
              <a:gd name="textAreaBottom" fmla="*/ 10447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9" descr="理科生"/>
          <p:cNvPicPr/>
          <p:nvPr/>
        </p:nvPicPr>
        <p:blipFill>
          <a:blip r:embed="rId3"/>
          <a:stretch/>
        </p:blipFill>
        <p:spPr>
          <a:xfrm>
            <a:off x="3203640" y="909720"/>
            <a:ext cx="6688080" cy="4464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0" descr="广告人"/>
          <p:cNvPicPr/>
          <p:nvPr/>
        </p:nvPicPr>
        <p:blipFill>
          <a:blip r:embed="rId4"/>
          <a:stretch/>
        </p:blipFill>
        <p:spPr>
          <a:xfrm>
            <a:off x="2844720" y="981000"/>
            <a:ext cx="7008840" cy="468000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11"/>
          <p:cNvGrpSpPr/>
          <p:nvPr/>
        </p:nvGrpSpPr>
        <p:grpSpPr>
          <a:xfrm>
            <a:off x="5749920" y="4564080"/>
            <a:ext cx="921960" cy="2293920"/>
            <a:chOff x="5749920" y="4564080"/>
            <a:chExt cx="921960" cy="2293920"/>
          </a:xfrm>
        </p:grpSpPr>
        <p:sp>
          <p:nvSpPr>
            <p:cNvPr id="562" name="Oval 12"/>
            <p:cNvSpPr/>
            <p:nvPr/>
          </p:nvSpPr>
          <p:spPr>
            <a:xfrm rot="1320000">
              <a:off x="5900400" y="4646520"/>
              <a:ext cx="620640" cy="9255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5927040" y="5522040"/>
              <a:ext cx="65880" cy="60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107" y="451"/>
                    <a:pt x="9969" y="1784"/>
                    <a:pt x="6646" y="2688"/>
                  </a:cubicBezTo>
                  <a:cubicBezTo>
                    <a:pt x="3323" y="3592"/>
                    <a:pt x="2492" y="4496"/>
                    <a:pt x="1661" y="5400"/>
                  </a:cubicBezTo>
                  <a:cubicBezTo>
                    <a:pt x="830" y="6303"/>
                    <a:pt x="1661" y="7184"/>
                    <a:pt x="1661" y="8088"/>
                  </a:cubicBezTo>
                  <a:cubicBezTo>
                    <a:pt x="1661" y="8992"/>
                    <a:pt x="1661" y="9896"/>
                    <a:pt x="1661" y="10800"/>
                  </a:cubicBezTo>
                  <a:cubicBezTo>
                    <a:pt x="1661" y="11703"/>
                    <a:pt x="1661" y="12584"/>
                    <a:pt x="1661" y="13488"/>
                  </a:cubicBezTo>
                  <a:cubicBezTo>
                    <a:pt x="1661" y="14392"/>
                    <a:pt x="0" y="15296"/>
                    <a:pt x="1661" y="16200"/>
                  </a:cubicBezTo>
                  <a:cubicBezTo>
                    <a:pt x="3323" y="17103"/>
                    <a:pt x="8307" y="17984"/>
                    <a:pt x="11630" y="18888"/>
                  </a:cubicBezTo>
                  <a:cubicBezTo>
                    <a:pt x="14953" y="19792"/>
                    <a:pt x="19938" y="21148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6006600" y="6114600"/>
              <a:ext cx="92520" cy="74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" y="0"/>
                  </a:moveTo>
                  <a:cubicBezTo>
                    <a:pt x="1570" y="451"/>
                    <a:pt x="1570" y="1807"/>
                    <a:pt x="1570" y="2711"/>
                  </a:cubicBezTo>
                  <a:cubicBezTo>
                    <a:pt x="1570" y="3615"/>
                    <a:pt x="1570" y="4496"/>
                    <a:pt x="1570" y="5400"/>
                  </a:cubicBezTo>
                  <a:cubicBezTo>
                    <a:pt x="1570" y="6303"/>
                    <a:pt x="1570" y="7207"/>
                    <a:pt x="1570" y="8111"/>
                  </a:cubicBezTo>
                  <a:cubicBezTo>
                    <a:pt x="1570" y="9015"/>
                    <a:pt x="1570" y="9896"/>
                    <a:pt x="1570" y="10800"/>
                  </a:cubicBezTo>
                  <a:cubicBezTo>
                    <a:pt x="1570" y="11703"/>
                    <a:pt x="0" y="12607"/>
                    <a:pt x="1570" y="13511"/>
                  </a:cubicBezTo>
                  <a:cubicBezTo>
                    <a:pt x="3141" y="14415"/>
                    <a:pt x="7461" y="15296"/>
                    <a:pt x="10603" y="16200"/>
                  </a:cubicBezTo>
                  <a:cubicBezTo>
                    <a:pt x="13745" y="17103"/>
                    <a:pt x="18458" y="18007"/>
                    <a:pt x="20029" y="18911"/>
                  </a:cubicBezTo>
                  <a:cubicBezTo>
                    <a:pt x="21600" y="19815"/>
                    <a:pt x="20029" y="21148"/>
                    <a:pt x="20029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6023520" y="6143760"/>
              <a:ext cx="242640" cy="60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1353" y="451"/>
                    <a:pt x="6316" y="1807"/>
                    <a:pt x="8121" y="2711"/>
                  </a:cubicBezTo>
                  <a:cubicBezTo>
                    <a:pt x="9925" y="3615"/>
                    <a:pt x="10151" y="4496"/>
                    <a:pt x="10828" y="5400"/>
                  </a:cubicBezTo>
                  <a:cubicBezTo>
                    <a:pt x="11504" y="6303"/>
                    <a:pt x="11899" y="7207"/>
                    <a:pt x="12125" y="8111"/>
                  </a:cubicBezTo>
                  <a:cubicBezTo>
                    <a:pt x="12350" y="9015"/>
                    <a:pt x="12125" y="9896"/>
                    <a:pt x="12125" y="10800"/>
                  </a:cubicBezTo>
                  <a:cubicBezTo>
                    <a:pt x="12125" y="11703"/>
                    <a:pt x="11899" y="12607"/>
                    <a:pt x="12125" y="13511"/>
                  </a:cubicBezTo>
                  <a:cubicBezTo>
                    <a:pt x="12350" y="14415"/>
                    <a:pt x="12576" y="15296"/>
                    <a:pt x="13478" y="16200"/>
                  </a:cubicBezTo>
                  <a:cubicBezTo>
                    <a:pt x="14381" y="17103"/>
                    <a:pt x="16185" y="18007"/>
                    <a:pt x="17539" y="18911"/>
                  </a:cubicBezTo>
                  <a:cubicBezTo>
                    <a:pt x="18892" y="19815"/>
                    <a:pt x="20923" y="21148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6009120" y="5522040"/>
              <a:ext cx="166680" cy="62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452" y="602"/>
                    <a:pt x="1809" y="2379"/>
                    <a:pt x="2714" y="3584"/>
                  </a:cubicBezTo>
                  <a:cubicBezTo>
                    <a:pt x="3618" y="4789"/>
                    <a:pt x="4523" y="5994"/>
                    <a:pt x="5428" y="7200"/>
                  </a:cubicBezTo>
                  <a:cubicBezTo>
                    <a:pt x="6332" y="8405"/>
                    <a:pt x="7124" y="9579"/>
                    <a:pt x="8029" y="10784"/>
                  </a:cubicBezTo>
                  <a:cubicBezTo>
                    <a:pt x="8934" y="11989"/>
                    <a:pt x="9386" y="13194"/>
                    <a:pt x="10743" y="14400"/>
                  </a:cubicBezTo>
                  <a:cubicBezTo>
                    <a:pt x="12100" y="15605"/>
                    <a:pt x="14362" y="16779"/>
                    <a:pt x="16171" y="17984"/>
                  </a:cubicBezTo>
                  <a:cubicBezTo>
                    <a:pt x="17981" y="19189"/>
                    <a:pt x="20695" y="20997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6083640" y="5567760"/>
              <a:ext cx="257400" cy="56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962" y="753"/>
                    <a:pt x="3610" y="3279"/>
                    <a:pt x="5776" y="4485"/>
                  </a:cubicBezTo>
                  <a:cubicBezTo>
                    <a:pt x="7942" y="5692"/>
                    <a:pt x="11010" y="5993"/>
                    <a:pt x="12935" y="7200"/>
                  </a:cubicBezTo>
                  <a:cubicBezTo>
                    <a:pt x="14861" y="8406"/>
                    <a:pt x="16305" y="10178"/>
                    <a:pt x="17267" y="11685"/>
                  </a:cubicBezTo>
                  <a:cubicBezTo>
                    <a:pt x="18230" y="13193"/>
                    <a:pt x="17989" y="14550"/>
                    <a:pt x="18711" y="16209"/>
                  </a:cubicBezTo>
                  <a:cubicBezTo>
                    <a:pt x="19433" y="17868"/>
                    <a:pt x="21118" y="20695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6023520" y="4869360"/>
              <a:ext cx="226800" cy="136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1206" y="21200"/>
                    <a:pt x="4766" y="21200"/>
                    <a:pt x="7179" y="19200"/>
                  </a:cubicBezTo>
                  <a:cubicBezTo>
                    <a:pt x="9593" y="17200"/>
                    <a:pt x="12006" y="12800"/>
                    <a:pt x="14420" y="9600"/>
                  </a:cubicBezTo>
                  <a:cubicBezTo>
                    <a:pt x="16833" y="6400"/>
                    <a:pt x="20393" y="1600"/>
                    <a:pt x="21600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6402240" y="4884480"/>
              <a:ext cx="75240" cy="227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2178" y="1203"/>
                    <a:pt x="10164" y="4813"/>
                    <a:pt x="13068" y="7220"/>
                  </a:cubicBezTo>
                  <a:cubicBezTo>
                    <a:pt x="15973" y="9626"/>
                    <a:pt x="15973" y="11973"/>
                    <a:pt x="17425" y="14379"/>
                  </a:cubicBezTo>
                  <a:cubicBezTo>
                    <a:pt x="18877" y="16786"/>
                    <a:pt x="20873" y="20396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20"/>
            <p:cNvSpPr/>
            <p:nvPr/>
          </p:nvSpPr>
          <p:spPr>
            <a:xfrm rot="1260000">
              <a:off x="6056280" y="5127480"/>
              <a:ext cx="238680" cy="206280"/>
            </a:xfrm>
            <a:custGeom>
              <a:avLst/>
              <a:gdLst>
                <a:gd name="textAreaLeft" fmla="*/ 28440 w 238680"/>
                <a:gd name="textAreaRight" fmla="*/ 210240 w 238680"/>
                <a:gd name="textAreaTop" fmla="*/ 24480 h 206280"/>
                <a:gd name="textAreaBottom" fmla="*/ 18180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70" y="21600"/>
                  </a:lnTo>
                  <a:lnTo>
                    <a:pt x="2003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Line 21"/>
          <p:cNvSpPr/>
          <p:nvPr/>
        </p:nvSpPr>
        <p:spPr>
          <a:xfrm>
            <a:off x="6599160" y="5916600"/>
            <a:ext cx="25034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2"/>
          <p:cNvSpPr/>
          <p:nvPr/>
        </p:nvSpPr>
        <p:spPr>
          <a:xfrm>
            <a:off x="6786720" y="5407200"/>
            <a:ext cx="21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圆体简"/>
              </a:rPr>
              <a:t>广告学子之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7873920" y="6450120"/>
            <a:ext cx="12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3403 -9.3E-005 L 0.417639 -0.000371 E">
                                      <p:cBhvr>
                                        <p:cTn id="137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Photoshop"/>
          <p:cNvPicPr/>
          <p:nvPr/>
        </p:nvPicPr>
        <p:blipFill>
          <a:blip r:embed="rId1"/>
          <a:stretch/>
        </p:blipFill>
        <p:spPr>
          <a:xfrm>
            <a:off x="1171440" y="5083200"/>
            <a:ext cx="731880" cy="733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2008121811185568_2"/>
          <p:cNvPicPr/>
          <p:nvPr/>
        </p:nvPicPr>
        <p:blipFill>
          <a:blip r:embed="rId2"/>
          <a:stretch/>
        </p:blipFill>
        <p:spPr>
          <a:xfrm>
            <a:off x="2217600" y="4554360"/>
            <a:ext cx="770040" cy="5781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Dreamweaver"/>
          <p:cNvPicPr/>
          <p:nvPr/>
        </p:nvPicPr>
        <p:blipFill>
          <a:blip r:embed="rId3"/>
          <a:stretch/>
        </p:blipFill>
        <p:spPr>
          <a:xfrm>
            <a:off x="3292560" y="3627360"/>
            <a:ext cx="792000" cy="7938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未命名_副本"/>
          <p:cNvPicPr/>
          <p:nvPr/>
        </p:nvPicPr>
        <p:blipFill>
          <a:blip r:embed="rId4"/>
          <a:stretch/>
        </p:blipFill>
        <p:spPr>
          <a:xfrm>
            <a:off x="4222800" y="3127320"/>
            <a:ext cx="900000" cy="600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6" descr="会声会影"/>
          <p:cNvPicPr/>
          <p:nvPr/>
        </p:nvPicPr>
        <p:blipFill>
          <a:blip r:embed="rId5"/>
          <a:stretch/>
        </p:blipFill>
        <p:spPr>
          <a:xfrm>
            <a:off x="5351400" y="2527200"/>
            <a:ext cx="731880" cy="5968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未命名"/>
          <p:cNvPicPr/>
          <p:nvPr/>
        </p:nvPicPr>
        <p:blipFill>
          <a:blip r:embed="rId6"/>
          <a:stretch/>
        </p:blipFill>
        <p:spPr>
          <a:xfrm>
            <a:off x="7472520" y="1260360"/>
            <a:ext cx="736560" cy="603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8" descr="画画"/>
          <p:cNvPicPr/>
          <p:nvPr/>
        </p:nvPicPr>
        <p:blipFill>
          <a:blip r:embed="rId7"/>
          <a:stretch/>
        </p:blipFill>
        <p:spPr>
          <a:xfrm>
            <a:off x="20520" y="5904000"/>
            <a:ext cx="960480" cy="6429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9" descr="文案"/>
          <p:cNvPicPr/>
          <p:nvPr/>
        </p:nvPicPr>
        <p:blipFill>
          <a:blip r:embed="rId8"/>
          <a:stretch/>
        </p:blipFill>
        <p:spPr>
          <a:xfrm>
            <a:off x="6226200" y="1754280"/>
            <a:ext cx="1047600" cy="699840"/>
          </a:xfrm>
          <a:prstGeom prst="rect">
            <a:avLst/>
          </a:prstGeom>
          <a:ln w="0">
            <a:noFill/>
          </a:ln>
        </p:spPr>
      </p:pic>
      <p:grpSp>
        <p:nvGrpSpPr>
          <p:cNvPr id="582" name="Group 10"/>
          <p:cNvGrpSpPr/>
          <p:nvPr/>
        </p:nvGrpSpPr>
        <p:grpSpPr>
          <a:xfrm>
            <a:off x="-1519200" y="4264200"/>
            <a:ext cx="1351080" cy="2700000"/>
            <a:chOff x="-1519200" y="4264200"/>
            <a:chExt cx="1351080" cy="2700000"/>
          </a:xfrm>
        </p:grpSpPr>
        <p:sp>
          <p:nvSpPr>
            <p:cNvPr id="583" name="Oval 11"/>
            <p:cNvSpPr/>
            <p:nvPr/>
          </p:nvSpPr>
          <p:spPr>
            <a:xfrm>
              <a:off x="-1366920" y="4264200"/>
              <a:ext cx="1047240" cy="10159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-1519200" y="5234400"/>
              <a:ext cx="500760" cy="69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1271" y="393"/>
                    <a:pt x="20421" y="1572"/>
                    <a:pt x="19653" y="2358"/>
                  </a:cubicBezTo>
                  <a:cubicBezTo>
                    <a:pt x="18886" y="3144"/>
                    <a:pt x="17789" y="3911"/>
                    <a:pt x="17022" y="4697"/>
                  </a:cubicBezTo>
                  <a:cubicBezTo>
                    <a:pt x="16254" y="5483"/>
                    <a:pt x="15706" y="6191"/>
                    <a:pt x="15048" y="7055"/>
                  </a:cubicBezTo>
                  <a:cubicBezTo>
                    <a:pt x="14390" y="7920"/>
                    <a:pt x="13979" y="8923"/>
                    <a:pt x="13102" y="9866"/>
                  </a:cubicBezTo>
                  <a:cubicBezTo>
                    <a:pt x="12225" y="10809"/>
                    <a:pt x="10580" y="11812"/>
                    <a:pt x="9813" y="12676"/>
                  </a:cubicBezTo>
                  <a:cubicBezTo>
                    <a:pt x="9045" y="13541"/>
                    <a:pt x="9264" y="14327"/>
                    <a:pt x="8497" y="15035"/>
                  </a:cubicBezTo>
                  <a:cubicBezTo>
                    <a:pt x="7729" y="15743"/>
                    <a:pt x="6222" y="16195"/>
                    <a:pt x="5235" y="16902"/>
                  </a:cubicBezTo>
                  <a:cubicBezTo>
                    <a:pt x="4248" y="17610"/>
                    <a:pt x="3481" y="18474"/>
                    <a:pt x="2604" y="19261"/>
                  </a:cubicBezTo>
                  <a:cubicBezTo>
                    <a:pt x="1726" y="20047"/>
                    <a:pt x="438" y="21206"/>
                    <a:pt x="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-729720" y="5294880"/>
              <a:ext cx="561600" cy="63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344" y="602"/>
                    <a:pt x="1032" y="2410"/>
                    <a:pt x="2065" y="3615"/>
                  </a:cubicBezTo>
                  <a:cubicBezTo>
                    <a:pt x="3098" y="4820"/>
                    <a:pt x="4776" y="5994"/>
                    <a:pt x="6152" y="7200"/>
                  </a:cubicBezTo>
                  <a:cubicBezTo>
                    <a:pt x="7529" y="8405"/>
                    <a:pt x="8906" y="9610"/>
                    <a:pt x="10283" y="10815"/>
                  </a:cubicBezTo>
                  <a:cubicBezTo>
                    <a:pt x="11660" y="12020"/>
                    <a:pt x="12865" y="13194"/>
                    <a:pt x="14414" y="14400"/>
                  </a:cubicBezTo>
                  <a:cubicBezTo>
                    <a:pt x="15963" y="15605"/>
                    <a:pt x="18329" y="16810"/>
                    <a:pt x="19534" y="18015"/>
                  </a:cubicBezTo>
                  <a:cubicBezTo>
                    <a:pt x="20739" y="19220"/>
                    <a:pt x="21255" y="20997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 flipH="1">
              <a:off x="-911520" y="5310000"/>
              <a:ext cx="75960" cy="89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0" y="251"/>
                    <a:pt x="0" y="1004"/>
                    <a:pt x="0" y="1506"/>
                  </a:cubicBezTo>
                  <a:cubicBezTo>
                    <a:pt x="0" y="2009"/>
                    <a:pt x="0" y="2499"/>
                    <a:pt x="0" y="3001"/>
                  </a:cubicBezTo>
                  <a:cubicBezTo>
                    <a:pt x="0" y="3503"/>
                    <a:pt x="0" y="3943"/>
                    <a:pt x="0" y="4495"/>
                  </a:cubicBezTo>
                  <a:cubicBezTo>
                    <a:pt x="0" y="5048"/>
                    <a:pt x="0" y="5751"/>
                    <a:pt x="0" y="6304"/>
                  </a:cubicBezTo>
                  <a:cubicBezTo>
                    <a:pt x="0" y="6856"/>
                    <a:pt x="0" y="7296"/>
                    <a:pt x="0" y="7798"/>
                  </a:cubicBezTo>
                  <a:cubicBezTo>
                    <a:pt x="0" y="8300"/>
                    <a:pt x="0" y="8803"/>
                    <a:pt x="0" y="9305"/>
                  </a:cubicBezTo>
                  <a:cubicBezTo>
                    <a:pt x="0" y="9807"/>
                    <a:pt x="0" y="10247"/>
                    <a:pt x="0" y="10800"/>
                  </a:cubicBezTo>
                  <a:cubicBezTo>
                    <a:pt x="0" y="11352"/>
                    <a:pt x="0" y="12055"/>
                    <a:pt x="0" y="12608"/>
                  </a:cubicBezTo>
                  <a:cubicBezTo>
                    <a:pt x="0" y="13160"/>
                    <a:pt x="0" y="13600"/>
                    <a:pt x="0" y="14102"/>
                  </a:cubicBezTo>
                  <a:cubicBezTo>
                    <a:pt x="0" y="14605"/>
                    <a:pt x="0" y="15107"/>
                    <a:pt x="0" y="15609"/>
                  </a:cubicBezTo>
                  <a:cubicBezTo>
                    <a:pt x="0" y="16112"/>
                    <a:pt x="0" y="16601"/>
                    <a:pt x="0" y="17104"/>
                  </a:cubicBezTo>
                  <a:cubicBezTo>
                    <a:pt x="0" y="17606"/>
                    <a:pt x="0" y="18096"/>
                    <a:pt x="0" y="18598"/>
                  </a:cubicBezTo>
                  <a:cubicBezTo>
                    <a:pt x="0" y="19100"/>
                    <a:pt x="0" y="19603"/>
                    <a:pt x="0" y="20105"/>
                  </a:cubicBezTo>
                  <a:cubicBezTo>
                    <a:pt x="0" y="20607"/>
                    <a:pt x="0" y="21348"/>
                    <a:pt x="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-1214640" y="6175440"/>
              <a:ext cx="379440" cy="78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1029" y="384"/>
                    <a:pt x="19125" y="1461"/>
                    <a:pt x="18174" y="2308"/>
                  </a:cubicBezTo>
                  <a:cubicBezTo>
                    <a:pt x="17222" y="3154"/>
                    <a:pt x="16842" y="4212"/>
                    <a:pt x="15890" y="5058"/>
                  </a:cubicBezTo>
                  <a:cubicBezTo>
                    <a:pt x="14939" y="5904"/>
                    <a:pt x="13654" y="6597"/>
                    <a:pt x="12512" y="7366"/>
                  </a:cubicBezTo>
                  <a:cubicBezTo>
                    <a:pt x="11370" y="8136"/>
                    <a:pt x="10038" y="8809"/>
                    <a:pt x="9087" y="9655"/>
                  </a:cubicBezTo>
                  <a:cubicBezTo>
                    <a:pt x="8135" y="10501"/>
                    <a:pt x="7564" y="11559"/>
                    <a:pt x="6803" y="12406"/>
                  </a:cubicBezTo>
                  <a:cubicBezTo>
                    <a:pt x="6042" y="13252"/>
                    <a:pt x="5090" y="13944"/>
                    <a:pt x="4519" y="14714"/>
                  </a:cubicBezTo>
                  <a:cubicBezTo>
                    <a:pt x="3948" y="15483"/>
                    <a:pt x="3948" y="16233"/>
                    <a:pt x="3377" y="17003"/>
                  </a:cubicBezTo>
                  <a:cubicBezTo>
                    <a:pt x="2807" y="17772"/>
                    <a:pt x="1712" y="18541"/>
                    <a:pt x="1141" y="19311"/>
                  </a:cubicBezTo>
                  <a:cubicBezTo>
                    <a:pt x="570" y="20080"/>
                    <a:pt x="190" y="21215"/>
                    <a:pt x="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-819720" y="6191280"/>
              <a:ext cx="378720" cy="62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645" y="212"/>
                    <a:pt x="2841" y="531"/>
                    <a:pt x="3874" y="1275"/>
                  </a:cubicBezTo>
                  <a:cubicBezTo>
                    <a:pt x="4907" y="2019"/>
                    <a:pt x="5391" y="3374"/>
                    <a:pt x="6166" y="4436"/>
                  </a:cubicBezTo>
                  <a:cubicBezTo>
                    <a:pt x="6941" y="5499"/>
                    <a:pt x="7716" y="6562"/>
                    <a:pt x="8491" y="7625"/>
                  </a:cubicBezTo>
                  <a:cubicBezTo>
                    <a:pt x="9266" y="8687"/>
                    <a:pt x="9782" y="9723"/>
                    <a:pt x="10816" y="10786"/>
                  </a:cubicBezTo>
                  <a:cubicBezTo>
                    <a:pt x="11849" y="11849"/>
                    <a:pt x="13495" y="12805"/>
                    <a:pt x="14658" y="13974"/>
                  </a:cubicBezTo>
                  <a:cubicBezTo>
                    <a:pt x="15820" y="15143"/>
                    <a:pt x="16595" y="16498"/>
                    <a:pt x="17757" y="17774"/>
                  </a:cubicBezTo>
                  <a:cubicBezTo>
                    <a:pt x="18920" y="19049"/>
                    <a:pt x="20954" y="20962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未知"/>
          <p:cNvSpPr/>
          <p:nvPr/>
        </p:nvSpPr>
        <p:spPr>
          <a:xfrm>
            <a:off x="146160" y="2290680"/>
            <a:ext cx="9042120" cy="4627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428" y="21600"/>
                </a:lnTo>
                <a:lnTo>
                  <a:pt x="2428" y="18484"/>
                </a:lnTo>
                <a:lnTo>
                  <a:pt x="4893" y="18484"/>
                </a:lnTo>
                <a:lnTo>
                  <a:pt x="4893" y="15508"/>
                </a:lnTo>
                <a:lnTo>
                  <a:pt x="7465" y="15508"/>
                </a:lnTo>
                <a:lnTo>
                  <a:pt x="7465" y="12179"/>
                </a:lnTo>
                <a:lnTo>
                  <a:pt x="9930" y="12179"/>
                </a:lnTo>
                <a:lnTo>
                  <a:pt x="9930" y="8993"/>
                </a:lnTo>
                <a:lnTo>
                  <a:pt x="12467" y="8922"/>
                </a:lnTo>
                <a:lnTo>
                  <a:pt x="12467" y="6159"/>
                </a:lnTo>
                <a:lnTo>
                  <a:pt x="14859" y="6159"/>
                </a:lnTo>
                <a:lnTo>
                  <a:pt x="14859" y="3186"/>
                </a:lnTo>
                <a:lnTo>
                  <a:pt x="17142" y="3186"/>
                </a:lnTo>
                <a:lnTo>
                  <a:pt x="17142" y="142"/>
                </a:lnTo>
                <a:lnTo>
                  <a:pt x="21600" y="142"/>
                </a:lnTo>
                <a:lnTo>
                  <a:pt x="21527" y="142"/>
                </a:lnTo>
                <a:lnTo>
                  <a:pt x="21419" y="0"/>
                </a:lnTo>
                <a:lnTo>
                  <a:pt x="21419" y="142"/>
                </a:lnTo>
                <a:lnTo>
                  <a:pt x="21346" y="71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8"/>
          <p:cNvSpPr/>
          <p:nvPr/>
        </p:nvSpPr>
        <p:spPr>
          <a:xfrm>
            <a:off x="8603280" y="560520"/>
            <a:ext cx="48528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经典圆体简"/>
              </a:rPr>
              <a:t>广告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9"/>
          <p:cNvSpPr/>
          <p:nvPr/>
        </p:nvSpPr>
        <p:spPr>
          <a:xfrm>
            <a:off x="7858080" y="646416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0" descr="好好学习"/>
          <p:cNvPicPr/>
          <p:nvPr/>
        </p:nvPicPr>
        <p:blipFill>
          <a:blip r:embed="rId9"/>
          <a:stretch/>
        </p:blipFill>
        <p:spPr>
          <a:xfrm rot="20640000">
            <a:off x="-450720" y="-173160"/>
            <a:ext cx="3419280" cy="22766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8472 0.008889 E">
                                      <p:cBhvr>
                                        <p:cTn id="143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47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556 0.012037 L 0.264028 -0.112778 E">
                                      <p:cBhvr>
                                        <p:cTn id="151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7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7639 -0.121667 L 0.391736 -0.225648 E">
                                      <p:cBhvr>
                                        <p:cTn id="159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47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0486 -0.214537 L 0.499653 -0.311944 E">
                                      <p:cBhvr>
                                        <p:cTn id="167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47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9999 -0.318611 L 0.620763 -0.424814 E">
                                      <p:cBhvr>
                                        <p:cTn id="175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47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6111 -0.407037 L 0.728611 -0.508796 E">
                                      <p:cBhvr>
                                        <p:cTn id="183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47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2292 -0.499907 L 0.844722 -0.597315 E">
                                      <p:cBhvr>
                                        <p:cTn id="191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47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8" nodeType="after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851181 -0.590556 L 0.939306 -0.674722 E">
                                      <p:cBhvr>
                                        <p:cTn id="199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39788 -0.676945 L 1.189788 -0.676945 E">
                                      <p:cBhvr>
                                        <p:cTn id="207" dur="1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15840" y="1936800"/>
            <a:ext cx="4017960" cy="3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3"/>
          <p:cNvGrpSpPr/>
          <p:nvPr/>
        </p:nvGrpSpPr>
        <p:grpSpPr>
          <a:xfrm>
            <a:off x="379440" y="177840"/>
            <a:ext cx="834840" cy="2303280"/>
            <a:chOff x="379440" y="177840"/>
            <a:chExt cx="834840" cy="2303280"/>
          </a:xfrm>
        </p:grpSpPr>
        <p:sp>
          <p:nvSpPr>
            <p:cNvPr id="595" name="Oval 4"/>
            <p:cNvSpPr/>
            <p:nvPr/>
          </p:nvSpPr>
          <p:spPr>
            <a:xfrm>
              <a:off x="379440" y="177840"/>
              <a:ext cx="834840" cy="7977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788040" y="1004040"/>
              <a:ext cx="254880" cy="50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344" y="602"/>
                    <a:pt x="1032" y="2410"/>
                    <a:pt x="2065" y="3615"/>
                  </a:cubicBezTo>
                  <a:cubicBezTo>
                    <a:pt x="3098" y="4820"/>
                    <a:pt x="4776" y="5994"/>
                    <a:pt x="6152" y="7200"/>
                  </a:cubicBezTo>
                  <a:cubicBezTo>
                    <a:pt x="7529" y="8405"/>
                    <a:pt x="8906" y="9610"/>
                    <a:pt x="10283" y="10815"/>
                  </a:cubicBezTo>
                  <a:cubicBezTo>
                    <a:pt x="11660" y="12020"/>
                    <a:pt x="12865" y="13194"/>
                    <a:pt x="14414" y="14400"/>
                  </a:cubicBezTo>
                  <a:cubicBezTo>
                    <a:pt x="15963" y="15605"/>
                    <a:pt x="18329" y="16810"/>
                    <a:pt x="19534" y="18015"/>
                  </a:cubicBezTo>
                  <a:cubicBezTo>
                    <a:pt x="20739" y="19220"/>
                    <a:pt x="21255" y="20997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559440" y="1889640"/>
              <a:ext cx="184320" cy="59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688" y="0"/>
                  </a:moveTo>
                  <a:cubicBezTo>
                    <a:pt x="12173" y="328"/>
                    <a:pt x="17740" y="1231"/>
                    <a:pt x="19521" y="1971"/>
                  </a:cubicBezTo>
                  <a:cubicBezTo>
                    <a:pt x="21303" y="2710"/>
                    <a:pt x="21006" y="3593"/>
                    <a:pt x="21303" y="4414"/>
                  </a:cubicBezTo>
                  <a:cubicBezTo>
                    <a:pt x="21600" y="5235"/>
                    <a:pt x="21600" y="6057"/>
                    <a:pt x="21303" y="6878"/>
                  </a:cubicBezTo>
                  <a:cubicBezTo>
                    <a:pt x="21006" y="7699"/>
                    <a:pt x="20412" y="8500"/>
                    <a:pt x="19521" y="9321"/>
                  </a:cubicBezTo>
                  <a:cubicBezTo>
                    <a:pt x="18630" y="10142"/>
                    <a:pt x="17443" y="10964"/>
                    <a:pt x="15958" y="11785"/>
                  </a:cubicBezTo>
                  <a:cubicBezTo>
                    <a:pt x="14474" y="12606"/>
                    <a:pt x="12173" y="13407"/>
                    <a:pt x="10688" y="14228"/>
                  </a:cubicBezTo>
                  <a:cubicBezTo>
                    <a:pt x="9204" y="15050"/>
                    <a:pt x="8313" y="15871"/>
                    <a:pt x="7125" y="16692"/>
                  </a:cubicBezTo>
                  <a:cubicBezTo>
                    <a:pt x="5938" y="17514"/>
                    <a:pt x="4750" y="18314"/>
                    <a:pt x="3562" y="19136"/>
                  </a:cubicBezTo>
                  <a:cubicBezTo>
                    <a:pt x="2375" y="19957"/>
                    <a:pt x="593" y="21189"/>
                    <a:pt x="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695160" y="1884600"/>
              <a:ext cx="459360" cy="40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595" y="95"/>
                    <a:pt x="2353" y="452"/>
                    <a:pt x="3545" y="547"/>
                  </a:cubicBezTo>
                  <a:cubicBezTo>
                    <a:pt x="4737" y="642"/>
                    <a:pt x="5928" y="547"/>
                    <a:pt x="7120" y="547"/>
                  </a:cubicBezTo>
                  <a:cubicBezTo>
                    <a:pt x="8312" y="547"/>
                    <a:pt x="9355" y="357"/>
                    <a:pt x="10665" y="547"/>
                  </a:cubicBezTo>
                  <a:cubicBezTo>
                    <a:pt x="11976" y="738"/>
                    <a:pt x="13764" y="1024"/>
                    <a:pt x="14956" y="1690"/>
                  </a:cubicBezTo>
                  <a:cubicBezTo>
                    <a:pt x="16147" y="2357"/>
                    <a:pt x="17071" y="3596"/>
                    <a:pt x="17786" y="4548"/>
                  </a:cubicBezTo>
                  <a:cubicBezTo>
                    <a:pt x="18501" y="5501"/>
                    <a:pt x="18978" y="6429"/>
                    <a:pt x="19216" y="7382"/>
                  </a:cubicBezTo>
                  <a:cubicBezTo>
                    <a:pt x="19454" y="8335"/>
                    <a:pt x="19097" y="9287"/>
                    <a:pt x="19216" y="10240"/>
                  </a:cubicBezTo>
                  <a:cubicBezTo>
                    <a:pt x="19335" y="11192"/>
                    <a:pt x="19574" y="12121"/>
                    <a:pt x="19931" y="13074"/>
                  </a:cubicBezTo>
                  <a:cubicBezTo>
                    <a:pt x="20289" y="14026"/>
                    <a:pt x="21123" y="14979"/>
                    <a:pt x="21361" y="15932"/>
                  </a:cubicBezTo>
                  <a:cubicBezTo>
                    <a:pt x="21600" y="16884"/>
                    <a:pt x="21361" y="17813"/>
                    <a:pt x="21361" y="18766"/>
                  </a:cubicBezTo>
                  <a:cubicBezTo>
                    <a:pt x="21361" y="19718"/>
                    <a:pt x="21361" y="21123"/>
                    <a:pt x="21361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617760" y="990000"/>
              <a:ext cx="126000" cy="90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65" y="0"/>
                  </a:moveTo>
                  <a:cubicBezTo>
                    <a:pt x="21165" y="328"/>
                    <a:pt x="21165" y="1298"/>
                    <a:pt x="21165" y="1956"/>
                  </a:cubicBezTo>
                  <a:cubicBezTo>
                    <a:pt x="21165" y="2613"/>
                    <a:pt x="21165" y="3271"/>
                    <a:pt x="21165" y="3928"/>
                  </a:cubicBezTo>
                  <a:cubicBezTo>
                    <a:pt x="21165" y="4586"/>
                    <a:pt x="21600" y="5227"/>
                    <a:pt x="21165" y="5884"/>
                  </a:cubicBezTo>
                  <a:cubicBezTo>
                    <a:pt x="20731" y="6542"/>
                    <a:pt x="20297" y="7183"/>
                    <a:pt x="18560" y="7841"/>
                  </a:cubicBezTo>
                  <a:cubicBezTo>
                    <a:pt x="16824" y="8498"/>
                    <a:pt x="13350" y="9156"/>
                    <a:pt x="10745" y="9813"/>
                  </a:cubicBezTo>
                  <a:cubicBezTo>
                    <a:pt x="8140" y="10471"/>
                    <a:pt x="4667" y="11112"/>
                    <a:pt x="2930" y="11769"/>
                  </a:cubicBezTo>
                  <a:cubicBezTo>
                    <a:pt x="1193" y="12427"/>
                    <a:pt x="868" y="13084"/>
                    <a:pt x="434" y="13742"/>
                  </a:cubicBezTo>
                  <a:cubicBezTo>
                    <a:pt x="0" y="14400"/>
                    <a:pt x="434" y="15041"/>
                    <a:pt x="434" y="15698"/>
                  </a:cubicBezTo>
                  <a:cubicBezTo>
                    <a:pt x="434" y="16356"/>
                    <a:pt x="0" y="17013"/>
                    <a:pt x="434" y="17671"/>
                  </a:cubicBezTo>
                  <a:cubicBezTo>
                    <a:pt x="868" y="18328"/>
                    <a:pt x="1628" y="18969"/>
                    <a:pt x="2930" y="19627"/>
                  </a:cubicBezTo>
                  <a:cubicBezTo>
                    <a:pt x="4233" y="20284"/>
                    <a:pt x="7272" y="21271"/>
                    <a:pt x="814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460440" y="1034640"/>
              <a:ext cx="234360" cy="51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432" y="425"/>
                    <a:pt x="16754" y="1594"/>
                    <a:pt x="14652" y="2550"/>
                  </a:cubicBezTo>
                  <a:cubicBezTo>
                    <a:pt x="12551" y="3507"/>
                    <a:pt x="10683" y="4649"/>
                    <a:pt x="9048" y="5712"/>
                  </a:cubicBezTo>
                  <a:cubicBezTo>
                    <a:pt x="7414" y="6774"/>
                    <a:pt x="6246" y="7837"/>
                    <a:pt x="4845" y="8900"/>
                  </a:cubicBezTo>
                  <a:cubicBezTo>
                    <a:pt x="3444" y="9963"/>
                    <a:pt x="1401" y="10999"/>
                    <a:pt x="700" y="12061"/>
                  </a:cubicBezTo>
                  <a:cubicBezTo>
                    <a:pt x="0" y="13124"/>
                    <a:pt x="700" y="14187"/>
                    <a:pt x="700" y="15250"/>
                  </a:cubicBezTo>
                  <a:cubicBezTo>
                    <a:pt x="700" y="16312"/>
                    <a:pt x="700" y="17349"/>
                    <a:pt x="700" y="18411"/>
                  </a:cubicBezTo>
                  <a:cubicBezTo>
                    <a:pt x="700" y="19474"/>
                    <a:pt x="700" y="21068"/>
                    <a:pt x="7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10"/>
          <p:cNvGrpSpPr/>
          <p:nvPr/>
        </p:nvGrpSpPr>
        <p:grpSpPr>
          <a:xfrm>
            <a:off x="1424160" y="1368360"/>
            <a:ext cx="803160" cy="506520"/>
            <a:chOff x="1424160" y="1368360"/>
            <a:chExt cx="803160" cy="506520"/>
          </a:xfrm>
        </p:grpSpPr>
        <p:sp>
          <p:nvSpPr>
            <p:cNvPr id="602" name="未知"/>
            <p:cNvSpPr/>
            <p:nvPr/>
          </p:nvSpPr>
          <p:spPr>
            <a:xfrm>
              <a:off x="1469880" y="1368360"/>
              <a:ext cx="757440" cy="42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4493"/>
                  </a:moveTo>
                  <a:cubicBezTo>
                    <a:pt x="217" y="5135"/>
                    <a:pt x="922" y="7028"/>
                    <a:pt x="1284" y="8312"/>
                  </a:cubicBezTo>
                  <a:cubicBezTo>
                    <a:pt x="1646" y="9596"/>
                    <a:pt x="1863" y="10880"/>
                    <a:pt x="2152" y="12164"/>
                  </a:cubicBezTo>
                  <a:cubicBezTo>
                    <a:pt x="2442" y="13447"/>
                    <a:pt x="2659" y="14699"/>
                    <a:pt x="3021" y="15983"/>
                  </a:cubicBezTo>
                  <a:cubicBezTo>
                    <a:pt x="3382" y="17267"/>
                    <a:pt x="3744" y="18936"/>
                    <a:pt x="4323" y="19834"/>
                  </a:cubicBezTo>
                  <a:cubicBezTo>
                    <a:pt x="4902" y="20733"/>
                    <a:pt x="5752" y="21086"/>
                    <a:pt x="6476" y="21343"/>
                  </a:cubicBezTo>
                  <a:cubicBezTo>
                    <a:pt x="7200" y="21600"/>
                    <a:pt x="7923" y="21343"/>
                    <a:pt x="8647" y="21343"/>
                  </a:cubicBezTo>
                  <a:cubicBezTo>
                    <a:pt x="9370" y="21343"/>
                    <a:pt x="10076" y="21471"/>
                    <a:pt x="10800" y="21343"/>
                  </a:cubicBezTo>
                  <a:cubicBezTo>
                    <a:pt x="11523" y="21214"/>
                    <a:pt x="12518" y="21343"/>
                    <a:pt x="12952" y="20572"/>
                  </a:cubicBezTo>
                  <a:cubicBezTo>
                    <a:pt x="13386" y="19802"/>
                    <a:pt x="13242" y="18037"/>
                    <a:pt x="13386" y="16753"/>
                  </a:cubicBezTo>
                  <a:cubicBezTo>
                    <a:pt x="13531" y="15469"/>
                    <a:pt x="13386" y="14186"/>
                    <a:pt x="13821" y="12902"/>
                  </a:cubicBezTo>
                  <a:cubicBezTo>
                    <a:pt x="14255" y="11618"/>
                    <a:pt x="15630" y="10366"/>
                    <a:pt x="15991" y="9082"/>
                  </a:cubicBezTo>
                  <a:cubicBezTo>
                    <a:pt x="16353" y="7799"/>
                    <a:pt x="15991" y="6547"/>
                    <a:pt x="15991" y="5263"/>
                  </a:cubicBezTo>
                  <a:cubicBezTo>
                    <a:pt x="15991" y="3979"/>
                    <a:pt x="16353" y="1668"/>
                    <a:pt x="15991" y="1412"/>
                  </a:cubicBezTo>
                  <a:cubicBezTo>
                    <a:pt x="15630" y="1155"/>
                    <a:pt x="14544" y="3209"/>
                    <a:pt x="13821" y="3723"/>
                  </a:cubicBezTo>
                  <a:cubicBezTo>
                    <a:pt x="13097" y="4236"/>
                    <a:pt x="12391" y="4364"/>
                    <a:pt x="11668" y="4493"/>
                  </a:cubicBezTo>
                  <a:cubicBezTo>
                    <a:pt x="10944" y="4621"/>
                    <a:pt x="10221" y="4493"/>
                    <a:pt x="9497" y="4493"/>
                  </a:cubicBezTo>
                  <a:cubicBezTo>
                    <a:pt x="8773" y="4493"/>
                    <a:pt x="8068" y="4493"/>
                    <a:pt x="7344" y="4493"/>
                  </a:cubicBezTo>
                  <a:cubicBezTo>
                    <a:pt x="6621" y="4493"/>
                    <a:pt x="5897" y="4493"/>
                    <a:pt x="5173" y="4493"/>
                  </a:cubicBezTo>
                  <a:cubicBezTo>
                    <a:pt x="4450" y="4493"/>
                    <a:pt x="3744" y="4364"/>
                    <a:pt x="3021" y="4493"/>
                  </a:cubicBezTo>
                  <a:cubicBezTo>
                    <a:pt x="2297" y="4621"/>
                    <a:pt x="850" y="5648"/>
                    <a:pt x="850" y="5263"/>
                  </a:cubicBezTo>
                  <a:cubicBezTo>
                    <a:pt x="850" y="4878"/>
                    <a:pt x="2297" y="2952"/>
                    <a:pt x="3021" y="2182"/>
                  </a:cubicBezTo>
                  <a:cubicBezTo>
                    <a:pt x="3744" y="1412"/>
                    <a:pt x="4450" y="898"/>
                    <a:pt x="5173" y="641"/>
                  </a:cubicBezTo>
                  <a:cubicBezTo>
                    <a:pt x="5897" y="385"/>
                    <a:pt x="6621" y="641"/>
                    <a:pt x="7344" y="641"/>
                  </a:cubicBezTo>
                  <a:cubicBezTo>
                    <a:pt x="8068" y="641"/>
                    <a:pt x="8773" y="641"/>
                    <a:pt x="9497" y="641"/>
                  </a:cubicBezTo>
                  <a:cubicBezTo>
                    <a:pt x="10221" y="641"/>
                    <a:pt x="10944" y="641"/>
                    <a:pt x="11668" y="641"/>
                  </a:cubicBezTo>
                  <a:cubicBezTo>
                    <a:pt x="12391" y="641"/>
                    <a:pt x="13097" y="641"/>
                    <a:pt x="13821" y="641"/>
                  </a:cubicBezTo>
                  <a:cubicBezTo>
                    <a:pt x="14544" y="641"/>
                    <a:pt x="15557" y="0"/>
                    <a:pt x="15991" y="641"/>
                  </a:cubicBezTo>
                  <a:cubicBezTo>
                    <a:pt x="16426" y="1283"/>
                    <a:pt x="15991" y="4236"/>
                    <a:pt x="16426" y="4493"/>
                  </a:cubicBezTo>
                  <a:cubicBezTo>
                    <a:pt x="16860" y="4750"/>
                    <a:pt x="17855" y="2439"/>
                    <a:pt x="18578" y="2182"/>
                  </a:cubicBezTo>
                  <a:cubicBezTo>
                    <a:pt x="19302" y="1925"/>
                    <a:pt x="20243" y="2182"/>
                    <a:pt x="20749" y="2952"/>
                  </a:cubicBezTo>
                  <a:cubicBezTo>
                    <a:pt x="21256" y="3723"/>
                    <a:pt x="21600" y="5488"/>
                    <a:pt x="21600" y="6772"/>
                  </a:cubicBezTo>
                  <a:cubicBezTo>
                    <a:pt x="21600" y="8055"/>
                    <a:pt x="21039" y="9339"/>
                    <a:pt x="20749" y="10623"/>
                  </a:cubicBezTo>
                  <a:cubicBezTo>
                    <a:pt x="20460" y="11907"/>
                    <a:pt x="20243" y="13158"/>
                    <a:pt x="19881" y="14442"/>
                  </a:cubicBezTo>
                  <a:cubicBezTo>
                    <a:pt x="19519" y="15726"/>
                    <a:pt x="19230" y="17780"/>
                    <a:pt x="18578" y="18294"/>
                  </a:cubicBezTo>
                  <a:cubicBezTo>
                    <a:pt x="17927" y="18807"/>
                    <a:pt x="16570" y="18294"/>
                    <a:pt x="15991" y="17523"/>
                  </a:cubicBezTo>
                  <a:cubicBezTo>
                    <a:pt x="15413" y="16753"/>
                    <a:pt x="15268" y="14314"/>
                    <a:pt x="15123" y="1367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1424160" y="1733040"/>
              <a:ext cx="631800" cy="141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6489"/>
                  </a:moveTo>
                  <a:cubicBezTo>
                    <a:pt x="0" y="9201"/>
                    <a:pt x="1713" y="15788"/>
                    <a:pt x="2580" y="18113"/>
                  </a:cubicBezTo>
                  <a:cubicBezTo>
                    <a:pt x="3448" y="20437"/>
                    <a:pt x="4228" y="20050"/>
                    <a:pt x="5183" y="20437"/>
                  </a:cubicBezTo>
                  <a:cubicBezTo>
                    <a:pt x="6137" y="20825"/>
                    <a:pt x="7330" y="20437"/>
                    <a:pt x="8284" y="20437"/>
                  </a:cubicBezTo>
                  <a:cubicBezTo>
                    <a:pt x="9238" y="20437"/>
                    <a:pt x="10019" y="20437"/>
                    <a:pt x="10886" y="20437"/>
                  </a:cubicBezTo>
                  <a:cubicBezTo>
                    <a:pt x="11754" y="20437"/>
                    <a:pt x="12600" y="20437"/>
                    <a:pt x="13467" y="20437"/>
                  </a:cubicBezTo>
                  <a:cubicBezTo>
                    <a:pt x="14334" y="20437"/>
                    <a:pt x="15202" y="20437"/>
                    <a:pt x="16069" y="20437"/>
                  </a:cubicBezTo>
                  <a:cubicBezTo>
                    <a:pt x="16937" y="20437"/>
                    <a:pt x="17783" y="21600"/>
                    <a:pt x="18650" y="20437"/>
                  </a:cubicBezTo>
                  <a:cubicBezTo>
                    <a:pt x="19518" y="19275"/>
                    <a:pt x="20906" y="16563"/>
                    <a:pt x="21253" y="13463"/>
                  </a:cubicBezTo>
                  <a:cubicBezTo>
                    <a:pt x="21600" y="10364"/>
                    <a:pt x="21253" y="3874"/>
                    <a:pt x="20732" y="1937"/>
                  </a:cubicBezTo>
                  <a:cubicBezTo>
                    <a:pt x="20212" y="0"/>
                    <a:pt x="18997" y="387"/>
                    <a:pt x="18130" y="1937"/>
                  </a:cubicBezTo>
                  <a:cubicBezTo>
                    <a:pt x="17262" y="3486"/>
                    <a:pt x="16416" y="9589"/>
                    <a:pt x="15549" y="11139"/>
                  </a:cubicBezTo>
                  <a:cubicBezTo>
                    <a:pt x="14681" y="12688"/>
                    <a:pt x="13814" y="11139"/>
                    <a:pt x="12946" y="11139"/>
                  </a:cubicBezTo>
                  <a:cubicBezTo>
                    <a:pt x="12079" y="11139"/>
                    <a:pt x="11233" y="11913"/>
                    <a:pt x="10366" y="11139"/>
                  </a:cubicBezTo>
                  <a:cubicBezTo>
                    <a:pt x="9498" y="10364"/>
                    <a:pt x="8631" y="7652"/>
                    <a:pt x="7763" y="6489"/>
                  </a:cubicBezTo>
                  <a:cubicBezTo>
                    <a:pt x="6896" y="5327"/>
                    <a:pt x="6050" y="5036"/>
                    <a:pt x="5183" y="4261"/>
                  </a:cubicBezTo>
                  <a:cubicBezTo>
                    <a:pt x="4315" y="3486"/>
                    <a:pt x="3448" y="1549"/>
                    <a:pt x="2580" y="1937"/>
                  </a:cubicBezTo>
                  <a:cubicBezTo>
                    <a:pt x="1713" y="2324"/>
                    <a:pt x="0" y="3777"/>
                    <a:pt x="0" y="648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 Box 13"/>
          <p:cNvSpPr/>
          <p:nvPr/>
        </p:nvSpPr>
        <p:spPr>
          <a:xfrm>
            <a:off x="1515960" y="145908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est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14"/>
          <p:cNvGrpSpPr/>
          <p:nvPr/>
        </p:nvGrpSpPr>
        <p:grpSpPr>
          <a:xfrm>
            <a:off x="446040" y="360360"/>
            <a:ext cx="725040" cy="268200"/>
            <a:chOff x="446040" y="360360"/>
            <a:chExt cx="725040" cy="268200"/>
          </a:xfrm>
        </p:grpSpPr>
        <p:sp>
          <p:nvSpPr>
            <p:cNvPr id="606" name="未知"/>
            <p:cNvSpPr/>
            <p:nvPr/>
          </p:nvSpPr>
          <p:spPr>
            <a:xfrm>
              <a:off x="966960" y="360360"/>
              <a:ext cx="204120" cy="19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364" y="16465"/>
                  </a:moveTo>
                  <a:cubicBezTo>
                    <a:pt x="2149" y="15348"/>
                    <a:pt x="1289" y="12000"/>
                    <a:pt x="1074" y="9767"/>
                  </a:cubicBezTo>
                  <a:cubicBezTo>
                    <a:pt x="859" y="7534"/>
                    <a:pt x="0" y="4688"/>
                    <a:pt x="1074" y="3125"/>
                  </a:cubicBezTo>
                  <a:cubicBezTo>
                    <a:pt x="2149" y="1562"/>
                    <a:pt x="5319" y="893"/>
                    <a:pt x="7468" y="446"/>
                  </a:cubicBezTo>
                  <a:cubicBezTo>
                    <a:pt x="9617" y="0"/>
                    <a:pt x="11767" y="0"/>
                    <a:pt x="13916" y="446"/>
                  </a:cubicBezTo>
                  <a:cubicBezTo>
                    <a:pt x="16065" y="893"/>
                    <a:pt x="19020" y="1562"/>
                    <a:pt x="20310" y="3125"/>
                  </a:cubicBezTo>
                  <a:cubicBezTo>
                    <a:pt x="21600" y="4688"/>
                    <a:pt x="21600" y="7534"/>
                    <a:pt x="21600" y="9767"/>
                  </a:cubicBezTo>
                  <a:cubicBezTo>
                    <a:pt x="21600" y="12000"/>
                    <a:pt x="21600" y="14679"/>
                    <a:pt x="20310" y="16465"/>
                  </a:cubicBezTo>
                  <a:cubicBezTo>
                    <a:pt x="19020" y="18251"/>
                    <a:pt x="16065" y="19813"/>
                    <a:pt x="13916" y="20483"/>
                  </a:cubicBezTo>
                  <a:cubicBezTo>
                    <a:pt x="11767" y="21153"/>
                    <a:pt x="9402" y="21600"/>
                    <a:pt x="7468" y="20483"/>
                  </a:cubicBezTo>
                  <a:cubicBezTo>
                    <a:pt x="5534" y="19367"/>
                    <a:pt x="3223" y="14902"/>
                    <a:pt x="2364" y="137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446040" y="484920"/>
              <a:ext cx="119160" cy="14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4137"/>
                  </a:moveTo>
                  <a:cubicBezTo>
                    <a:pt x="20777" y="3650"/>
                    <a:pt x="18349" y="1703"/>
                    <a:pt x="16704" y="1216"/>
                  </a:cubicBezTo>
                  <a:cubicBezTo>
                    <a:pt x="15058" y="730"/>
                    <a:pt x="13248" y="0"/>
                    <a:pt x="11766" y="1216"/>
                  </a:cubicBezTo>
                  <a:cubicBezTo>
                    <a:pt x="10285" y="2433"/>
                    <a:pt x="9339" y="6327"/>
                    <a:pt x="7858" y="8518"/>
                  </a:cubicBezTo>
                  <a:cubicBezTo>
                    <a:pt x="6377" y="10708"/>
                    <a:pt x="4237" y="12108"/>
                    <a:pt x="2921" y="14298"/>
                  </a:cubicBezTo>
                  <a:cubicBezTo>
                    <a:pt x="1604" y="16489"/>
                    <a:pt x="493" y="20383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824040" y="428400"/>
              <a:ext cx="151560" cy="35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1807" y="18514"/>
                    <a:pt x="7230" y="6171"/>
                    <a:pt x="10845" y="3085"/>
                  </a:cubicBezTo>
                  <a:cubicBezTo>
                    <a:pt x="14460" y="0"/>
                    <a:pt x="19792" y="3085"/>
                    <a:pt x="21600" y="308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586800" y="375480"/>
              <a:ext cx="237240" cy="21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24" y="1293"/>
                  </a:moveTo>
                  <a:cubicBezTo>
                    <a:pt x="1848" y="1034"/>
                    <a:pt x="5486" y="1293"/>
                    <a:pt x="7796" y="1293"/>
                  </a:cubicBezTo>
                  <a:cubicBezTo>
                    <a:pt x="10106" y="1293"/>
                    <a:pt x="12648" y="0"/>
                    <a:pt x="14727" y="1293"/>
                  </a:cubicBezTo>
                  <a:cubicBezTo>
                    <a:pt x="16806" y="2586"/>
                    <a:pt x="19289" y="6402"/>
                    <a:pt x="20213" y="8989"/>
                  </a:cubicBezTo>
                  <a:cubicBezTo>
                    <a:pt x="21137" y="11576"/>
                    <a:pt x="21600" y="14680"/>
                    <a:pt x="20213" y="16749"/>
                  </a:cubicBezTo>
                  <a:cubicBezTo>
                    <a:pt x="18827" y="18819"/>
                    <a:pt x="14496" y="21082"/>
                    <a:pt x="11955" y="21341"/>
                  </a:cubicBezTo>
                  <a:cubicBezTo>
                    <a:pt x="9413" y="21600"/>
                    <a:pt x="6872" y="20112"/>
                    <a:pt x="5024" y="18301"/>
                  </a:cubicBezTo>
                  <a:cubicBezTo>
                    <a:pt x="3176" y="16491"/>
                    <a:pt x="1386" y="13128"/>
                    <a:pt x="924" y="10541"/>
                  </a:cubicBezTo>
                  <a:cubicBezTo>
                    <a:pt x="462" y="7954"/>
                    <a:pt x="2310" y="4397"/>
                    <a:pt x="2310" y="2845"/>
                  </a:cubicBezTo>
                  <a:cubicBezTo>
                    <a:pt x="2310" y="1293"/>
                    <a:pt x="0" y="1552"/>
                    <a:pt x="924" y="1293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24"/>
          <p:cNvSpPr/>
          <p:nvPr/>
        </p:nvSpPr>
        <p:spPr>
          <a:xfrm>
            <a:off x="7877160" y="3127320"/>
            <a:ext cx="45720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5"/>
          <p:cNvSpPr/>
          <p:nvPr/>
        </p:nvSpPr>
        <p:spPr>
          <a:xfrm>
            <a:off x="7765920" y="3306600"/>
            <a:ext cx="11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6"/>
          <p:cNvSpPr/>
          <p:nvPr/>
        </p:nvSpPr>
        <p:spPr>
          <a:xfrm>
            <a:off x="2227320" y="6477120"/>
            <a:ext cx="4900680" cy="2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27"/>
          <p:cNvGrpSpPr/>
          <p:nvPr/>
        </p:nvGrpSpPr>
        <p:grpSpPr>
          <a:xfrm>
            <a:off x="7201800" y="2540880"/>
            <a:ext cx="2050560" cy="4190040"/>
            <a:chOff x="7201800" y="2540880"/>
            <a:chExt cx="2050560" cy="4190040"/>
          </a:xfrm>
        </p:grpSpPr>
        <p:pic>
          <p:nvPicPr>
            <p:cNvPr id="614" name="Picture 28" descr="未标题-2"/>
            <p:cNvPicPr/>
            <p:nvPr/>
          </p:nvPicPr>
          <p:blipFill>
            <a:blip r:embed="rId1"/>
            <a:stretch/>
          </p:blipFill>
          <p:spPr>
            <a:xfrm>
              <a:off x="7236360" y="2584080"/>
              <a:ext cx="1971000" cy="41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AutoShape 29"/>
            <p:cNvSpPr/>
            <p:nvPr/>
          </p:nvSpPr>
          <p:spPr>
            <a:xfrm rot="16140000">
              <a:off x="8188920" y="1571760"/>
              <a:ext cx="75960" cy="204948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AutoShape 30"/>
          <p:cNvSpPr/>
          <p:nvPr/>
        </p:nvSpPr>
        <p:spPr>
          <a:xfrm>
            <a:off x="92160" y="2689200"/>
            <a:ext cx="8908920" cy="3914640"/>
          </a:xfrm>
          <a:prstGeom prst="flowChartPredefined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1"/>
          <p:cNvGrpSpPr/>
          <p:nvPr/>
        </p:nvGrpSpPr>
        <p:grpSpPr>
          <a:xfrm>
            <a:off x="-50040" y="2522160"/>
            <a:ext cx="2030040" cy="4192920"/>
            <a:chOff x="-50040" y="2522160"/>
            <a:chExt cx="2030040" cy="4192920"/>
          </a:xfrm>
        </p:grpSpPr>
        <p:pic>
          <p:nvPicPr>
            <p:cNvPr id="618" name="Picture 32" descr="未标题-2"/>
            <p:cNvPicPr/>
            <p:nvPr/>
          </p:nvPicPr>
          <p:blipFill>
            <a:blip r:embed="rId2"/>
            <a:stretch/>
          </p:blipFill>
          <p:spPr>
            <a:xfrm>
              <a:off x="19440" y="2555280"/>
              <a:ext cx="1951200" cy="415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AutoShape 33"/>
            <p:cNvSpPr/>
            <p:nvPr/>
          </p:nvSpPr>
          <p:spPr>
            <a:xfrm rot="16140000">
              <a:off x="927000" y="1563120"/>
              <a:ext cx="75960" cy="202896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Text Box 34"/>
          <p:cNvSpPr/>
          <p:nvPr/>
        </p:nvSpPr>
        <p:spPr>
          <a:xfrm>
            <a:off x="3040200" y="3044880"/>
            <a:ext cx="238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现在的我会画点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会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s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整蛊人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偶尔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没事弄个视频玩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那啥艺术生会的咱都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艺术生不会的 ，咱也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所以我们还会写文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那策划书几十页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5"/>
          <p:cNvSpPr/>
          <p:nvPr/>
        </p:nvSpPr>
        <p:spPr>
          <a:xfrm>
            <a:off x="7843680" y="6524640"/>
            <a:ext cx="12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cover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501"/>
                            </p:stCondLst>
                            <p:childTnLst>
                              <p:par>
                                <p:cTn id="2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502"/>
                            </p:stCondLst>
                            <p:childTnLst>
                              <p:par>
                                <p:cTn id="2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503"/>
                            </p:stCondLst>
                            <p:childTnLst>
                              <p:par>
                                <p:cTn id="2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504"/>
                            </p:stCondLst>
                            <p:childTnLst>
                              <p:par>
                                <p:cTn id="2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505"/>
                            </p:stCondLst>
                            <p:childTnLst>
                              <p:par>
                                <p:cTn id="2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506"/>
                            </p:stCondLst>
                            <p:childTnLst>
                              <p:par>
                                <p:cTn id="2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507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AutoShape 2"/>
          <p:cNvSpPr/>
          <p:nvPr/>
        </p:nvSpPr>
        <p:spPr>
          <a:xfrm>
            <a:off x="150840" y="2654280"/>
            <a:ext cx="8910720" cy="3914640"/>
          </a:xfrm>
          <a:prstGeom prst="flowChartPredefined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"/>
          <p:cNvSpPr/>
          <p:nvPr/>
        </p:nvSpPr>
        <p:spPr>
          <a:xfrm>
            <a:off x="2152800" y="2757600"/>
            <a:ext cx="49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"/>
          <p:cNvSpPr/>
          <p:nvPr/>
        </p:nvSpPr>
        <p:spPr>
          <a:xfrm>
            <a:off x="2152800" y="6415200"/>
            <a:ext cx="4900320" cy="2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9"/>
          <p:cNvGrpSpPr/>
          <p:nvPr/>
        </p:nvGrpSpPr>
        <p:grpSpPr>
          <a:xfrm>
            <a:off x="7201800" y="2540880"/>
            <a:ext cx="2050560" cy="4190040"/>
            <a:chOff x="7201800" y="2540880"/>
            <a:chExt cx="2050560" cy="4190040"/>
          </a:xfrm>
        </p:grpSpPr>
        <p:pic>
          <p:nvPicPr>
            <p:cNvPr id="626" name="Picture 10" descr="未标题-2"/>
            <p:cNvPicPr/>
            <p:nvPr/>
          </p:nvPicPr>
          <p:blipFill>
            <a:blip r:embed="rId1"/>
            <a:stretch/>
          </p:blipFill>
          <p:spPr>
            <a:xfrm>
              <a:off x="7236360" y="2584080"/>
              <a:ext cx="1971000" cy="41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AutoShape 11"/>
            <p:cNvSpPr/>
            <p:nvPr/>
          </p:nvSpPr>
          <p:spPr>
            <a:xfrm rot="16140000">
              <a:off x="8188920" y="1571760"/>
              <a:ext cx="75960" cy="204948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12"/>
          <p:cNvGrpSpPr/>
          <p:nvPr/>
        </p:nvGrpSpPr>
        <p:grpSpPr>
          <a:xfrm>
            <a:off x="-32400" y="2522520"/>
            <a:ext cx="2012400" cy="4194360"/>
            <a:chOff x="-32400" y="2522520"/>
            <a:chExt cx="2012400" cy="4194360"/>
          </a:xfrm>
        </p:grpSpPr>
        <p:pic>
          <p:nvPicPr>
            <p:cNvPr id="629" name="Picture 13" descr="未标题-2"/>
            <p:cNvPicPr/>
            <p:nvPr/>
          </p:nvPicPr>
          <p:blipFill>
            <a:blip r:embed="rId2"/>
            <a:stretch/>
          </p:blipFill>
          <p:spPr>
            <a:xfrm>
              <a:off x="36360" y="2555280"/>
              <a:ext cx="1934280" cy="41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AutoShape 14"/>
            <p:cNvSpPr/>
            <p:nvPr/>
          </p:nvSpPr>
          <p:spPr>
            <a:xfrm rot="16140000">
              <a:off x="935640" y="1572120"/>
              <a:ext cx="75960" cy="201132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Line 15"/>
          <p:cNvSpPr/>
          <p:nvPr/>
        </p:nvSpPr>
        <p:spPr>
          <a:xfrm>
            <a:off x="15840" y="1938240"/>
            <a:ext cx="4092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16"/>
          <p:cNvGrpSpPr/>
          <p:nvPr/>
        </p:nvGrpSpPr>
        <p:grpSpPr>
          <a:xfrm>
            <a:off x="379440" y="177840"/>
            <a:ext cx="834840" cy="2303280"/>
            <a:chOff x="379440" y="177840"/>
            <a:chExt cx="834840" cy="2303280"/>
          </a:xfrm>
        </p:grpSpPr>
        <p:sp>
          <p:nvSpPr>
            <p:cNvPr id="633" name="Oval 17"/>
            <p:cNvSpPr/>
            <p:nvPr/>
          </p:nvSpPr>
          <p:spPr>
            <a:xfrm>
              <a:off x="379440" y="177840"/>
              <a:ext cx="834840" cy="7977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788040" y="1004040"/>
              <a:ext cx="254880" cy="50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344" y="602"/>
                    <a:pt x="1032" y="2410"/>
                    <a:pt x="2065" y="3615"/>
                  </a:cubicBezTo>
                  <a:cubicBezTo>
                    <a:pt x="3098" y="4820"/>
                    <a:pt x="4776" y="5994"/>
                    <a:pt x="6152" y="7200"/>
                  </a:cubicBezTo>
                  <a:cubicBezTo>
                    <a:pt x="7529" y="8405"/>
                    <a:pt x="8906" y="9610"/>
                    <a:pt x="10283" y="10815"/>
                  </a:cubicBezTo>
                  <a:cubicBezTo>
                    <a:pt x="11660" y="12020"/>
                    <a:pt x="12865" y="13194"/>
                    <a:pt x="14414" y="14400"/>
                  </a:cubicBezTo>
                  <a:cubicBezTo>
                    <a:pt x="15963" y="15605"/>
                    <a:pt x="18329" y="16810"/>
                    <a:pt x="19534" y="18015"/>
                  </a:cubicBezTo>
                  <a:cubicBezTo>
                    <a:pt x="20739" y="19220"/>
                    <a:pt x="21255" y="20997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559440" y="1889640"/>
              <a:ext cx="184320" cy="59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688" y="0"/>
                  </a:moveTo>
                  <a:cubicBezTo>
                    <a:pt x="12173" y="328"/>
                    <a:pt x="17740" y="1231"/>
                    <a:pt x="19521" y="1971"/>
                  </a:cubicBezTo>
                  <a:cubicBezTo>
                    <a:pt x="21303" y="2710"/>
                    <a:pt x="21006" y="3593"/>
                    <a:pt x="21303" y="4414"/>
                  </a:cubicBezTo>
                  <a:cubicBezTo>
                    <a:pt x="21600" y="5235"/>
                    <a:pt x="21600" y="6057"/>
                    <a:pt x="21303" y="6878"/>
                  </a:cubicBezTo>
                  <a:cubicBezTo>
                    <a:pt x="21006" y="7699"/>
                    <a:pt x="20412" y="8500"/>
                    <a:pt x="19521" y="9321"/>
                  </a:cubicBezTo>
                  <a:cubicBezTo>
                    <a:pt x="18630" y="10142"/>
                    <a:pt x="17443" y="10964"/>
                    <a:pt x="15958" y="11785"/>
                  </a:cubicBezTo>
                  <a:cubicBezTo>
                    <a:pt x="14474" y="12606"/>
                    <a:pt x="12173" y="13407"/>
                    <a:pt x="10688" y="14228"/>
                  </a:cubicBezTo>
                  <a:cubicBezTo>
                    <a:pt x="9204" y="15050"/>
                    <a:pt x="8313" y="15871"/>
                    <a:pt x="7125" y="16692"/>
                  </a:cubicBezTo>
                  <a:cubicBezTo>
                    <a:pt x="5938" y="17514"/>
                    <a:pt x="4750" y="18314"/>
                    <a:pt x="3562" y="19136"/>
                  </a:cubicBezTo>
                  <a:cubicBezTo>
                    <a:pt x="2375" y="19957"/>
                    <a:pt x="593" y="21189"/>
                    <a:pt x="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695160" y="1884600"/>
              <a:ext cx="459360" cy="40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595" y="95"/>
                    <a:pt x="2353" y="452"/>
                    <a:pt x="3545" y="547"/>
                  </a:cubicBezTo>
                  <a:cubicBezTo>
                    <a:pt x="4737" y="642"/>
                    <a:pt x="5928" y="547"/>
                    <a:pt x="7120" y="547"/>
                  </a:cubicBezTo>
                  <a:cubicBezTo>
                    <a:pt x="8312" y="547"/>
                    <a:pt x="9355" y="357"/>
                    <a:pt x="10665" y="547"/>
                  </a:cubicBezTo>
                  <a:cubicBezTo>
                    <a:pt x="11976" y="738"/>
                    <a:pt x="13764" y="1024"/>
                    <a:pt x="14956" y="1690"/>
                  </a:cubicBezTo>
                  <a:cubicBezTo>
                    <a:pt x="16147" y="2357"/>
                    <a:pt x="17071" y="3596"/>
                    <a:pt x="17786" y="4548"/>
                  </a:cubicBezTo>
                  <a:cubicBezTo>
                    <a:pt x="18501" y="5501"/>
                    <a:pt x="18978" y="6429"/>
                    <a:pt x="19216" y="7382"/>
                  </a:cubicBezTo>
                  <a:cubicBezTo>
                    <a:pt x="19454" y="8335"/>
                    <a:pt x="19097" y="9287"/>
                    <a:pt x="19216" y="10240"/>
                  </a:cubicBezTo>
                  <a:cubicBezTo>
                    <a:pt x="19335" y="11192"/>
                    <a:pt x="19574" y="12121"/>
                    <a:pt x="19931" y="13074"/>
                  </a:cubicBezTo>
                  <a:cubicBezTo>
                    <a:pt x="20289" y="14026"/>
                    <a:pt x="21123" y="14979"/>
                    <a:pt x="21361" y="15932"/>
                  </a:cubicBezTo>
                  <a:cubicBezTo>
                    <a:pt x="21600" y="16884"/>
                    <a:pt x="21361" y="17813"/>
                    <a:pt x="21361" y="18766"/>
                  </a:cubicBezTo>
                  <a:cubicBezTo>
                    <a:pt x="21361" y="19718"/>
                    <a:pt x="21361" y="21123"/>
                    <a:pt x="21361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未知"/>
            <p:cNvSpPr/>
            <p:nvPr/>
          </p:nvSpPr>
          <p:spPr>
            <a:xfrm>
              <a:off x="617760" y="990000"/>
              <a:ext cx="126000" cy="90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65" y="0"/>
                  </a:moveTo>
                  <a:cubicBezTo>
                    <a:pt x="21165" y="328"/>
                    <a:pt x="21165" y="1298"/>
                    <a:pt x="21165" y="1956"/>
                  </a:cubicBezTo>
                  <a:cubicBezTo>
                    <a:pt x="21165" y="2613"/>
                    <a:pt x="21165" y="3271"/>
                    <a:pt x="21165" y="3928"/>
                  </a:cubicBezTo>
                  <a:cubicBezTo>
                    <a:pt x="21165" y="4586"/>
                    <a:pt x="21600" y="5227"/>
                    <a:pt x="21165" y="5884"/>
                  </a:cubicBezTo>
                  <a:cubicBezTo>
                    <a:pt x="20731" y="6542"/>
                    <a:pt x="20297" y="7183"/>
                    <a:pt x="18560" y="7841"/>
                  </a:cubicBezTo>
                  <a:cubicBezTo>
                    <a:pt x="16824" y="8498"/>
                    <a:pt x="13350" y="9156"/>
                    <a:pt x="10745" y="9813"/>
                  </a:cubicBezTo>
                  <a:cubicBezTo>
                    <a:pt x="8140" y="10471"/>
                    <a:pt x="4667" y="11112"/>
                    <a:pt x="2930" y="11769"/>
                  </a:cubicBezTo>
                  <a:cubicBezTo>
                    <a:pt x="1193" y="12427"/>
                    <a:pt x="868" y="13084"/>
                    <a:pt x="434" y="13742"/>
                  </a:cubicBezTo>
                  <a:cubicBezTo>
                    <a:pt x="0" y="14400"/>
                    <a:pt x="434" y="15041"/>
                    <a:pt x="434" y="15698"/>
                  </a:cubicBezTo>
                  <a:cubicBezTo>
                    <a:pt x="434" y="16356"/>
                    <a:pt x="0" y="17013"/>
                    <a:pt x="434" y="17671"/>
                  </a:cubicBezTo>
                  <a:cubicBezTo>
                    <a:pt x="868" y="18328"/>
                    <a:pt x="1628" y="18969"/>
                    <a:pt x="2930" y="19627"/>
                  </a:cubicBezTo>
                  <a:cubicBezTo>
                    <a:pt x="4233" y="20284"/>
                    <a:pt x="7272" y="21271"/>
                    <a:pt x="814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460440" y="1034640"/>
              <a:ext cx="234360" cy="51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432" y="425"/>
                    <a:pt x="16754" y="1594"/>
                    <a:pt x="14652" y="2550"/>
                  </a:cubicBezTo>
                  <a:cubicBezTo>
                    <a:pt x="12551" y="3507"/>
                    <a:pt x="10683" y="4649"/>
                    <a:pt x="9048" y="5712"/>
                  </a:cubicBezTo>
                  <a:cubicBezTo>
                    <a:pt x="7414" y="6774"/>
                    <a:pt x="6246" y="7837"/>
                    <a:pt x="4845" y="8900"/>
                  </a:cubicBezTo>
                  <a:cubicBezTo>
                    <a:pt x="3444" y="9963"/>
                    <a:pt x="1401" y="10999"/>
                    <a:pt x="700" y="12061"/>
                  </a:cubicBezTo>
                  <a:cubicBezTo>
                    <a:pt x="0" y="13124"/>
                    <a:pt x="700" y="14187"/>
                    <a:pt x="700" y="15250"/>
                  </a:cubicBezTo>
                  <a:cubicBezTo>
                    <a:pt x="700" y="16312"/>
                    <a:pt x="700" y="17349"/>
                    <a:pt x="700" y="18411"/>
                  </a:cubicBezTo>
                  <a:cubicBezTo>
                    <a:pt x="700" y="19474"/>
                    <a:pt x="700" y="21068"/>
                    <a:pt x="7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23"/>
          <p:cNvGrpSpPr/>
          <p:nvPr/>
        </p:nvGrpSpPr>
        <p:grpSpPr>
          <a:xfrm>
            <a:off x="1424160" y="1368360"/>
            <a:ext cx="803160" cy="506520"/>
            <a:chOff x="1424160" y="1368360"/>
            <a:chExt cx="803160" cy="506520"/>
          </a:xfrm>
        </p:grpSpPr>
        <p:sp>
          <p:nvSpPr>
            <p:cNvPr id="640" name="未知"/>
            <p:cNvSpPr/>
            <p:nvPr/>
          </p:nvSpPr>
          <p:spPr>
            <a:xfrm>
              <a:off x="1469880" y="1368360"/>
              <a:ext cx="757440" cy="42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4493"/>
                  </a:moveTo>
                  <a:cubicBezTo>
                    <a:pt x="217" y="5135"/>
                    <a:pt x="922" y="7028"/>
                    <a:pt x="1284" y="8312"/>
                  </a:cubicBezTo>
                  <a:cubicBezTo>
                    <a:pt x="1646" y="9596"/>
                    <a:pt x="1863" y="10880"/>
                    <a:pt x="2152" y="12164"/>
                  </a:cubicBezTo>
                  <a:cubicBezTo>
                    <a:pt x="2442" y="13447"/>
                    <a:pt x="2659" y="14699"/>
                    <a:pt x="3021" y="15983"/>
                  </a:cubicBezTo>
                  <a:cubicBezTo>
                    <a:pt x="3382" y="17267"/>
                    <a:pt x="3744" y="18936"/>
                    <a:pt x="4323" y="19834"/>
                  </a:cubicBezTo>
                  <a:cubicBezTo>
                    <a:pt x="4902" y="20733"/>
                    <a:pt x="5752" y="21086"/>
                    <a:pt x="6476" y="21343"/>
                  </a:cubicBezTo>
                  <a:cubicBezTo>
                    <a:pt x="7200" y="21600"/>
                    <a:pt x="7923" y="21343"/>
                    <a:pt x="8647" y="21343"/>
                  </a:cubicBezTo>
                  <a:cubicBezTo>
                    <a:pt x="9370" y="21343"/>
                    <a:pt x="10076" y="21471"/>
                    <a:pt x="10800" y="21343"/>
                  </a:cubicBezTo>
                  <a:cubicBezTo>
                    <a:pt x="11523" y="21214"/>
                    <a:pt x="12518" y="21343"/>
                    <a:pt x="12952" y="20572"/>
                  </a:cubicBezTo>
                  <a:cubicBezTo>
                    <a:pt x="13386" y="19802"/>
                    <a:pt x="13242" y="18037"/>
                    <a:pt x="13386" y="16753"/>
                  </a:cubicBezTo>
                  <a:cubicBezTo>
                    <a:pt x="13531" y="15469"/>
                    <a:pt x="13386" y="14186"/>
                    <a:pt x="13821" y="12902"/>
                  </a:cubicBezTo>
                  <a:cubicBezTo>
                    <a:pt x="14255" y="11618"/>
                    <a:pt x="15630" y="10366"/>
                    <a:pt x="15991" y="9082"/>
                  </a:cubicBezTo>
                  <a:cubicBezTo>
                    <a:pt x="16353" y="7799"/>
                    <a:pt x="15991" y="6547"/>
                    <a:pt x="15991" y="5263"/>
                  </a:cubicBezTo>
                  <a:cubicBezTo>
                    <a:pt x="15991" y="3979"/>
                    <a:pt x="16353" y="1668"/>
                    <a:pt x="15991" y="1412"/>
                  </a:cubicBezTo>
                  <a:cubicBezTo>
                    <a:pt x="15630" y="1155"/>
                    <a:pt x="14544" y="3209"/>
                    <a:pt x="13821" y="3723"/>
                  </a:cubicBezTo>
                  <a:cubicBezTo>
                    <a:pt x="13097" y="4236"/>
                    <a:pt x="12391" y="4364"/>
                    <a:pt x="11668" y="4493"/>
                  </a:cubicBezTo>
                  <a:cubicBezTo>
                    <a:pt x="10944" y="4621"/>
                    <a:pt x="10221" y="4493"/>
                    <a:pt x="9497" y="4493"/>
                  </a:cubicBezTo>
                  <a:cubicBezTo>
                    <a:pt x="8773" y="4493"/>
                    <a:pt x="8068" y="4493"/>
                    <a:pt x="7344" y="4493"/>
                  </a:cubicBezTo>
                  <a:cubicBezTo>
                    <a:pt x="6621" y="4493"/>
                    <a:pt x="5897" y="4493"/>
                    <a:pt x="5173" y="4493"/>
                  </a:cubicBezTo>
                  <a:cubicBezTo>
                    <a:pt x="4450" y="4493"/>
                    <a:pt x="3744" y="4364"/>
                    <a:pt x="3021" y="4493"/>
                  </a:cubicBezTo>
                  <a:cubicBezTo>
                    <a:pt x="2297" y="4621"/>
                    <a:pt x="850" y="5648"/>
                    <a:pt x="850" y="5263"/>
                  </a:cubicBezTo>
                  <a:cubicBezTo>
                    <a:pt x="850" y="4878"/>
                    <a:pt x="2297" y="2952"/>
                    <a:pt x="3021" y="2182"/>
                  </a:cubicBezTo>
                  <a:cubicBezTo>
                    <a:pt x="3744" y="1412"/>
                    <a:pt x="4450" y="898"/>
                    <a:pt x="5173" y="641"/>
                  </a:cubicBezTo>
                  <a:cubicBezTo>
                    <a:pt x="5897" y="385"/>
                    <a:pt x="6621" y="641"/>
                    <a:pt x="7344" y="641"/>
                  </a:cubicBezTo>
                  <a:cubicBezTo>
                    <a:pt x="8068" y="641"/>
                    <a:pt x="8773" y="641"/>
                    <a:pt x="9497" y="641"/>
                  </a:cubicBezTo>
                  <a:cubicBezTo>
                    <a:pt x="10221" y="641"/>
                    <a:pt x="10944" y="641"/>
                    <a:pt x="11668" y="641"/>
                  </a:cubicBezTo>
                  <a:cubicBezTo>
                    <a:pt x="12391" y="641"/>
                    <a:pt x="13097" y="641"/>
                    <a:pt x="13821" y="641"/>
                  </a:cubicBezTo>
                  <a:cubicBezTo>
                    <a:pt x="14544" y="641"/>
                    <a:pt x="15557" y="0"/>
                    <a:pt x="15991" y="641"/>
                  </a:cubicBezTo>
                  <a:cubicBezTo>
                    <a:pt x="16426" y="1283"/>
                    <a:pt x="15991" y="4236"/>
                    <a:pt x="16426" y="4493"/>
                  </a:cubicBezTo>
                  <a:cubicBezTo>
                    <a:pt x="16860" y="4750"/>
                    <a:pt x="17855" y="2439"/>
                    <a:pt x="18578" y="2182"/>
                  </a:cubicBezTo>
                  <a:cubicBezTo>
                    <a:pt x="19302" y="1925"/>
                    <a:pt x="20243" y="2182"/>
                    <a:pt x="20749" y="2952"/>
                  </a:cubicBezTo>
                  <a:cubicBezTo>
                    <a:pt x="21256" y="3723"/>
                    <a:pt x="21600" y="5488"/>
                    <a:pt x="21600" y="6772"/>
                  </a:cubicBezTo>
                  <a:cubicBezTo>
                    <a:pt x="21600" y="8055"/>
                    <a:pt x="21039" y="9339"/>
                    <a:pt x="20749" y="10623"/>
                  </a:cubicBezTo>
                  <a:cubicBezTo>
                    <a:pt x="20460" y="11907"/>
                    <a:pt x="20243" y="13158"/>
                    <a:pt x="19881" y="14442"/>
                  </a:cubicBezTo>
                  <a:cubicBezTo>
                    <a:pt x="19519" y="15726"/>
                    <a:pt x="19230" y="17780"/>
                    <a:pt x="18578" y="18294"/>
                  </a:cubicBezTo>
                  <a:cubicBezTo>
                    <a:pt x="17927" y="18807"/>
                    <a:pt x="16570" y="18294"/>
                    <a:pt x="15991" y="17523"/>
                  </a:cubicBezTo>
                  <a:cubicBezTo>
                    <a:pt x="15413" y="16753"/>
                    <a:pt x="15268" y="14314"/>
                    <a:pt x="15123" y="1367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未知"/>
            <p:cNvSpPr/>
            <p:nvPr/>
          </p:nvSpPr>
          <p:spPr>
            <a:xfrm>
              <a:off x="1424160" y="1733040"/>
              <a:ext cx="631800" cy="141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6489"/>
                  </a:moveTo>
                  <a:cubicBezTo>
                    <a:pt x="0" y="9201"/>
                    <a:pt x="1713" y="15788"/>
                    <a:pt x="2580" y="18113"/>
                  </a:cubicBezTo>
                  <a:cubicBezTo>
                    <a:pt x="3448" y="20437"/>
                    <a:pt x="4228" y="20050"/>
                    <a:pt x="5183" y="20437"/>
                  </a:cubicBezTo>
                  <a:cubicBezTo>
                    <a:pt x="6137" y="20825"/>
                    <a:pt x="7330" y="20437"/>
                    <a:pt x="8284" y="20437"/>
                  </a:cubicBezTo>
                  <a:cubicBezTo>
                    <a:pt x="9238" y="20437"/>
                    <a:pt x="10019" y="20437"/>
                    <a:pt x="10886" y="20437"/>
                  </a:cubicBezTo>
                  <a:cubicBezTo>
                    <a:pt x="11754" y="20437"/>
                    <a:pt x="12600" y="20437"/>
                    <a:pt x="13467" y="20437"/>
                  </a:cubicBezTo>
                  <a:cubicBezTo>
                    <a:pt x="14334" y="20437"/>
                    <a:pt x="15202" y="20437"/>
                    <a:pt x="16069" y="20437"/>
                  </a:cubicBezTo>
                  <a:cubicBezTo>
                    <a:pt x="16937" y="20437"/>
                    <a:pt x="17783" y="21600"/>
                    <a:pt x="18650" y="20437"/>
                  </a:cubicBezTo>
                  <a:cubicBezTo>
                    <a:pt x="19518" y="19275"/>
                    <a:pt x="20906" y="16563"/>
                    <a:pt x="21253" y="13463"/>
                  </a:cubicBezTo>
                  <a:cubicBezTo>
                    <a:pt x="21600" y="10364"/>
                    <a:pt x="21253" y="3874"/>
                    <a:pt x="20732" y="1937"/>
                  </a:cubicBezTo>
                  <a:cubicBezTo>
                    <a:pt x="20212" y="0"/>
                    <a:pt x="18997" y="387"/>
                    <a:pt x="18130" y="1937"/>
                  </a:cubicBezTo>
                  <a:cubicBezTo>
                    <a:pt x="17262" y="3486"/>
                    <a:pt x="16416" y="9589"/>
                    <a:pt x="15549" y="11139"/>
                  </a:cubicBezTo>
                  <a:cubicBezTo>
                    <a:pt x="14681" y="12688"/>
                    <a:pt x="13814" y="11139"/>
                    <a:pt x="12946" y="11139"/>
                  </a:cubicBezTo>
                  <a:cubicBezTo>
                    <a:pt x="12079" y="11139"/>
                    <a:pt x="11233" y="11913"/>
                    <a:pt x="10366" y="11139"/>
                  </a:cubicBezTo>
                  <a:cubicBezTo>
                    <a:pt x="9498" y="10364"/>
                    <a:pt x="8631" y="7652"/>
                    <a:pt x="7763" y="6489"/>
                  </a:cubicBezTo>
                  <a:cubicBezTo>
                    <a:pt x="6896" y="5327"/>
                    <a:pt x="6050" y="5036"/>
                    <a:pt x="5183" y="4261"/>
                  </a:cubicBezTo>
                  <a:cubicBezTo>
                    <a:pt x="4315" y="3486"/>
                    <a:pt x="3448" y="1549"/>
                    <a:pt x="2580" y="1937"/>
                  </a:cubicBezTo>
                  <a:cubicBezTo>
                    <a:pt x="1713" y="2324"/>
                    <a:pt x="0" y="3777"/>
                    <a:pt x="0" y="648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Text Box 26"/>
          <p:cNvSpPr/>
          <p:nvPr/>
        </p:nvSpPr>
        <p:spPr>
          <a:xfrm>
            <a:off x="1515960" y="145908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est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27"/>
          <p:cNvGrpSpPr/>
          <p:nvPr/>
        </p:nvGrpSpPr>
        <p:grpSpPr>
          <a:xfrm>
            <a:off x="453960" y="404640"/>
            <a:ext cx="725040" cy="268200"/>
            <a:chOff x="453960" y="404640"/>
            <a:chExt cx="725040" cy="268200"/>
          </a:xfrm>
        </p:grpSpPr>
        <p:sp>
          <p:nvSpPr>
            <p:cNvPr id="644" name="未知"/>
            <p:cNvSpPr/>
            <p:nvPr/>
          </p:nvSpPr>
          <p:spPr>
            <a:xfrm>
              <a:off x="974880" y="404640"/>
              <a:ext cx="204120" cy="19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364" y="16465"/>
                  </a:moveTo>
                  <a:cubicBezTo>
                    <a:pt x="2149" y="15348"/>
                    <a:pt x="1289" y="12000"/>
                    <a:pt x="1074" y="9767"/>
                  </a:cubicBezTo>
                  <a:cubicBezTo>
                    <a:pt x="859" y="7534"/>
                    <a:pt x="0" y="4688"/>
                    <a:pt x="1074" y="3125"/>
                  </a:cubicBezTo>
                  <a:cubicBezTo>
                    <a:pt x="2149" y="1562"/>
                    <a:pt x="5319" y="893"/>
                    <a:pt x="7468" y="446"/>
                  </a:cubicBezTo>
                  <a:cubicBezTo>
                    <a:pt x="9617" y="0"/>
                    <a:pt x="11767" y="0"/>
                    <a:pt x="13916" y="446"/>
                  </a:cubicBezTo>
                  <a:cubicBezTo>
                    <a:pt x="16065" y="893"/>
                    <a:pt x="19020" y="1562"/>
                    <a:pt x="20310" y="3125"/>
                  </a:cubicBezTo>
                  <a:cubicBezTo>
                    <a:pt x="21600" y="4688"/>
                    <a:pt x="21600" y="7534"/>
                    <a:pt x="21600" y="9767"/>
                  </a:cubicBezTo>
                  <a:cubicBezTo>
                    <a:pt x="21600" y="12000"/>
                    <a:pt x="21600" y="14679"/>
                    <a:pt x="20310" y="16465"/>
                  </a:cubicBezTo>
                  <a:cubicBezTo>
                    <a:pt x="19020" y="18251"/>
                    <a:pt x="16065" y="19813"/>
                    <a:pt x="13916" y="20483"/>
                  </a:cubicBezTo>
                  <a:cubicBezTo>
                    <a:pt x="11767" y="21153"/>
                    <a:pt x="9402" y="21600"/>
                    <a:pt x="7468" y="20483"/>
                  </a:cubicBezTo>
                  <a:cubicBezTo>
                    <a:pt x="5534" y="19367"/>
                    <a:pt x="3223" y="14902"/>
                    <a:pt x="2364" y="137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未知"/>
            <p:cNvSpPr/>
            <p:nvPr/>
          </p:nvSpPr>
          <p:spPr>
            <a:xfrm>
              <a:off x="453960" y="529200"/>
              <a:ext cx="119160" cy="14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4137"/>
                  </a:moveTo>
                  <a:cubicBezTo>
                    <a:pt x="20777" y="3650"/>
                    <a:pt x="18349" y="1703"/>
                    <a:pt x="16704" y="1216"/>
                  </a:cubicBezTo>
                  <a:cubicBezTo>
                    <a:pt x="15058" y="730"/>
                    <a:pt x="13248" y="0"/>
                    <a:pt x="11766" y="1216"/>
                  </a:cubicBezTo>
                  <a:cubicBezTo>
                    <a:pt x="10285" y="2433"/>
                    <a:pt x="9339" y="6327"/>
                    <a:pt x="7858" y="8518"/>
                  </a:cubicBezTo>
                  <a:cubicBezTo>
                    <a:pt x="6377" y="10708"/>
                    <a:pt x="4237" y="12108"/>
                    <a:pt x="2921" y="14298"/>
                  </a:cubicBezTo>
                  <a:cubicBezTo>
                    <a:pt x="1604" y="16489"/>
                    <a:pt x="493" y="20383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831960" y="472680"/>
              <a:ext cx="151560" cy="3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1807" y="18514"/>
                    <a:pt x="7230" y="6171"/>
                    <a:pt x="10845" y="3085"/>
                  </a:cubicBezTo>
                  <a:cubicBezTo>
                    <a:pt x="14460" y="0"/>
                    <a:pt x="19792" y="3085"/>
                    <a:pt x="21600" y="308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未知"/>
            <p:cNvSpPr/>
            <p:nvPr/>
          </p:nvSpPr>
          <p:spPr>
            <a:xfrm>
              <a:off x="594720" y="419760"/>
              <a:ext cx="237240" cy="21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24" y="1293"/>
                  </a:moveTo>
                  <a:cubicBezTo>
                    <a:pt x="1848" y="1034"/>
                    <a:pt x="5486" y="1293"/>
                    <a:pt x="7796" y="1293"/>
                  </a:cubicBezTo>
                  <a:cubicBezTo>
                    <a:pt x="10106" y="1293"/>
                    <a:pt x="12648" y="0"/>
                    <a:pt x="14727" y="1293"/>
                  </a:cubicBezTo>
                  <a:cubicBezTo>
                    <a:pt x="16806" y="2586"/>
                    <a:pt x="19289" y="6402"/>
                    <a:pt x="20213" y="8989"/>
                  </a:cubicBezTo>
                  <a:cubicBezTo>
                    <a:pt x="21137" y="11576"/>
                    <a:pt x="21600" y="14680"/>
                    <a:pt x="20213" y="16749"/>
                  </a:cubicBezTo>
                  <a:cubicBezTo>
                    <a:pt x="18827" y="18819"/>
                    <a:pt x="14496" y="21082"/>
                    <a:pt x="11955" y="21341"/>
                  </a:cubicBezTo>
                  <a:cubicBezTo>
                    <a:pt x="9413" y="21600"/>
                    <a:pt x="6872" y="20112"/>
                    <a:pt x="5024" y="18301"/>
                  </a:cubicBezTo>
                  <a:cubicBezTo>
                    <a:pt x="3176" y="16491"/>
                    <a:pt x="1386" y="13128"/>
                    <a:pt x="924" y="10541"/>
                  </a:cubicBezTo>
                  <a:cubicBezTo>
                    <a:pt x="462" y="7954"/>
                    <a:pt x="2310" y="4397"/>
                    <a:pt x="2310" y="2845"/>
                  </a:cubicBezTo>
                  <a:cubicBezTo>
                    <a:pt x="2310" y="1293"/>
                    <a:pt x="0" y="1552"/>
                    <a:pt x="924" y="1293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32"/>
          <p:cNvSpPr/>
          <p:nvPr/>
        </p:nvSpPr>
        <p:spPr>
          <a:xfrm>
            <a:off x="7843680" y="6524640"/>
            <a:ext cx="12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2651040" y="2484360"/>
            <a:ext cx="50007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经典细圆简"/>
                <a:ea typeface="经典细圆简"/>
              </a:rPr>
              <a:t>现在你愿意录用我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经典细圆简"/>
                <a:ea typeface="经典细圆简"/>
              </a:rPr>
              <a:t>我是</a:t>
            </a:r>
            <a:r>
              <a:rPr b="0" lang="en-US" sz="2800" spc="-1" strike="noStrike">
                <a:solidFill>
                  <a:srgbClr val="ffffff"/>
                </a:solidFill>
                <a:latin typeface="经典细圆简"/>
                <a:ea typeface="经典细圆简"/>
              </a:rPr>
              <a:t>xx</a:t>
            </a:r>
            <a:r>
              <a:rPr b="0" lang="zh-CN" sz="2800" spc="-1" strike="noStrike">
                <a:solidFill>
                  <a:srgbClr val="ffffff"/>
                </a:solidFill>
                <a:latin typeface="经典细圆简"/>
                <a:ea typeface="经典细圆简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2681280" y="3876840"/>
            <a:ext cx="5310360" cy="6732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all m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 u="sng">
                <a:solidFill>
                  <a:srgbClr val="ffffff"/>
                </a:solidFill>
                <a:uFillTx/>
                <a:latin typeface="Arial"/>
              </a:rPr>
              <a:t>156-****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6527880" y="64641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经典细圆简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3" name="矩形 4"/>
            <p:cNvSpPr/>
            <p:nvPr/>
          </p:nvSpPr>
          <p:spPr>
            <a:xfrm>
              <a:off x="9363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TextBox 7"/>
            <p:cNvSpPr/>
            <p:nvPr/>
          </p:nvSpPr>
          <p:spPr>
            <a:xfrm rot="20926800">
              <a:off x="2037600" y="3390840"/>
              <a:ext cx="504072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3:36:41Z</dcterms:created>
  <dc:creator>Administrator</dc:creator>
  <dc:description/>
  <cp:keywords/>
  <dc:language>en-US</dc:language>
  <cp:lastModifiedBy>a</cp:lastModifiedBy>
  <dcterms:modified xsi:type="dcterms:W3CDTF">2014-05-20T07:25:48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