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D83-3249-4B41-990A-6EB1A793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EDF-6BE6-4AB6-8D46-C581C52B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EDB-7725-4260-81F4-24ED5E63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4A0-AB2D-48E7-8303-0AA5BC7A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F17-CE80-4509-975F-C87170C9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7115-C63E-4DFF-A564-7ED93614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94AC-47BE-4279-B11C-A25091E9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C19-4A79-4C2B-A046-F24894D9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99F1-2301-489F-B1EB-43B2156B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17FD-A402-41FC-A0C4-2D7337B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4E14-0185-4032-8605-FC448375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C83-99E5-4F71-AB07-B16C29DA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2488-B141-4A4B-8F63-21449BC5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5A7-97ED-49C7-8B4B-4DC97A0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4E03-8E37-4850-BEF2-B1326218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F822-48F6-4950-B80E-3C25FD9D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E93D-C4B1-4DC2-A65E-3766C266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A2D-6C95-4BF7-9D77-9205DD75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DC2-EAFD-4753-91CF-B1498BEC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80A-8B69-4C33-BE4B-DD26400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200-9131-4882-AD02-A1B70F4B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DA9-B8DA-4700-A7D1-831CE484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A34-F5CA-42F3-87BC-0D0CE0A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D57-0EAB-434C-B940-7EF9097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8BE3-0FC9-4011-BDA2-06F436C2CE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758-1172-4876-9B3E-DF38B453ED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31752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78040" indent="-254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796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840" y="693900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81720" y="693900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zh-CN" sz="16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4B0F95E6-FDBE-4977-8C4E-D4A53D7F88CA}" type="slidenum"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806760" y="1803240"/>
            <a:ext cx="749412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热浪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模板在线下载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ra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quantif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util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5734080" y="258444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6324480" y="251928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5734080" y="313056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6324480" y="306540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5734080" y="37908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6324480" y="372600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5734080" y="44514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6324480" y="438624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5734080" y="499752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6324480" y="493236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074000" y="1359000"/>
            <a:ext cx="3085920" cy="5257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"/>
          <p:cNvSpPr/>
          <p:nvPr/>
        </p:nvSpPr>
        <p:spPr>
          <a:xfrm>
            <a:off x="354600" y="2184480"/>
            <a:ext cx="48931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0"/>
          <p:cNvSpPr/>
          <p:nvPr/>
        </p:nvSpPr>
        <p:spPr>
          <a:xfrm rot="10800000">
            <a:off x="7362720" y="3578760"/>
            <a:ext cx="4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5734080" y="258444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6324480" y="251928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5734080" y="313056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6324480" y="3065400"/>
            <a:ext cx="166680" cy="16848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5734080" y="37908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6324480" y="372600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5734080" y="445140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6324480" y="438624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5734080" y="4997520"/>
            <a:ext cx="669960" cy="38160"/>
          </a:xfrm>
          <a:prstGeom prst="pie">
            <a:avLst/>
          </a:prstGeom>
          <a:noFill/>
          <a:ln w="38160">
            <a:solidFill>
              <a:srgbClr val="fda5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6324480" y="4932360"/>
            <a:ext cx="166680" cy="1681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7074000" y="1359000"/>
            <a:ext cx="3085920" cy="5257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354600" y="2184480"/>
            <a:ext cx="48931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t’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ami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abi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o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la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Habi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Walk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da531"/>
                </a:solidFill>
                <a:latin typeface="Tahoma"/>
              </a:rPr>
              <a:t>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 rot="10800000">
            <a:off x="7362720" y="3578760"/>
            <a:ext cx="46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558720" y="1371600"/>
            <a:ext cx="593100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485640" y="343080"/>
            <a:ext cx="470556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1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407520" cy="7619760"/>
            <a:chOff x="0" y="0"/>
            <a:chExt cx="9407520" cy="7619760"/>
          </a:xfrm>
        </p:grpSpPr>
        <p:sp>
          <p:nvSpPr>
            <p:cNvPr id="222" name="矩形 4"/>
            <p:cNvSpPr/>
            <p:nvPr/>
          </p:nvSpPr>
          <p:spPr>
            <a:xfrm>
              <a:off x="676800" y="0"/>
              <a:ext cx="7423920" cy="7722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904760"/>
              <a:ext cx="94075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Box 7"/>
            <p:cNvSpPr/>
            <p:nvPr/>
          </p:nvSpPr>
          <p:spPr>
            <a:xfrm rot="20926800">
              <a:off x="2135520" y="3969000"/>
              <a:ext cx="5186160" cy="13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6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558720" y="1371600"/>
            <a:ext cx="670248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97440" y="343080"/>
            <a:ext cx="558036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+INSPI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se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pi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iv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pi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’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sto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m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fore/af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ers/exercise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"/>
          <p:cNvSpPr/>
          <p:nvPr/>
        </p:nvSpPr>
        <p:spPr>
          <a:xfrm>
            <a:off x="558720" y="1371600"/>
            <a:ext cx="665820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552960" y="343080"/>
            <a:ext cx="554868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8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++ENCOUR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infor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ﬃ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u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oi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riend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5568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c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st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558720" y="1371600"/>
            <a:ext cx="6681960" cy="538488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49640" y="343080"/>
            <a:ext cx="54630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86cd4d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+++SUCCES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tu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bi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i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lea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sults/feel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reness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mmediate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embersh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llow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k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58720" y="1371600"/>
            <a:ext cx="593892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481680" y="343080"/>
            <a:ext cx="482760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44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4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(still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609480"/>
                <a:tab algn="l" pos="77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1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558720" y="1371600"/>
            <a:ext cx="686448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64400" y="343080"/>
            <a:ext cx="528156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INA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gnati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ﬀ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p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l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ou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y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’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l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"/>
          <p:cNvSpPr/>
          <p:nvPr/>
        </p:nvSpPr>
        <p:spPr>
          <a:xfrm>
            <a:off x="558720" y="1371600"/>
            <a:ext cx="691524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395280" y="343080"/>
            <a:ext cx="549540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-GUILT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AL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ompan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otion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o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rror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e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cal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ﬁn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al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verweigh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erc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11360" y="2717640"/>
            <a:ext cx="9004320" cy="405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638280" y="901800"/>
            <a:ext cx="890856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ﬁn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mporal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e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rough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83440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 rot="10800000">
            <a:off x="507960" y="2511720"/>
            <a:ext cx="4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558720" y="1371600"/>
            <a:ext cx="6753240" cy="538488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393120" y="343080"/>
            <a:ext cx="552564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4940"/>
                </a:solidFill>
                <a:latin typeface="Tahoma"/>
              </a:rPr>
              <a:t>Motiv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6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---ANGER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8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REVE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ali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ump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verweigh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or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im/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jeal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558720" y="586728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558720" y="504180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558720" y="4216320"/>
            <a:ext cx="6761160" cy="660600"/>
          </a:xfrm>
          <a:prstGeom prst="pie">
            <a:avLst/>
          </a:prstGeom>
          <a:solidFill>
            <a:srgbClr val="fe494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558720" y="3403440"/>
            <a:ext cx="6761160" cy="66060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533520" y="2603520"/>
            <a:ext cx="6762600" cy="66024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533520" y="1803240"/>
            <a:ext cx="6762600" cy="660600"/>
          </a:xfrm>
          <a:prstGeom prst="pie">
            <a:avLst/>
          </a:prstGeom>
          <a:solidFill>
            <a:srgbClr val="66b132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796320" y="571680"/>
            <a:ext cx="4058280" cy="58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++SUCCES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REDOM/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UILT/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416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--ANGER/REVE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2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875160" y="520560"/>
            <a:ext cx="46245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MP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A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6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7327800" y="368280"/>
            <a:ext cx="101880" cy="71121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"/>
          <p:cNvSpPr/>
          <p:nvPr/>
        </p:nvSpPr>
        <p:spPr>
          <a:xfrm>
            <a:off x="7302600" y="4076640"/>
            <a:ext cx="2813040" cy="507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>
            <a:off x="7308720" y="1860480"/>
            <a:ext cx="1320840" cy="2273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"/>
          <p:cNvSpPr/>
          <p:nvPr/>
        </p:nvSpPr>
        <p:spPr>
          <a:xfrm>
            <a:off x="8540640" y="4032360"/>
            <a:ext cx="1320840" cy="227304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"/>
          <p:cNvSpPr/>
          <p:nvPr/>
        </p:nvSpPr>
        <p:spPr>
          <a:xfrm>
            <a:off x="7308720" y="2851200"/>
            <a:ext cx="1320840" cy="12826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3"/>
          <p:cNvSpPr/>
          <p:nvPr/>
        </p:nvSpPr>
        <p:spPr>
          <a:xfrm>
            <a:off x="8540640" y="4032360"/>
            <a:ext cx="1320840" cy="125712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7308720" y="3524400"/>
            <a:ext cx="1320840" cy="60948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3"/>
          <p:cNvSpPr/>
          <p:nvPr/>
        </p:nvSpPr>
        <p:spPr>
          <a:xfrm>
            <a:off x="8540640" y="4032360"/>
            <a:ext cx="1320840" cy="698400"/>
          </a:xfrm>
          <a:prstGeom prst="pie">
            <a:avLst/>
          </a:prstGeom>
          <a:noFill/>
          <a:ln w="88920">
            <a:solidFill>
              <a:srgbClr val="fff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875160" y="520560"/>
            <a:ext cx="46245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MP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OAL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E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AC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Tahoma"/>
              </a:rPr>
              <a:t>IT!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 rot="10800000">
            <a:off x="7360920" y="365508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407520" cy="7619760"/>
            <a:chOff x="0" y="0"/>
            <a:chExt cx="9407520" cy="7619760"/>
          </a:xfrm>
        </p:grpSpPr>
        <p:sp>
          <p:nvSpPr>
            <p:cNvPr id="359" name="矩形 4"/>
            <p:cNvSpPr/>
            <p:nvPr/>
          </p:nvSpPr>
          <p:spPr>
            <a:xfrm>
              <a:off x="676800" y="0"/>
              <a:ext cx="7423920" cy="7722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904760"/>
              <a:ext cx="94075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Box 7"/>
            <p:cNvSpPr/>
            <p:nvPr/>
          </p:nvSpPr>
          <p:spPr>
            <a:xfrm rot="20926800">
              <a:off x="2135520" y="3969000"/>
              <a:ext cx="5186160" cy="13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588960" y="2095560"/>
            <a:ext cx="8415720" cy="21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dc131"/>
                </a:solidFill>
                <a:latin typeface="Tahoma"/>
              </a:rPr>
              <a:t>WHAT</a:t>
            </a: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400" spc="-1" strike="noStrike">
                <a:solidFill>
                  <a:srgbClr val="fdc131"/>
                </a:solidFill>
                <a:latin typeface="Tahoma"/>
              </a:rPr>
              <a:t>IF..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sid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mplitu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absolu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e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"/>
          <p:cNvSpPr/>
          <p:nvPr/>
        </p:nvSpPr>
        <p:spPr>
          <a:xfrm>
            <a:off x="613080" y="762120"/>
            <a:ext cx="892116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a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nsid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bb64"/>
                </a:solidFill>
                <a:latin typeface="Tahoma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r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n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83566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 rot="10800000">
            <a:off x="355320" y="2397600"/>
            <a:ext cx="46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2175120" y="1714680"/>
            <a:ext cx="735912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2521080" y="6864480"/>
            <a:ext cx="29196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2508120" y="68515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2175120" y="1714680"/>
            <a:ext cx="73591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003320"/>
                <a:tab algn="l" pos="6794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4486680" y="2629080"/>
            <a:ext cx="504756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3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7435800" y="5568840"/>
            <a:ext cx="292320" cy="2923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423200" y="555624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4591440" y="2629080"/>
            <a:ext cx="5104440" cy="42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7776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"/>
          <p:cNvSpPr/>
          <p:nvPr/>
        </p:nvSpPr>
        <p:spPr>
          <a:xfrm>
            <a:off x="856152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 rot="10800000">
            <a:off x="426600" y="2397600"/>
            <a:ext cx="4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0" y="0"/>
            <a:ext cx="10159920" cy="7620120"/>
          </a:xfrm>
          <a:prstGeom prst="pie">
            <a:avLst/>
          </a:prstGeom>
          <a:solidFill>
            <a:srgbClr val="002939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6216480" y="36640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6203880" y="36511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7435800" y="5568840"/>
            <a:ext cx="292320" cy="29232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7423200" y="555624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2521080" y="6864480"/>
            <a:ext cx="29196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2508120" y="685152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1403280" y="2076480"/>
            <a:ext cx="292320" cy="291960"/>
          </a:xfrm>
          <a:prstGeom prst="pie">
            <a:avLst/>
          </a:prstGeom>
          <a:solidFill>
            <a:srgbClr val="fda53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1390680" y="2063880"/>
            <a:ext cx="317520" cy="3175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0" y="7372440"/>
            <a:ext cx="10159920" cy="241200"/>
          </a:xfrm>
          <a:prstGeom prst="pie">
            <a:avLst/>
          </a:prstGeom>
          <a:solidFill>
            <a:srgbClr val="343434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622440" y="2006640"/>
            <a:ext cx="8915400" cy="5257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6996600" y="6464160"/>
            <a:ext cx="2178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3237480" y="6413400"/>
            <a:ext cx="217872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494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"/>
          <p:cNvSpPr/>
          <p:nvPr/>
        </p:nvSpPr>
        <p:spPr>
          <a:xfrm>
            <a:off x="765360" y="1333440"/>
            <a:ext cx="8781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b132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6cd4d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5003640"/>
                <a:tab algn="l" pos="6248520"/>
                <a:tab algn="l" pos="82170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8571960" y="7404120"/>
            <a:ext cx="16347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BRAND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1" lang="en-US" sz="1200" spc="-1" strike="noStrike">
                <a:solidFill>
                  <a:srgbClr val="343434"/>
                </a:solidFill>
                <a:latin typeface="Tahoma"/>
              </a:rPr>
              <a:t>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 rot="10800000">
            <a:off x="426960" y="2397600"/>
            <a:ext cx="46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6:00:00Z</dcterms:created>
  <dc:creator>yellownancy</dc:creator>
  <dc:description/>
  <dc:language>en-US</dc:language>
  <cp:lastModifiedBy>a</cp:lastModifiedBy>
  <dcterms:modified xsi:type="dcterms:W3CDTF">2014-12-10T14:58:4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