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4154AD2-3C1B-4558-B7D7-E0F70BD46D7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68360" y="47494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86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7080" y="1341360"/>
            <a:ext cx="5543640" cy="792000"/>
            <a:chOff x="2197080" y="1341360"/>
            <a:chExt cx="5543640" cy="792000"/>
          </a:xfrm>
        </p:grpSpPr>
        <p:sp>
          <p:nvSpPr>
            <p:cNvPr id="106" name=""/>
            <p:cNvSpPr/>
            <p:nvPr/>
          </p:nvSpPr>
          <p:spPr>
            <a:xfrm>
              <a:off x="2197080" y="134136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25520" y="1377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97080" y="2422440"/>
            <a:ext cx="5543640" cy="792000"/>
            <a:chOff x="2197080" y="2422440"/>
            <a:chExt cx="5543640" cy="792000"/>
          </a:xfrm>
        </p:grpSpPr>
        <p:sp>
          <p:nvSpPr>
            <p:cNvPr id="109" name=""/>
            <p:cNvSpPr/>
            <p:nvPr/>
          </p:nvSpPr>
          <p:spPr>
            <a:xfrm>
              <a:off x="2197080" y="242244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25520" y="245880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97080" y="3502080"/>
            <a:ext cx="5543640" cy="792000"/>
            <a:chOff x="2197080" y="3502080"/>
            <a:chExt cx="5543640" cy="792000"/>
          </a:xfrm>
        </p:grpSpPr>
        <p:sp>
          <p:nvSpPr>
            <p:cNvPr id="112" name=""/>
            <p:cNvSpPr/>
            <p:nvPr/>
          </p:nvSpPr>
          <p:spPr>
            <a:xfrm>
              <a:off x="2197080" y="350208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25520" y="35384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97080" y="4581360"/>
            <a:ext cx="5543640" cy="792000"/>
            <a:chOff x="2197080" y="4581360"/>
            <a:chExt cx="5543640" cy="792000"/>
          </a:xfrm>
        </p:grpSpPr>
        <p:sp>
          <p:nvSpPr>
            <p:cNvPr id="115" name=""/>
            <p:cNvSpPr/>
            <p:nvPr/>
          </p:nvSpPr>
          <p:spPr>
            <a:xfrm>
              <a:off x="2197080" y="458136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4617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332000" y="1341360"/>
            <a:ext cx="792000" cy="792000"/>
            <a:chOff x="1332000" y="1341360"/>
            <a:chExt cx="792000" cy="792000"/>
          </a:xfrm>
        </p:grpSpPr>
        <p:sp>
          <p:nvSpPr>
            <p:cNvPr id="118" name=""/>
            <p:cNvSpPr/>
            <p:nvPr/>
          </p:nvSpPr>
          <p:spPr>
            <a:xfrm>
              <a:off x="1332000" y="1341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586160" y="15555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463900"/>
                  </a:solidFill>
                  <a:latin typeface="Arial Black"/>
                </a:rPr>
                <a:t>1</a:t>
              </a:r>
              <a:endParaRPr b="0" i="1" lang="en-US" sz="1400" spc="-1" strike="noStrike">
                <a:ln w="0">
                  <a:noFill/>
                </a:ln>
                <a:solidFill>
                  <a:srgbClr val="463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8360" y="1377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32000" y="2422440"/>
            <a:ext cx="792000" cy="792000"/>
            <a:chOff x="1332000" y="2422440"/>
            <a:chExt cx="792000" cy="792000"/>
          </a:xfrm>
        </p:grpSpPr>
        <p:sp>
          <p:nvSpPr>
            <p:cNvPr id="122" name=""/>
            <p:cNvSpPr/>
            <p:nvPr/>
          </p:nvSpPr>
          <p:spPr>
            <a:xfrm>
              <a:off x="1332000" y="24224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86160" y="263664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8360" y="24588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32000" y="3502080"/>
            <a:ext cx="792000" cy="792000"/>
            <a:chOff x="1332000" y="3502080"/>
            <a:chExt cx="792000" cy="792000"/>
          </a:xfrm>
        </p:grpSpPr>
        <p:sp>
          <p:nvSpPr>
            <p:cNvPr id="126" name=""/>
            <p:cNvSpPr/>
            <p:nvPr/>
          </p:nvSpPr>
          <p:spPr>
            <a:xfrm>
              <a:off x="1332000" y="35020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586160" y="37162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8360" y="35370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332000" y="4581360"/>
            <a:ext cx="792000" cy="792000"/>
            <a:chOff x="1332000" y="4581360"/>
            <a:chExt cx="792000" cy="792000"/>
          </a:xfrm>
        </p:grpSpPr>
        <p:sp>
          <p:nvSpPr>
            <p:cNvPr id="130" name=""/>
            <p:cNvSpPr/>
            <p:nvPr/>
          </p:nvSpPr>
          <p:spPr>
            <a:xfrm>
              <a:off x="1332000" y="458136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586160" y="4795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68360" y="4617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35" name="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928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0560" y="1573200"/>
            <a:ext cx="3295440" cy="487440"/>
            <a:chOff x="1060560" y="1573200"/>
            <a:chExt cx="3295440" cy="487440"/>
          </a:xfrm>
        </p:grpSpPr>
        <p:sp>
          <p:nvSpPr>
            <p:cNvPr id="138" name=""/>
            <p:cNvSpPr/>
            <p:nvPr/>
          </p:nvSpPr>
          <p:spPr>
            <a:xfrm>
              <a:off x="106056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4639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9188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41" name="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44" name="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26920" y="1268280"/>
            <a:ext cx="3745080" cy="4232160"/>
            <a:chOff x="826920" y="1268280"/>
            <a:chExt cx="3745080" cy="4232160"/>
          </a:xfrm>
        </p:grpSpPr>
        <p:sp>
          <p:nvSpPr>
            <p:cNvPr id="149" name=""/>
            <p:cNvSpPr/>
            <p:nvPr/>
          </p:nvSpPr>
          <p:spPr>
            <a:xfrm>
              <a:off x="826920" y="1268280"/>
              <a:ext cx="3745080" cy="4232160"/>
            </a:xfrm>
            <a:custGeom>
              <a:avLst/>
              <a:gdLst>
                <a:gd name="textAreaLeft" fmla="*/ 32400 w 3745080"/>
                <a:gd name="textAreaRight" fmla="*/ 3712680 w 3745080"/>
                <a:gd name="textAreaTop" fmla="*/ 32400 h 4232160"/>
                <a:gd name="textAreaBottom" fmla="*/ 4199760 h 4232160"/>
              </a:gdLst>
              <a:ahLst/>
              <a:rect l="textAreaLeft" t="textAreaTop" r="textAreaRight" b="textAreaBottom"/>
              <a:pathLst>
                <a:path w="21600" h="24409">
                  <a:moveTo>
                    <a:pt x="638" y="0"/>
                  </a:moveTo>
                  <a:arcTo wR="638" hR="638" stAng="16200000" swAng="-5400000"/>
                  <a:lnTo>
                    <a:pt x="0" y="23771"/>
                  </a:lnTo>
                  <a:arcTo wR="638" hR="638" stAng="10800000" swAng="-5400000"/>
                  <a:lnTo>
                    <a:pt x="20962" y="24409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8320" y="1311120"/>
              <a:ext cx="3625560" cy="3859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37880" y="2082600"/>
              <a:ext cx="3321360" cy="321804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87280" y="1484280"/>
            <a:ext cx="3024360" cy="447840"/>
            <a:chOff x="1187280" y="1484280"/>
            <a:chExt cx="3024360" cy="447840"/>
          </a:xfrm>
        </p:grpSpPr>
        <p:sp>
          <p:nvSpPr>
            <p:cNvPr id="153" name=""/>
            <p:cNvSpPr/>
            <p:nvPr/>
          </p:nvSpPr>
          <p:spPr>
            <a:xfrm>
              <a:off x="1187280" y="1484280"/>
              <a:ext cx="3024360" cy="4478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4639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1517400"/>
              <a:ext cx="2961000" cy="1836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859280" y="2346480"/>
            <a:ext cx="3714840" cy="28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2640" y="191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61080" y="241920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61080" y="342756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2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4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6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8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2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70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678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806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180" name="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183" name="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2360" y="425592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186" name="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189" name="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2000" y="35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192" name="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344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195" name="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2720" y="245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198" name="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01" name="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3236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37400" y="1989360"/>
              <a:ext cx="40104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未知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16" name="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5272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596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463900"/>
                  </a:solidFill>
                  <a:latin typeface="Arial"/>
                </a:rPr>
                <a:t>单击添加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7873200">
            <a:off x="1360080" y="2298600"/>
            <a:ext cx="2628360" cy="262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463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3306600">
            <a:off x="1651680" y="20797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463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1977800">
            <a:off x="1180800" y="213840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24" name=""/>
            <p:cNvSpPr/>
            <p:nvPr/>
          </p:nvSpPr>
          <p:spPr>
            <a:xfrm flipH="1">
              <a:off x="1676520" y="177336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9320" y="1773360"/>
              <a:ext cx="975600" cy="3022200"/>
            </a:xfrm>
            <a:prstGeom prst="line">
              <a:avLst/>
            </a:prstGeom>
            <a:ln w="38160">
              <a:solidFill>
                <a:srgbClr val="46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676880" y="294264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9080" y="2942640"/>
              <a:ext cx="2536200" cy="1852920"/>
            </a:xfrm>
            <a:prstGeom prst="line">
              <a:avLst/>
            </a:prstGeom>
            <a:ln w="38160">
              <a:solidFill>
                <a:srgbClr val="46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908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rot="16542000">
            <a:off x="1162800" y="168048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73680" y="4106880"/>
            <a:ext cx="1282320" cy="1326960"/>
            <a:chOff x="3073680" y="4106880"/>
            <a:chExt cx="1282320" cy="1326960"/>
          </a:xfrm>
        </p:grpSpPr>
        <p:grpSp>
          <p:nvGrpSpPr>
            <p:cNvPr id="232" name="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"/>
            <p:cNvGrpSpPr/>
            <p:nvPr/>
          </p:nvGrpSpPr>
          <p:grpSpPr>
            <a:xfrm>
              <a:off x="3073680" y="4922280"/>
              <a:ext cx="1281240" cy="511560"/>
              <a:chOff x="3073680" y="4922280"/>
              <a:chExt cx="1281240" cy="5115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3297600" y="4922280"/>
                <a:ext cx="1057320" cy="480960"/>
                <a:chOff x="3297600" y="4922280"/>
                <a:chExt cx="1057320" cy="480960"/>
              </a:xfrm>
            </p:grpSpPr>
            <p:sp>
              <p:nvSpPr>
                <p:cNvPr id="238" name=""/>
                <p:cNvSpPr/>
                <p:nvPr/>
              </p:nvSpPr>
              <p:spPr>
                <a:xfrm flipH="1" flipV="1" rot="3964800">
                  <a:off x="3873240" y="477864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4780200">
                  <a:off x="3754440" y="482616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5076000">
                  <a:off x="3681720" y="483624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5608200">
                  <a:off x="3593160" y="484380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073680" y="4929120"/>
                <a:ext cx="1055880" cy="504720"/>
                <a:chOff x="3073680" y="4929120"/>
                <a:chExt cx="1055880" cy="504720"/>
              </a:xfrm>
            </p:grpSpPr>
            <p:sp>
              <p:nvSpPr>
                <p:cNvPr id="243" name=""/>
                <p:cNvSpPr/>
                <p:nvPr/>
              </p:nvSpPr>
              <p:spPr>
                <a:xfrm flipH="1" flipV="1" rot="5317800">
                  <a:off x="3650040" y="484416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6133800">
                  <a:off x="3521520" y="4842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6429000">
                  <a:off x="3451320" y="4822200"/>
                  <a:ext cx="186120" cy="76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 rot="6961200">
                  <a:off x="3366000" y="479700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7" name=""/>
          <p:cNvGrpSpPr/>
          <p:nvPr/>
        </p:nvGrpSpPr>
        <p:grpSpPr>
          <a:xfrm>
            <a:off x="1189080" y="4240080"/>
            <a:ext cx="1008000" cy="1016280"/>
            <a:chOff x="1189080" y="4240080"/>
            <a:chExt cx="1008000" cy="1016280"/>
          </a:xfrm>
        </p:grpSpPr>
        <p:grpSp>
          <p:nvGrpSpPr>
            <p:cNvPr id="248" name="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" name=""/>
            <p:cNvGrpSpPr/>
            <p:nvPr/>
          </p:nvGrpSpPr>
          <p:grpSpPr>
            <a:xfrm>
              <a:off x="1249920" y="4907520"/>
              <a:ext cx="874800" cy="348840"/>
              <a:chOff x="1249920" y="4907520"/>
              <a:chExt cx="874800" cy="34884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1402560" y="4907520"/>
                <a:ext cx="722160" cy="327600"/>
                <a:chOff x="1402560" y="4907520"/>
                <a:chExt cx="722160" cy="32760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flipV="1" rot="3964800">
                  <a:off x="1796040" y="48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4780200">
                  <a:off x="171468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249920" y="4912560"/>
                <a:ext cx="720720" cy="343800"/>
                <a:chOff x="1249920" y="4912560"/>
                <a:chExt cx="720720" cy="34380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flipV="1" rot="5317800">
                  <a:off x="164304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6133800">
                  <a:off x="1555920" y="48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6429000">
                  <a:off x="1506960" y="4838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6961200">
                  <a:off x="1449720" y="48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84360" y="2440080"/>
            <a:ext cx="1008000" cy="1016280"/>
            <a:chOff x="684360" y="2440080"/>
            <a:chExt cx="1008000" cy="1016280"/>
          </a:xfrm>
        </p:grpSpPr>
        <p:grpSp>
          <p:nvGrpSpPr>
            <p:cNvPr id="265" name="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"/>
            <p:cNvGrpSpPr/>
            <p:nvPr/>
          </p:nvGrpSpPr>
          <p:grpSpPr>
            <a:xfrm>
              <a:off x="745200" y="3107520"/>
              <a:ext cx="874800" cy="348840"/>
              <a:chOff x="745200" y="3107520"/>
              <a:chExt cx="874800" cy="3488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7840" y="3107520"/>
                <a:ext cx="722160" cy="327600"/>
                <a:chOff x="897840" y="3107520"/>
                <a:chExt cx="722160" cy="327600"/>
              </a:xfrm>
            </p:grpSpPr>
            <p:sp>
              <p:nvSpPr>
                <p:cNvPr id="272" name=""/>
                <p:cNvSpPr/>
                <p:nvPr/>
              </p:nvSpPr>
              <p:spPr>
                <a:xfrm flipH="1" flipV="1" rot="3964800">
                  <a:off x="1291320" y="30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4780200">
                  <a:off x="120996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45200" y="3112560"/>
                <a:ext cx="720720" cy="343800"/>
                <a:chOff x="745200" y="3112560"/>
                <a:chExt cx="720720" cy="343800"/>
              </a:xfrm>
            </p:grpSpPr>
            <p:sp>
              <p:nvSpPr>
                <p:cNvPr id="277" name=""/>
                <p:cNvSpPr/>
                <p:nvPr/>
              </p:nvSpPr>
              <p:spPr>
                <a:xfrm flipH="1" flipV="1" rot="5317800">
                  <a:off x="113832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6133800">
                  <a:off x="1051200" y="30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 rot="6429000">
                  <a:off x="1002240" y="3038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 rot="6961200">
                  <a:off x="945000" y="30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708360" y="2421000"/>
            <a:ext cx="1008000" cy="1016280"/>
            <a:chOff x="3708360" y="2421000"/>
            <a:chExt cx="1008000" cy="1016280"/>
          </a:xfrm>
        </p:grpSpPr>
        <p:grpSp>
          <p:nvGrpSpPr>
            <p:cNvPr id="282" name="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2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" name="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3769200" y="3088440"/>
              <a:ext cx="874800" cy="348840"/>
              <a:chOff x="3769200" y="3088440"/>
              <a:chExt cx="874800" cy="3488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3921840" y="3088440"/>
                <a:ext cx="722160" cy="327600"/>
                <a:chOff x="3921840" y="3088440"/>
                <a:chExt cx="722160" cy="32760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3964800">
                  <a:off x="4315320" y="298980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4780200">
                  <a:off x="423396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69200" y="3093480"/>
                <a:ext cx="720720" cy="343800"/>
                <a:chOff x="3769200" y="3093480"/>
                <a:chExt cx="720720" cy="3438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 flipV="1" rot="5317800">
                  <a:off x="416232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6133800">
                  <a:off x="4075200" y="3033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6429000">
                  <a:off x="4026240" y="30196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6961200">
                  <a:off x="3969000" y="300240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8" name=""/>
          <p:cNvGrpSpPr/>
          <p:nvPr/>
        </p:nvGrpSpPr>
        <p:grpSpPr>
          <a:xfrm>
            <a:off x="2197080" y="1268280"/>
            <a:ext cx="1008000" cy="1016280"/>
            <a:chOff x="2197080" y="1268280"/>
            <a:chExt cx="1008000" cy="1016280"/>
          </a:xfrm>
        </p:grpSpPr>
        <p:grpSp>
          <p:nvGrpSpPr>
            <p:cNvPr id="299" name="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"/>
            <p:cNvGrpSpPr/>
            <p:nvPr/>
          </p:nvGrpSpPr>
          <p:grpSpPr>
            <a:xfrm>
              <a:off x="2257920" y="1935720"/>
              <a:ext cx="874800" cy="348840"/>
              <a:chOff x="2257920" y="1935720"/>
              <a:chExt cx="874800" cy="3488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2410560" y="1935720"/>
                <a:ext cx="722160" cy="327600"/>
                <a:chOff x="2410560" y="1935720"/>
                <a:chExt cx="722160" cy="327600"/>
              </a:xfrm>
            </p:grpSpPr>
            <p:sp>
              <p:nvSpPr>
                <p:cNvPr id="306" name=""/>
                <p:cNvSpPr/>
                <p:nvPr/>
              </p:nvSpPr>
              <p:spPr>
                <a:xfrm flipH="1" flipV="1" rot="3964800">
                  <a:off x="2804040" y="18370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4780200">
                  <a:off x="272268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257920" y="1940760"/>
                <a:ext cx="720720" cy="343800"/>
                <a:chOff x="2257920" y="1940760"/>
                <a:chExt cx="720720" cy="343800"/>
              </a:xfrm>
            </p:grpSpPr>
            <p:sp>
              <p:nvSpPr>
                <p:cNvPr id="311" name=""/>
                <p:cNvSpPr/>
                <p:nvPr/>
              </p:nvSpPr>
              <p:spPr>
                <a:xfrm flipH="1" flipV="1" rot="5317800">
                  <a:off x="265104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 rot="6133800">
                  <a:off x="2563920" y="18806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6429000">
                  <a:off x="2514960" y="18669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6961200">
                  <a:off x="2457720" y="18496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 rot="21229800">
            <a:off x="1598400" y="167400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46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20" name="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4639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3560" y="1605600"/>
              <a:ext cx="28800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1477800" y="400536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46880" y="609300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4639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2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30T03:11:50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