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2BAA-D182-42F9-B9CF-7CC0AD62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904-9A8D-4D36-B334-C746BDB8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5B1-8844-456F-A05D-BE8425AD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9D9-A991-4980-A86C-A513B33E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09D6-E4DA-4853-8819-1DD902EAF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EFEE-E561-4DBB-9071-8E9B603F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9188-F320-4218-AE76-BE1B08C8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8604-D19C-4F95-BEDE-D2CD1311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A6EE-162E-433E-BE36-A645E7FD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F3E2-6CFD-498C-B573-10C05A15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3A0D-CEA8-4510-8738-0AB46E84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48A-3FCA-4F05-B8BB-8D58049C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19C3-EF9C-4C0D-AF60-C88596BE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60F2-2505-4578-919C-ED94A7C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5F3E-3E1B-410C-9C78-C0191472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3847-1263-405D-8C1F-4C2B2889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6132-4518-4CA9-89AB-35A612D3D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61A-44B9-4232-A412-16559BBF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305-9F4E-4337-905A-96BAD2E4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9E0D-9B5C-4CC3-9F5B-207A273A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A727-0C6F-4B39-B5A3-68B44071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29D-CA12-4B59-999F-1CD1AC2A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42C-AB08-4331-8255-602CB3D4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CCF-FBFD-4AD2-8A53-FF6DEEE9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E363-D982-427D-A2A8-345FA65EB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EC3E-5A33-47EF-A03B-DAA3E5956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44640"/>
            <a:ext cx="640080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588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7752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9:33:14Z</dcterms:created>
  <dc:creator/>
  <dc:description/>
  <dc:language>en-US</dc:language>
  <cp:lastModifiedBy/>
  <cp:lastPrinted>1899-12-30T00:00:00Z</cp:lastPrinted>
  <dcterms:modified xsi:type="dcterms:W3CDTF">2014-05-30T07:30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