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8DC7-733B-4ED8-8831-9BE770C0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B3A17-70B8-4996-A022-BBB4163E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6273D-F336-4000-9743-FF2EB737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EF19A-C09D-4F94-99F9-ADA747CD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08F5-8688-48B1-BC29-B8ABDD15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53ED6-C183-4AA6-B85E-56AEF507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92779-4764-4172-AB14-1691F39F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40F53-D877-4F4F-868C-CE80CF1C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DB9C7-7C0C-46BA-BFB5-ED401380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0C05D-21AF-4232-9CAC-F5EE0597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D5BDC-9F10-42A9-B40D-4AF78053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E61B1-77F6-4201-BF7F-8827C6B8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95F6-AFDA-4ED4-A790-90446626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F8681-BF6F-46A9-BE0A-B90A36B6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4703-2AE8-423F-9C01-9A02026C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42B2C-CEB8-45B4-A2D1-49A9705F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9FC1E-9C25-48C3-899E-7FAE8FD8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901B4-2985-4077-9970-B034E3AC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9225-384B-4468-AF88-F7B63011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ADE7D-FA5B-405F-87AF-E998FF66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3D5D2-FFA4-4397-8D8E-55261079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EAB74-A2B0-401F-AD90-2C6649D9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A9129-21F9-4D3C-B1DD-74922F32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7847C-8936-4A0C-BE6D-62C270F6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CD103-F0D9-4621-B79B-2AD90249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BF71F-0FD6-4BCF-9492-0D8F28BA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8A5F1-70F7-455C-89FA-8834FEFB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CE5AB-DBB5-4973-8570-275C39F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800CD-D9C1-4DBC-A1FC-AB8D1314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D7643-9187-4479-987C-B9B1781D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2E204-2CE2-4DAA-A0B6-9F45FD7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9D214-5CDF-479B-B4F0-6B15B408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BDDC4-072B-41DC-90E7-85535117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4E8AE-77CC-4697-AF54-C7F2764B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6A9F4-E9E8-4D0B-8FA2-18E2B340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33240-F8C4-4C42-8EFD-19ABAD5D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24A08-89CA-4457-88D5-FBA0CAC0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75098-2D83-452C-93FE-F560B80C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54E12-7497-446C-AC21-7CC4AD74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15A4F-5CA1-4787-82EF-A7EAB8EC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0AC1B-93E9-4AAC-9712-2E75B72A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F26B6-1FA2-44E8-B4E2-D0183D4B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E3D07-F49D-429F-A48F-91473401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A61DC-5ECA-4BC9-BF40-BB9496E7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B2F1D-43BB-49F0-8C89-5A3E5112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1B4CD-8112-4A59-A1B5-BD32CF8D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EA0E3-01D3-4FFE-B68F-FAE8148F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2D8A3-3345-41E8-BEC4-32CCC4E5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C442E-8D51-49D1-88B5-8891D3DE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72A91-C182-4F22-BF66-84C07342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32D5A-54A4-4073-93DD-8B59210D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6B00A-AC10-4B6A-BB7F-BE52CE88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ACF9D-D9E1-4C5C-9E6E-0102694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333D5-2E67-4E58-80B4-0ABF2F4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D7F0A-1FCD-47E7-B2D5-73B86D84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CECBC-30E5-48D3-8981-068B628C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19C63-C58F-4C0B-9E05-F817CF3D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5D634-7797-441B-B814-E119945B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71CB7-53E4-44BE-AA56-28A293F3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1E3BC-0D61-4972-9211-8DCFF032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EF32B-DD7E-4CA4-A579-6B634B8B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47F07-D128-47F8-B885-5BDE25F3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65FB1-5C6D-4E99-B7F9-FD6E8C36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6E905-5200-4AF2-9808-1090DAA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30CCA-7314-4F9E-987D-E1C4BEDC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FBB68-B4B2-4EE4-AF3E-5F56D778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A0517-776D-43AA-93D5-140381F6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2C9EC-B91A-4119-9293-9CFC76C2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2BA97-6546-40DC-A64C-B59EDC81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020-2A3F-48CE-9ECC-6526235B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0BB-8F4C-4417-9119-25B49E37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29C-8086-4D75-8AEF-9B3C9965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A02-2927-4592-8DD5-21EECDB9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259-47BF-40CA-9D8D-1FB7346A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70D-445E-4431-B4B1-2CC459F8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217-B764-4875-9538-E34EECFB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61B-FF78-49EC-8AC1-C01A784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46C-C5E1-4742-A542-32470096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C46-CC6C-4A85-B183-D65DED35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758-D380-4A04-84F0-2D52708F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1DE-8611-40C6-8DAE-597FBAD9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996-BC80-44E4-9FB2-D43C388D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E7C7-83B4-4ADD-BFA2-F99694E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EDD0-2C94-4866-9A08-2625FF62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D892-9CEF-41B4-8C3B-08A60464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5749-8E07-4E1B-ACA7-DB858747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0AEF-F920-4364-A7BC-AA8B8585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DCD2-D19C-4F15-9A3E-3469630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AA57-DA55-4165-BDFD-9A721FE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58D9-78AA-4956-BF80-ABCC646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83D8-3728-4413-9245-2C3E42C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490E-7CCE-4D35-9782-35A7F4A4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0CEA-2D1D-41F9-ACF2-C3E8252B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2912-1642-4FD6-ADEB-A80BFD1F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D444-3652-47FE-BF20-511435E0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63C3-7ABE-41FA-B691-22892921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D5B4-99C7-4A08-9F50-C5083442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1E18-51EA-4FA1-BAA1-AC0E261E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E2E5-AC0B-40D4-A7AF-3255A269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7862-FEB3-4684-940D-EB58D46A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1AF5-ABB7-4709-B974-EC9FB21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6E8B-EC3E-4394-9329-C28C695E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6BC1-BD35-457F-9A8E-43C675D1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CE66-355C-4203-8F29-A46040F4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F9F0-0648-47C2-B410-EFBFBED4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93D92-FFB0-40D4-8B22-DAF6D9EF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BE68-6339-45F6-9051-BB3E794F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1AA7-183B-4C9D-87F3-D4E82155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B91A-BA3B-4DB2-977B-2ED8D4BD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1201-97A2-4C4A-BC2C-A0B0B6D3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5F6F-28FC-4228-AC91-E7E2DF8F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19AF-7402-4BA6-852C-011987C7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07AB-6365-4544-9A77-6D866661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57658-53E5-4484-8996-9325704F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2B41-1992-42D7-B968-C5DB93EC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EC2A-68D1-4F1D-AD47-C7137053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1CF3A-EDDC-4F65-9F2E-CCF7B637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6FD8-9C2D-47D2-A2E7-5A567742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B916C-29B9-4CD5-B841-BE8843D1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EACDC-5CEC-4DFE-A4A9-3C867D6B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3AFDC-F248-431C-852C-8563DF24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1EEB-496C-4E89-B8E0-DECF9EE4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2B401-F622-4425-BF99-0A36109B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8B8B2-B32F-4419-87AA-1EEA3774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7DCEC-DBFB-498C-91A9-E500AE4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6831C-BBD6-4A2A-A32B-8C906C89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F244A-12E8-4E14-B40B-35095D4D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74747-B50D-4FE9-A9AC-DA78FB04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D907A-909A-4E44-B861-F454D40E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A88C-8178-4164-8362-350BD14A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992CA-1294-4DC5-81B6-4EB8CB2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15E1-8430-4D95-84C8-6CD23AAE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9E96D-074F-454E-BA01-781717D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7C8D2-E8F2-4C3D-8984-AADC98D2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4CB40-7B18-4E7A-8665-6CD67020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3EB73-BA4E-4BC8-BEFE-9CB1162B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0041E-74AC-4C3A-8DAF-4730908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A017C-EAC2-4E45-B774-0E0D50D5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8CF0-B61F-4703-BB0D-DCE1CFBB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E9B3-33F5-4E1B-A269-ED6736BC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318B1-2D52-42E3-B7DB-BE00D63F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5B097-C36E-4C67-9520-D052481A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C183A-95C6-4A7E-B069-AC99A86B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62CFB-33DA-4136-836C-3DEBCEC9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1" name="Picture 159" descr="logo"/>
          <p:cNvPicPr/>
          <p:nvPr/>
        </p:nvPicPr>
        <p:blipFill>
          <a:blip r:embed="rId3"/>
          <a:stretch/>
        </p:blipFill>
        <p:spPr>
          <a:xfrm>
            <a:off x="0" y="85680"/>
            <a:ext cx="961920" cy="18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2368-893F-439C-BA1A-D569BCB6D91C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22DD-6845-4BA7-870B-167FFAAD006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7275-E955-4212-B40F-A99EECCC627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BD5C-B4CF-45CA-BBAA-5F300C145AA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84FA-1F66-4261-BE49-77C952AF908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09E8-2C79-4728-AC3F-38316AA88E8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5671-E927-4EE0-A6CC-2DED5CA5F4F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647F-BC6F-48DB-9450-ED110D78B82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BA79-4E45-43C4-B035-F0EA2936296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4F06-083C-454E-9642-07F471211F8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3385-4426-4FAE-B6BC-90F6DCD778F9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9E1A-34C4-4214-97EC-E717C7008B4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03FA-2340-494C-9F8E-F84DB3A161B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0D7F-8CB3-4B65-9956-58B52C5F6ED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01E0-BA2D-4B17-B1C9-C35DC2133DA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D909-B671-4E64-B26C-2C955617E3F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7F65-6E10-4CB3-8C0F-503C1231E68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C61E-4B3A-433E-8D68-623ADA5C12D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D23B-6566-4772-BAA2-FC1E193F1A4C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163B-9324-48FB-8FD4-CC0AF51686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64DA-E000-49C1-B2F6-376E050DF73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91A-BFDD-4F07-A2E3-FC9BA342BB9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52DD-7573-49D4-8022-FFACB4CB566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95E6-B1A5-4998-AE5F-CF4C07A50A3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91640" y="2402640"/>
            <a:ext cx="7634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45a10"/>
                </a:solidFill>
                <a:latin typeface="Verdana"/>
                <a:ea typeface="Gulim"/>
              </a:rPr>
              <a:t>商务会谈</a:t>
            </a:r>
            <a:r>
              <a:rPr b="1" lang="en-US" sz="2800" spc="-1" strike="noStrike">
                <a:solidFill>
                  <a:srgbClr val="a45a10"/>
                </a:solidFill>
                <a:latin typeface="Verdana"/>
                <a:ea typeface="Gulim"/>
              </a:rPr>
              <a:t>PPT</a:t>
            </a:r>
            <a:r>
              <a:rPr b="1" lang="zh-CN" sz="2800" spc="-1" strike="noStrike">
                <a:solidFill>
                  <a:srgbClr val="a45a10"/>
                </a:solidFill>
                <a:latin typeface="Verdana"/>
                <a:ea typeface="Gulim"/>
              </a:rPr>
              <a:t>模板免费下载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pic>
        <p:nvPicPr>
          <p:cNvPr id="570" name="Picture 401" descr="logo"/>
          <p:cNvPicPr/>
          <p:nvPr/>
        </p:nvPicPr>
        <p:blipFill>
          <a:blip r:embed="rId2"/>
          <a:stretch/>
        </p:blipFill>
        <p:spPr>
          <a:xfrm>
            <a:off x="0" y="1873080"/>
            <a:ext cx="96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  <a:ea typeface="Gulim"/>
              </a:rPr>
              <a:t>How DemoCreator Works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73200" y="1423800"/>
            <a:ext cx="784368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45a10"/>
                </a:solidFill>
                <a:latin typeface="Verdana"/>
                <a:ea typeface="宋体"/>
              </a:rPr>
              <a:t>Record the actions taken on the application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Record</a:t>
            </a: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mouse movements and keystrok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45a10"/>
                </a:solidFill>
                <a:latin typeface="Verdana"/>
                <a:ea typeface="宋体"/>
              </a:rPr>
              <a:t>Record narrations as instruction</a:t>
            </a:r>
            <a:r>
              <a:rPr b="1" lang="zh-CN" sz="2000" spc="-1" strike="noStrike">
                <a:solidFill>
                  <a:srgbClr val="a45a10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Record narr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Import audio from local disk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5a10"/>
                </a:solidFill>
                <a:latin typeface="Verdana"/>
                <a:ea typeface="宋体"/>
              </a:rPr>
              <a:t>Add callouts to the video tutorial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Balloons, highlights and animations to enhance the video tutorial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5a10"/>
                </a:solidFill>
                <a:latin typeface="Verdana"/>
                <a:ea typeface="宋体"/>
              </a:rPr>
              <a:t>Publish the video tutorials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Publish to Flash movie, auto-running CD/EXE, LMS and email with AICC/SCROM compli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3" name="Picture 5" descr="logo"/>
          <p:cNvPicPr/>
          <p:nvPr/>
        </p:nvPicPr>
        <p:blipFill>
          <a:blip r:embed="rId2"/>
          <a:stretch/>
        </p:blipFill>
        <p:spPr>
          <a:xfrm>
            <a:off x="0" y="264960"/>
            <a:ext cx="96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42640" y="2653920"/>
            <a:ext cx="4024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  <a:ea typeface="宋体"/>
              </a:rPr>
              <a:t>Thank you !</a:t>
            </a:r>
            <a:endParaRPr b="1" lang="en-US" sz="32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3:10:41Z</dcterms:created>
  <dc:creator/>
  <dc:description/>
  <dc:language>en-US</dc:language>
  <cp:lastModifiedBy>a</cp:lastModifiedBy>
  <dcterms:modified xsi:type="dcterms:W3CDTF">2014-12-10T15:07:18Z</dcterms:modified>
  <cp:revision>2</cp:revision>
  <dc:subject/>
  <dc:title>Wondershare DemoCreato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