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C1A9-C37D-4846-9D56-89A452E917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CE6F-224E-437C-996A-F03977BF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8845-442C-400D-9CE3-1756D6E1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FDB3-594E-4E60-8C08-9076A745FB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0852D-DABF-441E-A65F-4F04264B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1E3DA-76FF-4B95-9886-2ADA327F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9141A-E829-459A-9F6D-3952F972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A3D57-09B1-40A7-8278-8D907E07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241DD-08C8-4E48-8FAD-5F79764F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41DB3-5A78-4C08-A4EF-E03578AB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FAAB5-0D6E-4C3F-B9F3-415F616C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8AEA-65FB-48B9-AB7A-23FF71B7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6045F-D9DD-49B8-8F23-0022D5FE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B5ECF-9241-42BB-B1D6-A8FE2167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62D70-19D6-45A0-B749-D6646C8E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BC62E-830C-4090-A791-8A5F3E25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DE5AD-435F-4EAD-B9D1-F95DCD08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6FC9-B9D5-4613-8F36-E0C68B07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F46C-C7CB-47EF-9E3E-8C6E7490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81DE-6996-4569-8C1C-4E9E46A6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B666-F501-4736-AC6C-F2C22985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C321C-2E19-482D-97D5-A0E6B19E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0285-071F-4D87-9055-95C59692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71AB-1B8F-4779-80F5-723307B7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103" descr=""/>
          <p:cNvPicPr/>
          <p:nvPr/>
        </p:nvPicPr>
        <p:blipFill>
          <a:blip r:embed="rId3"/>
          <a:stretch/>
        </p:blipFill>
        <p:spPr>
          <a:xfrm>
            <a:off x="0" y="701640"/>
            <a:ext cx="9144000" cy="82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仿宋_GB2312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SzPct val="25000"/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仿宋_GB2312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25000"/>
              <a:buFont typeface="Wingdings" charset="2"/>
              <a:buChar char=""/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仿宋_GB2312"/>
            </a:endParaRPr>
          </a:p>
          <a:p>
            <a:pPr lvl="3" marL="1600200" indent="-228600">
              <a:spcBef>
                <a:spcPts val="601"/>
              </a:spcBef>
              <a:buClr>
                <a:srgbClr val="b2b2b2"/>
              </a:buClr>
              <a:buSzPct val="25000"/>
              <a:buFont typeface="Wingdings" charset="2"/>
              <a:buChar char=""/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仿宋_GB2312"/>
            </a:endParaRPr>
          </a:p>
          <a:p>
            <a:pPr lvl="4" marL="2057400" indent="-228600">
              <a:spcBef>
                <a:spcPts val="601"/>
              </a:spcBef>
              <a:buClr>
                <a:srgbClr val="b2b2b2"/>
              </a:buClr>
              <a:buSzPct val="25000"/>
              <a:buFont typeface="Wingdings" charset="2"/>
              <a:buChar char=""/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仿宋_GB2312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仿宋_GB2312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仿宋_GB2312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191120" y="653400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F95E-D66B-4DD5-80C2-23CAD5ED85F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仿宋_GB2312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609480" y="930240"/>
            <a:ext cx="7467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仿宋_GB2312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仿宋_GB2312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仿宋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仿宋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仿宋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4C09-E3D8-4FD0-A6E4-1905C4CD9D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仿宋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4172040"/>
            <a:ext cx="9144000" cy="360"/>
            <a:chOff x="0" y="4172040"/>
            <a:chExt cx="9144000" cy="360"/>
          </a:xfrm>
        </p:grpSpPr>
        <p:sp>
          <p:nvSpPr>
            <p:cNvPr id="83" name="Line 35"/>
            <p:cNvSpPr/>
            <p:nvPr/>
          </p:nvSpPr>
          <p:spPr>
            <a:xfrm>
              <a:off x="0" y="4172040"/>
              <a:ext cx="914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仿宋_GB2312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0" y="41720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仿宋_GB2312"/>
              </a:endParaRPr>
            </a:p>
          </p:txBody>
        </p:sp>
      </p:grpSp>
      <p:sp>
        <p:nvSpPr>
          <p:cNvPr id="85" name="Rectangle 37"/>
          <p:cNvSpPr/>
          <p:nvPr/>
        </p:nvSpPr>
        <p:spPr>
          <a:xfrm>
            <a:off x="-3240" y="914400"/>
            <a:ext cx="914724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仿宋_GB2312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520" y="4343040"/>
            <a:ext cx="5943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宋体"/>
              </a:rPr>
              <a:t>商务全球化</a:t>
            </a:r>
            <a:r>
              <a:rPr b="1" lang="en-US" sz="4000" spc="-1" strike="noStrike">
                <a:solidFill>
                  <a:srgbClr val="ffffff"/>
                </a:solidFill>
                <a:latin typeface="仿宋_GB2312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宋体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仿宋_GB2312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5715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仿宋_GB2312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819520" y="5562720"/>
            <a:ext cx="59436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8834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zh-CN" sz="3200" spc="-1" strike="noStrike">
              <a:solidFill>
                <a:srgbClr val="ffffff"/>
              </a:solidFill>
              <a:latin typeface="仿宋_GB2312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zh-CN" sz="2400" spc="-1" strike="noStrike">
              <a:solidFill>
                <a:srgbClr val="000000"/>
              </a:solidFill>
              <a:latin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6720" y="0"/>
              <a:ext cx="6745320" cy="7012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仿宋_GB2312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600" y="3572280"/>
              <a:ext cx="466704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1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仿宋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0Z</dcterms:created>
  <dc:creator/>
  <dc:description/>
  <dc:language>en-US</dc:language>
  <cp:lastModifiedBy>a</cp:lastModifiedBy>
  <dcterms:modified xsi:type="dcterms:W3CDTF">2014-12-10T15:04:36Z</dcterms:modified>
  <cp:revision>10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