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48A-041C-4A77-8924-F6CF2361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8D7-AD0E-4033-A793-73736FEC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EF313-EE52-4C74-A845-B56E99C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4074-4BE2-4C87-BAA6-2AC6ECE6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FE899-6DB6-4799-B385-D5520E27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7BA8-E40E-4621-AA29-1E793E0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348DF-D34F-4637-889A-8A3BF37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0412-40CF-4651-93AC-CFA60CF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C279E-7310-4514-80AB-AF90EB18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CBE2A-933D-4C77-A229-C051FF64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809D5-C853-430A-9D8F-663FBC8A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CAD34-C799-4F22-AC29-C0090A8E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A4F-7F19-49E7-BEA8-D1EC0B85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B9D4C-1BD3-4C8D-98B0-056CB2CA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EADE1-4E11-40AD-9293-FD47808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90C3-08D7-41E9-876A-28C19F9F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ADCE9-09C0-4FEC-A222-A947AB4D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AF1A7-6613-4D09-8F25-546D7ACD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07F68-AE95-46ED-87AD-05D3D083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BF9D5-F077-42CA-AF7A-3FF5F5B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C75F9-2709-47BD-B6A4-A892FE4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C0A6F-A2E5-48A7-A1A5-E7847C8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2CCA-C14C-4E2D-82C0-2AD10C1A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EE6-5D28-49EC-8EC7-4731019A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2F8BD-3935-46AD-9E6A-7C48BDDA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44193-66FF-4064-B532-DE85AA88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B38A4-1B25-4C92-932A-5A7C33D7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E41EA-3AA6-44ED-A6DD-6D81961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31504-F297-4D84-99DA-9657440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20521-5557-4B1F-AA8C-90AE8DC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58725-7A15-47A3-8A79-D73ED311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1EEA1-88EA-4DD8-A77D-3CA7407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EBCC-7809-455D-A8DD-8481D4A3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2198-1EC0-4DDC-9C72-84DED28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F1A-AD3E-4405-A48A-CE0B0BC9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00C21-C3AB-427D-BB7F-B3D2D6C8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9ECF-0FFF-45D8-94EF-DE785699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2EA18-CBAD-4A73-909B-BEB1825B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058F8-DB77-4C91-A587-7E52419E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B96D6-62CC-448E-9042-54CB3FC6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BDB96-045A-4508-9FD0-DA9CDA7E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143DE-F10A-46AC-AE14-B62F1DC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9AC75-E3AD-48C8-AF33-6FECC33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8ADCC-738C-479B-94FD-37AFF37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6958B-9557-4D1D-97D0-3625CF3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CB4C-5EDB-40FE-908F-0440C5F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C12E0-A210-46E8-9F92-963A0E2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F0135-6A84-432F-9AE3-D6ED50E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FB0A2-93E5-4D92-B4FD-E63496CC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67774-0D97-4683-ACAC-A4797E57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D663A-CF54-4DC0-BF34-4BD3DA36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E4D03-4F94-4A4E-9B93-9D63D61A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1E966-4261-4537-80D5-85148BC0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7E6E5-425F-4800-B300-655541F0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D7989-5044-4C02-8F56-BE897738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FDB48-30E1-4ACB-B222-59DF68B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2D7E-CF59-4512-BB3D-9E041D7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C4FE8-F1BF-4BEC-9B30-42E627F5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C9095-6078-4978-92A7-E42A75CA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57E5D-BD79-4BD0-B8DB-725F9CB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2E712-CFCC-4C7D-82CE-19B4EBB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D7AC3-FAFB-4548-86EF-E6C124EB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BFE5B-816C-4F4E-B5C8-61F272BD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4CECF-5C7C-4D47-A3FC-1329A53A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2FE1F-6F50-4D46-B142-BDD35883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ABFC-FC66-49B5-8BB9-F2881876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EAF69-7B79-4DDC-8A55-04BEA2B3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744-8786-4601-A0BE-ADD0BE8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76BF5-A07F-4C17-9C7C-11188C6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8C7C1-FC1C-4A66-ADB3-F510D1C8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8F5AA-3609-4F26-AD9A-2FD4E47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19F5E-8E2B-4965-ABF5-3285CD28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06942-A741-4DC0-9B65-FADBFA6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4EB37-999F-4161-A93A-C72B2CF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7C034-778D-442A-8D68-109A1E91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3B391-67B8-4FA4-BB4D-F466E4CC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6BC0C-A9C6-4D64-83B1-5558EC82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C05-4F31-4137-A6F2-5C7EEB2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FC04-D5F4-4EC0-A806-8ED36BE0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5570-A765-48F2-829D-0212C66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780-82B3-438E-B220-06D22D0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F38B-231D-4B41-A770-CCB22F4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595-C0D5-48D6-8166-7C925C9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83B5-08C8-4599-9457-D2565860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50A-B6FB-4551-BA86-A5C0CB65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3CF-3065-4100-AE00-EB574E1E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9983-A7B0-4CD7-8FDF-6910166F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0FA6-B286-422B-A40E-E70BE674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7E19-7EEB-4DAD-BD72-433E423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EE0B-E466-4947-BD32-BC90077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01DE-A4FD-4890-BD53-DDE4D38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2D-B9F4-411E-8401-B69C9A06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ECB2F-4B18-46CE-9023-A1B0E93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1814-1027-4002-844D-8BE18794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B180-1970-4073-8CEB-C55EA71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A1F2-6E83-47A9-A245-D529D6E4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8746-C280-475B-A802-F113DD75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7173-A50E-487F-A07D-846FABEF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F123-21B7-4088-9928-54B94D84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213E-5D57-43BA-B725-6BAFB8B2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9996-B057-47FA-9122-C6635CA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1A50-5FC3-445A-8B6D-929117C2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0F5-4B5D-4A7D-B81E-25F0307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1CEF-58BF-46DB-9AD5-829C2488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25E1-AFBA-48E4-8135-69159B9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8AE7-F239-4B02-8460-337FDD1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9A50-E236-4245-9C1B-64D1103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1046-4338-4586-82A5-28BFB23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3E239-6321-4784-950B-47AA3B6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7B79-5566-4E9A-A952-AA0A54CE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D9C3-A3A8-4E4E-A6EC-B1F24DE1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FE79-944E-4563-B5B4-54235AB0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846B-6503-47B0-B14B-BA7A04F4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349-D67F-4B11-B0DE-872C3E50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AC5B-9D7B-490E-8FAD-08C4185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3B5A-C685-4E0E-B8E6-C32B4E54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5B7DE-FA10-4292-A1ED-CDC8FDD2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EE11-C787-4DB8-AD07-8333DFBF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DBCD-5A52-44AE-9AB9-8D6D9C8C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29A8-7C4A-48E7-926B-83E2B83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2B8E-070A-4C82-AC69-392D55BB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8945C-721D-487D-89A6-098BB41D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5E38-1C75-4ABD-953E-E36A07A5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4135-FA27-4813-8EC0-4A5548C7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1F6-ACCE-461C-AC4E-F0365D8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CA81-2DD3-4A77-8C27-8712E9EE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7563-D6AC-4777-A55B-304461AD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845D-FA5C-4DBB-9E6A-70F2B635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0F37-01C9-48E2-9F19-3395754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7ECB0-502D-4D6B-8C1D-615EE81C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C5C1-D2BF-4BC2-AB72-C57249CC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7BB2-8803-4A65-93C8-650257B7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A8FBF-20D4-47DC-B836-9B84ED7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E61B-A218-4A6F-A588-D2BD059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7C513-781E-439F-B81B-6E568AF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847-3985-4032-BEC1-93C6CC8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A1E9-8561-4B5D-976A-9679503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1688F-D731-4965-A092-0770362D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A794-C021-46CA-AD50-4EDA36D5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1883-FCF1-4FF9-BBF3-24A758C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FAFB-6AEF-4D0C-BDE2-FCCA72F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0EF5-D6BA-4DF2-878B-9B4DBEB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0328-C740-40BB-85AC-0574CEC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E19DC-5F62-4997-BBFC-846234A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29DA4-9BA0-4692-98C4-855F0A69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A3BCC-1C45-4729-8038-96F52180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711-7FEC-4670-97DA-C0194A3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C749-4426-48C1-BAA2-F056E3F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E4D3-C59F-44DE-83D2-320E0E8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BE1F-4B84-4A97-9E46-C5A5722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9737D-22D2-4DDB-BB4F-288AD613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76D6-7739-4999-9B84-00D799FA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B612A-A83A-458D-9CFC-B105290B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C0803-0EDA-4BF4-9B3F-895B59DD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7EC6-FFCD-48FC-94AA-0BFD6F2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36FE-53A7-4D3A-824C-C0056537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22E9-2CAB-4BAC-BE43-CECE1885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785-387A-4B0B-8E86-37775ADC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EE554-A75F-4F83-A1EE-E07F44D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1EC2-C802-43D7-8502-ADEF947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9280-2453-4E9F-99F6-D315421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88718-DAB1-4567-8EF0-54636AD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9DF7B-35DA-47FB-BFB0-0403E35B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2F8A4-08DE-4A51-B49A-364C780A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9021E-A5CA-4373-BAF0-99AA2131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D60FD-6060-44BF-BA78-871E969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AA39-28BA-4A51-A43B-6DE32483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C70CC-116E-45D5-BE30-BCE9980F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23"/>
          <p:cNvSpPr/>
          <p:nvPr/>
        </p:nvSpPr>
        <p:spPr>
          <a:xfrm>
            <a:off x="0" y="0"/>
            <a:ext cx="9144000" cy="29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20"/>
          <p:cNvSpPr/>
          <p:nvPr/>
        </p:nvSpPr>
        <p:spPr>
          <a:xfrm>
            <a:off x="0" y="1562040"/>
            <a:ext cx="9144000" cy="23385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29"/>
          <p:cNvSpPr/>
          <p:nvPr/>
        </p:nvSpPr>
        <p:spPr>
          <a:xfrm>
            <a:off x="76320" y="632448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21"/>
          <p:cNvSpPr/>
          <p:nvPr/>
        </p:nvSpPr>
        <p:spPr>
          <a:xfrm>
            <a:off x="0" y="3794040"/>
            <a:ext cx="9144000" cy="168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522"/>
          <p:cNvSpPr/>
          <p:nvPr/>
        </p:nvSpPr>
        <p:spPr>
          <a:xfrm>
            <a:off x="0" y="1393920"/>
            <a:ext cx="9144000" cy="16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64ec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00040" y="655308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5D8-BA1F-4577-A834-3C1F31F70B61}" type="slidenum">
              <a:rPr b="0" lang="ko-KR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CFFD-762D-4D59-AD96-4D28C693C4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419F-B2B7-4CD4-A0D5-7964B782A9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476B-8D43-461B-92C4-5CAF5FFD3B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CFA-565D-4B66-8ADE-A04A2985D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99D-CAF5-49A9-A3DA-7FDC277429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F5B0-D2C7-49DF-80F3-9A8DCF850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27B-BE3A-4725-BFFF-AA02FB7DEE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6B0B-6139-4FDC-BAF4-D9CFF60060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7F00-7154-4442-A623-215D4772EA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3D3D-9976-4EED-881B-E345D7C99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2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1"/>
          <p:cNvSpPr/>
          <p:nvPr/>
        </p:nvSpPr>
        <p:spPr>
          <a:xfrm>
            <a:off x="0" y="981000"/>
            <a:ext cx="9144000" cy="53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21"/>
          <p:cNvSpPr/>
          <p:nvPr/>
        </p:nvSpPr>
        <p:spPr>
          <a:xfrm>
            <a:off x="0" y="896760"/>
            <a:ext cx="9144000" cy="168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21"/>
          <p:cNvSpPr/>
          <p:nvPr/>
        </p:nvSpPr>
        <p:spPr>
          <a:xfrm>
            <a:off x="0" y="6240600"/>
            <a:ext cx="9144000" cy="168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64ec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56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E09-A070-4D14-9EE1-640947110AB1}" type="slidenum">
              <a:rPr b="0" lang="ko-KR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1141-7D16-49F3-8D01-EBAB3EE37A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B66-EDB3-4445-B67F-21156F413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58FE-6908-49F2-AD4A-E72BAD3E79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76DE-423A-4ECA-9F4B-7E033B8EF0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DCE-B156-4F47-8FA0-2EBECD570B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A3C-CE92-475D-9E44-923093E53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6983-F194-4F44-82B9-03AC83C9A4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00A-1DF8-4623-8FDE-6DA0FC6CC1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9698-3D44-475F-95BE-ACB827A492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D45-6D06-4779-AB9C-687905FCB3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A2D-07A8-4A76-A97A-2842C5B5AB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9441-8EB2-4805-B96A-7D3B0F407C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C528-87A1-4996-BCEE-304EA317BC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A0DE-CDFB-41C4-98D2-A14FAF5209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216504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通用纹理之蓝色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模板</a:t>
            </a:r>
            <a:endParaRPr b="1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7" name="日期占位符 3"/>
          <p:cNvSpPr/>
          <p:nvPr/>
        </p:nvSpPr>
        <p:spPr>
          <a:xfrm>
            <a:off x="3049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家：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页脚占位符 4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8:24:16Z</dcterms:created>
  <dc:creator>我爱PPT官方网 - 中文演示设计平台 www.iloveppt.org; yoojin</dc:creator>
  <dc:description>我爱PPT官方网 - 中文演示设计平台 www.iloveppt.org</dc:description>
  <cp:keywords>我爱PPT官方网 - 中文演示设计平台 www.iloveppt.org</cp:keywords>
  <dc:language>en-US</dc:language>
  <cp:lastModifiedBy>a</cp:lastModifiedBy>
  <dcterms:modified xsi:type="dcterms:W3CDTF">2014-12-10T15:07:31Z</dcterms:modified>
  <cp:revision>6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