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99FB-A3D8-4B3F-B845-0A6618E6D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B965-2682-45EF-A173-3A4EA1A8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FDF5-9617-418F-AC30-4150344EC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8CC2-D0B8-4557-B2B7-35C2D77AE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BB5C-DE07-4DC2-8FED-01FA2567C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3C2B-F97B-457B-A871-B1634FA3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4A46-C968-489E-BD73-C1E9CE5F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13C3-AF65-4C15-9E2C-8457ABE1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8758-D8A8-41FA-9C8C-63112E4C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1E3D6-6E95-4E99-9250-55CF1B57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934C-4CFA-459D-94A1-EE7FA04F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9786-DED4-4888-89A3-61968690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E333-DEF2-4B96-9290-E0679BEC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5A30-23B0-4528-9F85-A290EB6C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F632-E12A-4CC7-A251-93EBD179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47A83-37EC-4AF3-BD5A-8D453FB13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73DF-31EF-45D9-9682-2FBC78BD9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714A-E081-4907-B748-A9ADB87A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66C8-37A4-460D-AB09-914B54E9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07F7-7393-4092-91E7-F0A9B2DA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A9E0-CE82-475A-AF03-87B66BD8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0BC1-38AD-4560-901F-895F85D7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C687-7FC1-4F63-9B02-52B116A6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EEB7-FC01-4B29-8E93-6B224BEB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6E68-8157-4484-9CFC-B00A783368F0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EB64-070C-47B2-9A45-1511B9F70E4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晚霞美景</a:t>
            </a: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412720" y="1628280"/>
            <a:ext cx="62578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0T20:13:29Z</dcterms:created>
  <dc:creator/>
  <dc:description/>
  <dc:language>en-US</dc:language>
  <cp:lastModifiedBy/>
  <dcterms:modified xsi:type="dcterms:W3CDTF">2014-12-10T15:06:4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