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D1C-7397-4D98-B78B-5AFF3F4C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2CD-3557-45D8-BF03-FEAD1820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A20-0BAC-4295-84B7-B1052041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1D8-F273-491E-9CD6-324C22E8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DDD-8C63-4237-92DA-08EF9C48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29B-0649-4149-9013-435CE5D8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878-87D1-4DB9-9BDF-040367E2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0DA-8158-4229-966B-A653F9C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589-C76A-4318-AA97-9D563C57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F81-C0D3-4E52-AF66-01129620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2D9-936C-40A5-A668-B7FEDF74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472-4ACF-4BF9-A642-15252970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E930-C438-434C-BCAE-BA677832A3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760" y="3643200"/>
            <a:ext cx="8672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心情日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演示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0040" y="4500360"/>
            <a:ext cx="64008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424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1600" y="3643200"/>
            <a:ext cx="73864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3:33:00Z</dcterms:created>
  <dc:creator/>
  <dc:description/>
  <dc:language>en-US</dc:language>
  <cp:lastModifiedBy/>
  <dcterms:modified xsi:type="dcterms:W3CDTF">2014-12-10T15:10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