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45A-58ED-47DF-A7C7-4DF6EF0E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901A-FABE-453F-9305-2975F520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C713-A479-4A60-845E-CB1DB342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91B7-68DE-41FB-BEDC-47CB7F79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4C32-6A16-4832-8D17-CCBC798F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2A31-6182-42F6-ADE4-AEE3753F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93E1-60AB-4964-B59F-4D1F2F16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9A47-3E66-4F52-BBEF-95CB1931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B1BF-AC51-4C3F-8415-FCF5784C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7415-7EF0-48D5-9AE3-420144BB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64BC-9525-478D-8E49-99F71CC4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3B5B-3D6A-4777-986D-14EA3652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4F9B-7761-4B23-9916-670D08BD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2EF5-2342-4705-AE2D-DEC4AF4C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5816-7E45-4640-812D-2D978E6B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8879-366B-4E1A-8A6D-05E72AB7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6440-CE98-4BEE-8C7B-3E765F3E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84A49-D73F-4A1B-B3D6-77104422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D4A18-839C-47CE-831B-72BA1D0E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4E3BC-CB36-4FCD-8A6C-1493303E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8D1B9-E342-4B92-82A9-D9846341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E26E2-2ED3-4854-9114-792D296A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28ED-A467-48AC-B9F1-D824EA52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7E317-4F24-4B62-90DC-6F8DDC44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EBBB5-CF9E-4356-875F-523D6263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FA1E4-7EF9-449A-86A7-00B23FCF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9B6FC-10A0-4697-A9D6-088224D7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52E17-C762-4738-83D3-ECD377DF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893C6-2FE4-4F81-9FB1-37FBDCC3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AE66E-B141-42AD-930E-02EBDC42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1124-1BA3-4BAE-B736-8BBB1ED4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E3A7-CAE8-4507-93D7-939E809C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5318-F57B-41E7-85F5-4F83D63D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2F33-AD64-4373-A714-4B27DEBA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E11-A4EF-4970-87A4-FC5E973E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1CB7-FAAA-43F0-8856-128CBF2A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5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1" marL="727920" indent="-280080">
              <a:spcBef>
                <a:spcPts val="799"/>
              </a:spcBef>
              <a:buClr>
                <a:srgbClr val="a50021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2" marL="111996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3" marL="156816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4" marL="201600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5" marL="201600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6" marL="201600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480D-BA8E-49B7-8A16-84124AF2A9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未知"/>
          <p:cNvSpPr/>
          <p:nvPr/>
        </p:nvSpPr>
        <p:spPr>
          <a:xfrm flipH="1" rot="48000">
            <a:off x="7210080" y="2565360"/>
            <a:ext cx="1727280" cy="1606680"/>
          </a:xfrm>
          <a:custGeom>
            <a:avLst/>
            <a:gdLst/>
            <a:ahLst/>
            <a:rect l="l" t="t" r="r" b="b"/>
            <a:pathLst>
              <a:path w="1723" h="1738">
                <a:moveTo>
                  <a:pt x="1696" y="392"/>
                </a:moveTo>
                <a:lnTo>
                  <a:pt x="1696" y="392"/>
                </a:lnTo>
                <a:lnTo>
                  <a:pt x="1682" y="340"/>
                </a:lnTo>
                <a:lnTo>
                  <a:pt x="1664" y="290"/>
                </a:lnTo>
                <a:lnTo>
                  <a:pt x="1643" y="244"/>
                </a:lnTo>
                <a:lnTo>
                  <a:pt x="1618" y="200"/>
                </a:lnTo>
                <a:lnTo>
                  <a:pt x="1592" y="160"/>
                </a:lnTo>
                <a:lnTo>
                  <a:pt x="1562" y="122"/>
                </a:lnTo>
                <a:lnTo>
                  <a:pt x="1546" y="104"/>
                </a:lnTo>
                <a:lnTo>
                  <a:pt x="1530" y="88"/>
                </a:lnTo>
                <a:lnTo>
                  <a:pt x="1512" y="74"/>
                </a:lnTo>
                <a:lnTo>
                  <a:pt x="1494" y="60"/>
                </a:lnTo>
                <a:lnTo>
                  <a:pt x="1476" y="48"/>
                </a:lnTo>
                <a:lnTo>
                  <a:pt x="1459" y="36"/>
                </a:lnTo>
                <a:lnTo>
                  <a:pt x="1439" y="26"/>
                </a:lnTo>
                <a:lnTo>
                  <a:pt x="1421" y="18"/>
                </a:lnTo>
                <a:lnTo>
                  <a:pt x="1402" y="12"/>
                </a:lnTo>
                <a:lnTo>
                  <a:pt x="1381" y="6"/>
                </a:lnTo>
                <a:lnTo>
                  <a:pt x="1361" y="2"/>
                </a:lnTo>
                <a:lnTo>
                  <a:pt x="1340" y="0"/>
                </a:lnTo>
                <a:lnTo>
                  <a:pt x="1320" y="0"/>
                </a:lnTo>
                <a:lnTo>
                  <a:pt x="1299" y="2"/>
                </a:lnTo>
                <a:lnTo>
                  <a:pt x="1278" y="6"/>
                </a:lnTo>
                <a:lnTo>
                  <a:pt x="1256" y="10"/>
                </a:lnTo>
                <a:lnTo>
                  <a:pt x="1233" y="18"/>
                </a:lnTo>
                <a:lnTo>
                  <a:pt x="1212" y="26"/>
                </a:lnTo>
                <a:lnTo>
                  <a:pt x="1191" y="38"/>
                </a:lnTo>
                <a:lnTo>
                  <a:pt x="1169" y="50"/>
                </a:lnTo>
                <a:lnTo>
                  <a:pt x="1169" y="50"/>
                </a:lnTo>
                <a:lnTo>
                  <a:pt x="1114" y="88"/>
                </a:lnTo>
                <a:lnTo>
                  <a:pt x="1066" y="126"/>
                </a:lnTo>
                <a:lnTo>
                  <a:pt x="1022" y="164"/>
                </a:lnTo>
                <a:lnTo>
                  <a:pt x="981" y="202"/>
                </a:lnTo>
                <a:lnTo>
                  <a:pt x="946" y="240"/>
                </a:lnTo>
                <a:lnTo>
                  <a:pt x="914" y="276"/>
                </a:lnTo>
                <a:lnTo>
                  <a:pt x="885" y="310"/>
                </a:lnTo>
                <a:lnTo>
                  <a:pt x="862" y="340"/>
                </a:lnTo>
                <a:lnTo>
                  <a:pt x="862" y="340"/>
                </a:lnTo>
                <a:lnTo>
                  <a:pt x="839" y="310"/>
                </a:lnTo>
                <a:lnTo>
                  <a:pt x="811" y="276"/>
                </a:lnTo>
                <a:lnTo>
                  <a:pt x="779" y="240"/>
                </a:lnTo>
                <a:lnTo>
                  <a:pt x="743" y="202"/>
                </a:lnTo>
                <a:lnTo>
                  <a:pt x="703" y="164"/>
                </a:lnTo>
                <a:lnTo>
                  <a:pt x="658" y="126"/>
                </a:lnTo>
                <a:lnTo>
                  <a:pt x="609" y="88"/>
                </a:lnTo>
                <a:lnTo>
                  <a:pt x="555" y="50"/>
                </a:lnTo>
                <a:lnTo>
                  <a:pt x="555" y="50"/>
                </a:lnTo>
                <a:lnTo>
                  <a:pt x="534" y="38"/>
                </a:lnTo>
                <a:lnTo>
                  <a:pt x="511" y="26"/>
                </a:lnTo>
                <a:lnTo>
                  <a:pt x="490" y="16"/>
                </a:lnTo>
                <a:lnTo>
                  <a:pt x="468" y="10"/>
                </a:lnTo>
                <a:lnTo>
                  <a:pt x="447" y="4"/>
                </a:lnTo>
                <a:lnTo>
                  <a:pt x="426" y="2"/>
                </a:lnTo>
                <a:lnTo>
                  <a:pt x="405" y="0"/>
                </a:lnTo>
                <a:lnTo>
                  <a:pt x="383" y="0"/>
                </a:lnTo>
                <a:lnTo>
                  <a:pt x="364" y="2"/>
                </a:lnTo>
                <a:lnTo>
                  <a:pt x="342" y="6"/>
                </a:lnTo>
                <a:lnTo>
                  <a:pt x="323" y="12"/>
                </a:lnTo>
                <a:lnTo>
                  <a:pt x="303" y="18"/>
                </a:lnTo>
                <a:lnTo>
                  <a:pt x="284" y="26"/>
                </a:lnTo>
                <a:lnTo>
                  <a:pt x="266" y="36"/>
                </a:lnTo>
                <a:lnTo>
                  <a:pt x="247" y="48"/>
                </a:lnTo>
                <a:lnTo>
                  <a:pt x="229" y="60"/>
                </a:lnTo>
                <a:lnTo>
                  <a:pt x="211" y="74"/>
                </a:lnTo>
                <a:lnTo>
                  <a:pt x="195" y="88"/>
                </a:lnTo>
                <a:lnTo>
                  <a:pt x="177" y="104"/>
                </a:lnTo>
                <a:lnTo>
                  <a:pt x="163" y="122"/>
                </a:lnTo>
                <a:lnTo>
                  <a:pt x="133" y="158"/>
                </a:lnTo>
                <a:lnTo>
                  <a:pt x="105" y="200"/>
                </a:lnTo>
                <a:lnTo>
                  <a:pt x="82" y="244"/>
                </a:lnTo>
                <a:lnTo>
                  <a:pt x="60" y="290"/>
                </a:lnTo>
                <a:lnTo>
                  <a:pt x="43" y="340"/>
                </a:lnTo>
                <a:lnTo>
                  <a:pt x="28" y="390"/>
                </a:lnTo>
                <a:lnTo>
                  <a:pt x="28" y="390"/>
                </a:lnTo>
                <a:lnTo>
                  <a:pt x="14" y="456"/>
                </a:lnTo>
                <a:lnTo>
                  <a:pt x="5" y="516"/>
                </a:lnTo>
                <a:lnTo>
                  <a:pt x="2" y="546"/>
                </a:lnTo>
                <a:lnTo>
                  <a:pt x="2" y="574"/>
                </a:lnTo>
                <a:lnTo>
                  <a:pt x="0" y="600"/>
                </a:lnTo>
                <a:lnTo>
                  <a:pt x="2" y="628"/>
                </a:lnTo>
                <a:lnTo>
                  <a:pt x="4" y="654"/>
                </a:lnTo>
                <a:lnTo>
                  <a:pt x="7" y="678"/>
                </a:lnTo>
                <a:lnTo>
                  <a:pt x="11" y="704"/>
                </a:lnTo>
                <a:lnTo>
                  <a:pt x="16" y="728"/>
                </a:lnTo>
                <a:lnTo>
                  <a:pt x="28" y="776"/>
                </a:lnTo>
                <a:lnTo>
                  <a:pt x="44" y="824"/>
                </a:lnTo>
                <a:lnTo>
                  <a:pt x="66" y="870"/>
                </a:lnTo>
                <a:lnTo>
                  <a:pt x="89" y="918"/>
                </a:lnTo>
                <a:lnTo>
                  <a:pt x="117" y="964"/>
                </a:lnTo>
                <a:lnTo>
                  <a:pt x="147" y="1014"/>
                </a:lnTo>
                <a:lnTo>
                  <a:pt x="181" y="1064"/>
                </a:lnTo>
                <a:lnTo>
                  <a:pt x="216" y="1116"/>
                </a:lnTo>
                <a:lnTo>
                  <a:pt x="296" y="1228"/>
                </a:lnTo>
                <a:lnTo>
                  <a:pt x="296" y="1228"/>
                </a:lnTo>
                <a:lnTo>
                  <a:pt x="328" y="1272"/>
                </a:lnTo>
                <a:lnTo>
                  <a:pt x="364" y="1316"/>
                </a:lnTo>
                <a:lnTo>
                  <a:pt x="399" y="1358"/>
                </a:lnTo>
                <a:lnTo>
                  <a:pt x="438" y="1396"/>
                </a:lnTo>
                <a:lnTo>
                  <a:pt x="476" y="1436"/>
                </a:lnTo>
                <a:lnTo>
                  <a:pt x="515" y="1472"/>
                </a:lnTo>
                <a:lnTo>
                  <a:pt x="554" y="1506"/>
                </a:lnTo>
                <a:lnTo>
                  <a:pt x="593" y="1540"/>
                </a:lnTo>
                <a:lnTo>
                  <a:pt x="669" y="1600"/>
                </a:lnTo>
                <a:lnTo>
                  <a:pt x="740" y="1652"/>
                </a:lnTo>
                <a:lnTo>
                  <a:pt x="804" y="1696"/>
                </a:lnTo>
                <a:lnTo>
                  <a:pt x="857" y="1732"/>
                </a:lnTo>
                <a:lnTo>
                  <a:pt x="857" y="1738"/>
                </a:lnTo>
                <a:lnTo>
                  <a:pt x="857" y="1738"/>
                </a:lnTo>
                <a:lnTo>
                  <a:pt x="862" y="1734"/>
                </a:lnTo>
                <a:lnTo>
                  <a:pt x="862" y="1734"/>
                </a:lnTo>
                <a:lnTo>
                  <a:pt x="868" y="1738"/>
                </a:lnTo>
                <a:lnTo>
                  <a:pt x="868" y="1732"/>
                </a:lnTo>
                <a:lnTo>
                  <a:pt x="868" y="1732"/>
                </a:lnTo>
                <a:lnTo>
                  <a:pt x="921" y="1696"/>
                </a:lnTo>
                <a:lnTo>
                  <a:pt x="985" y="1654"/>
                </a:lnTo>
                <a:lnTo>
                  <a:pt x="1056" y="1600"/>
                </a:lnTo>
                <a:lnTo>
                  <a:pt x="1132" y="1540"/>
                </a:lnTo>
                <a:lnTo>
                  <a:pt x="1169" y="1508"/>
                </a:lnTo>
                <a:lnTo>
                  <a:pt x="1208" y="1472"/>
                </a:lnTo>
                <a:lnTo>
                  <a:pt x="1247" y="1436"/>
                </a:lnTo>
                <a:lnTo>
                  <a:pt x="1286" y="1398"/>
                </a:lnTo>
                <a:lnTo>
                  <a:pt x="1324" y="1358"/>
                </a:lnTo>
                <a:lnTo>
                  <a:pt x="1361" y="1316"/>
                </a:lnTo>
                <a:lnTo>
                  <a:pt x="1395" y="1274"/>
                </a:lnTo>
                <a:lnTo>
                  <a:pt x="1428" y="1228"/>
                </a:lnTo>
                <a:lnTo>
                  <a:pt x="1428" y="1228"/>
                </a:lnTo>
                <a:lnTo>
                  <a:pt x="1508" y="1116"/>
                </a:lnTo>
                <a:lnTo>
                  <a:pt x="1544" y="1064"/>
                </a:lnTo>
                <a:lnTo>
                  <a:pt x="1577" y="1014"/>
                </a:lnTo>
                <a:lnTo>
                  <a:pt x="1608" y="966"/>
                </a:lnTo>
                <a:lnTo>
                  <a:pt x="1634" y="918"/>
                </a:lnTo>
                <a:lnTo>
                  <a:pt x="1659" y="870"/>
                </a:lnTo>
                <a:lnTo>
                  <a:pt x="1679" y="824"/>
                </a:lnTo>
                <a:lnTo>
                  <a:pt x="1696" y="778"/>
                </a:lnTo>
                <a:lnTo>
                  <a:pt x="1709" y="728"/>
                </a:lnTo>
                <a:lnTo>
                  <a:pt x="1714" y="704"/>
                </a:lnTo>
                <a:lnTo>
                  <a:pt x="1718" y="680"/>
                </a:lnTo>
                <a:lnTo>
                  <a:pt x="1721" y="654"/>
                </a:lnTo>
                <a:lnTo>
                  <a:pt x="1723" y="628"/>
                </a:lnTo>
                <a:lnTo>
                  <a:pt x="1723" y="602"/>
                </a:lnTo>
                <a:lnTo>
                  <a:pt x="1723" y="574"/>
                </a:lnTo>
                <a:lnTo>
                  <a:pt x="1721" y="546"/>
                </a:lnTo>
                <a:lnTo>
                  <a:pt x="1719" y="516"/>
                </a:lnTo>
                <a:lnTo>
                  <a:pt x="1711" y="456"/>
                </a:lnTo>
                <a:lnTo>
                  <a:pt x="1696" y="392"/>
                </a:lnTo>
                <a:lnTo>
                  <a:pt x="1696" y="392"/>
                </a:lnTo>
                <a:close/>
              </a:path>
            </a:pathLst>
          </a:custGeom>
          <a:solidFill>
            <a:srgbClr val="c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未知"/>
          <p:cNvSpPr/>
          <p:nvPr/>
        </p:nvSpPr>
        <p:spPr>
          <a:xfrm flipH="1" rot="20572200">
            <a:off x="7209720" y="549000"/>
            <a:ext cx="1727280" cy="1606320"/>
          </a:xfrm>
          <a:custGeom>
            <a:avLst/>
            <a:gdLst/>
            <a:ahLst/>
            <a:rect l="l" t="t" r="r" b="b"/>
            <a:pathLst>
              <a:path w="1723" h="1738">
                <a:moveTo>
                  <a:pt x="1696" y="392"/>
                </a:moveTo>
                <a:lnTo>
                  <a:pt x="1696" y="392"/>
                </a:lnTo>
                <a:lnTo>
                  <a:pt x="1682" y="340"/>
                </a:lnTo>
                <a:lnTo>
                  <a:pt x="1664" y="290"/>
                </a:lnTo>
                <a:lnTo>
                  <a:pt x="1643" y="244"/>
                </a:lnTo>
                <a:lnTo>
                  <a:pt x="1618" y="200"/>
                </a:lnTo>
                <a:lnTo>
                  <a:pt x="1592" y="160"/>
                </a:lnTo>
                <a:lnTo>
                  <a:pt x="1562" y="122"/>
                </a:lnTo>
                <a:lnTo>
                  <a:pt x="1546" y="104"/>
                </a:lnTo>
                <a:lnTo>
                  <a:pt x="1530" y="88"/>
                </a:lnTo>
                <a:lnTo>
                  <a:pt x="1512" y="74"/>
                </a:lnTo>
                <a:lnTo>
                  <a:pt x="1494" y="60"/>
                </a:lnTo>
                <a:lnTo>
                  <a:pt x="1476" y="48"/>
                </a:lnTo>
                <a:lnTo>
                  <a:pt x="1459" y="36"/>
                </a:lnTo>
                <a:lnTo>
                  <a:pt x="1439" y="26"/>
                </a:lnTo>
                <a:lnTo>
                  <a:pt x="1421" y="18"/>
                </a:lnTo>
                <a:lnTo>
                  <a:pt x="1402" y="12"/>
                </a:lnTo>
                <a:lnTo>
                  <a:pt x="1381" y="6"/>
                </a:lnTo>
                <a:lnTo>
                  <a:pt x="1361" y="2"/>
                </a:lnTo>
                <a:lnTo>
                  <a:pt x="1340" y="0"/>
                </a:lnTo>
                <a:lnTo>
                  <a:pt x="1320" y="0"/>
                </a:lnTo>
                <a:lnTo>
                  <a:pt x="1299" y="2"/>
                </a:lnTo>
                <a:lnTo>
                  <a:pt x="1278" y="6"/>
                </a:lnTo>
                <a:lnTo>
                  <a:pt x="1256" y="10"/>
                </a:lnTo>
                <a:lnTo>
                  <a:pt x="1233" y="18"/>
                </a:lnTo>
                <a:lnTo>
                  <a:pt x="1212" y="26"/>
                </a:lnTo>
                <a:lnTo>
                  <a:pt x="1191" y="38"/>
                </a:lnTo>
                <a:lnTo>
                  <a:pt x="1169" y="50"/>
                </a:lnTo>
                <a:lnTo>
                  <a:pt x="1169" y="50"/>
                </a:lnTo>
                <a:lnTo>
                  <a:pt x="1114" y="88"/>
                </a:lnTo>
                <a:lnTo>
                  <a:pt x="1066" y="126"/>
                </a:lnTo>
                <a:lnTo>
                  <a:pt x="1022" y="164"/>
                </a:lnTo>
                <a:lnTo>
                  <a:pt x="981" y="202"/>
                </a:lnTo>
                <a:lnTo>
                  <a:pt x="946" y="240"/>
                </a:lnTo>
                <a:lnTo>
                  <a:pt x="914" y="276"/>
                </a:lnTo>
                <a:lnTo>
                  <a:pt x="885" y="310"/>
                </a:lnTo>
                <a:lnTo>
                  <a:pt x="862" y="340"/>
                </a:lnTo>
                <a:lnTo>
                  <a:pt x="862" y="340"/>
                </a:lnTo>
                <a:lnTo>
                  <a:pt x="839" y="310"/>
                </a:lnTo>
                <a:lnTo>
                  <a:pt x="811" y="276"/>
                </a:lnTo>
                <a:lnTo>
                  <a:pt x="779" y="240"/>
                </a:lnTo>
                <a:lnTo>
                  <a:pt x="743" y="202"/>
                </a:lnTo>
                <a:lnTo>
                  <a:pt x="703" y="164"/>
                </a:lnTo>
                <a:lnTo>
                  <a:pt x="658" y="126"/>
                </a:lnTo>
                <a:lnTo>
                  <a:pt x="609" y="88"/>
                </a:lnTo>
                <a:lnTo>
                  <a:pt x="555" y="50"/>
                </a:lnTo>
                <a:lnTo>
                  <a:pt x="555" y="50"/>
                </a:lnTo>
                <a:lnTo>
                  <a:pt x="534" y="38"/>
                </a:lnTo>
                <a:lnTo>
                  <a:pt x="511" y="26"/>
                </a:lnTo>
                <a:lnTo>
                  <a:pt x="490" y="16"/>
                </a:lnTo>
                <a:lnTo>
                  <a:pt x="468" y="10"/>
                </a:lnTo>
                <a:lnTo>
                  <a:pt x="447" y="4"/>
                </a:lnTo>
                <a:lnTo>
                  <a:pt x="426" y="2"/>
                </a:lnTo>
                <a:lnTo>
                  <a:pt x="405" y="0"/>
                </a:lnTo>
                <a:lnTo>
                  <a:pt x="383" y="0"/>
                </a:lnTo>
                <a:lnTo>
                  <a:pt x="364" y="2"/>
                </a:lnTo>
                <a:lnTo>
                  <a:pt x="342" y="6"/>
                </a:lnTo>
                <a:lnTo>
                  <a:pt x="323" y="12"/>
                </a:lnTo>
                <a:lnTo>
                  <a:pt x="303" y="18"/>
                </a:lnTo>
                <a:lnTo>
                  <a:pt x="284" y="26"/>
                </a:lnTo>
                <a:lnTo>
                  <a:pt x="266" y="36"/>
                </a:lnTo>
                <a:lnTo>
                  <a:pt x="247" y="48"/>
                </a:lnTo>
                <a:lnTo>
                  <a:pt x="229" y="60"/>
                </a:lnTo>
                <a:lnTo>
                  <a:pt x="211" y="74"/>
                </a:lnTo>
                <a:lnTo>
                  <a:pt x="195" y="88"/>
                </a:lnTo>
                <a:lnTo>
                  <a:pt x="177" y="104"/>
                </a:lnTo>
                <a:lnTo>
                  <a:pt x="163" y="122"/>
                </a:lnTo>
                <a:lnTo>
                  <a:pt x="133" y="158"/>
                </a:lnTo>
                <a:lnTo>
                  <a:pt x="105" y="200"/>
                </a:lnTo>
                <a:lnTo>
                  <a:pt x="82" y="244"/>
                </a:lnTo>
                <a:lnTo>
                  <a:pt x="60" y="290"/>
                </a:lnTo>
                <a:lnTo>
                  <a:pt x="43" y="340"/>
                </a:lnTo>
                <a:lnTo>
                  <a:pt x="28" y="390"/>
                </a:lnTo>
                <a:lnTo>
                  <a:pt x="28" y="390"/>
                </a:lnTo>
                <a:lnTo>
                  <a:pt x="14" y="456"/>
                </a:lnTo>
                <a:lnTo>
                  <a:pt x="5" y="516"/>
                </a:lnTo>
                <a:lnTo>
                  <a:pt x="2" y="546"/>
                </a:lnTo>
                <a:lnTo>
                  <a:pt x="2" y="574"/>
                </a:lnTo>
                <a:lnTo>
                  <a:pt x="0" y="600"/>
                </a:lnTo>
                <a:lnTo>
                  <a:pt x="2" y="628"/>
                </a:lnTo>
                <a:lnTo>
                  <a:pt x="4" y="654"/>
                </a:lnTo>
                <a:lnTo>
                  <a:pt x="7" y="678"/>
                </a:lnTo>
                <a:lnTo>
                  <a:pt x="11" y="704"/>
                </a:lnTo>
                <a:lnTo>
                  <a:pt x="16" y="728"/>
                </a:lnTo>
                <a:lnTo>
                  <a:pt x="28" y="776"/>
                </a:lnTo>
                <a:lnTo>
                  <a:pt x="44" y="824"/>
                </a:lnTo>
                <a:lnTo>
                  <a:pt x="66" y="870"/>
                </a:lnTo>
                <a:lnTo>
                  <a:pt x="89" y="918"/>
                </a:lnTo>
                <a:lnTo>
                  <a:pt x="117" y="964"/>
                </a:lnTo>
                <a:lnTo>
                  <a:pt x="147" y="1014"/>
                </a:lnTo>
                <a:lnTo>
                  <a:pt x="181" y="1064"/>
                </a:lnTo>
                <a:lnTo>
                  <a:pt x="216" y="1116"/>
                </a:lnTo>
                <a:lnTo>
                  <a:pt x="296" y="1228"/>
                </a:lnTo>
                <a:lnTo>
                  <a:pt x="296" y="1228"/>
                </a:lnTo>
                <a:lnTo>
                  <a:pt x="328" y="1272"/>
                </a:lnTo>
                <a:lnTo>
                  <a:pt x="364" y="1316"/>
                </a:lnTo>
                <a:lnTo>
                  <a:pt x="399" y="1358"/>
                </a:lnTo>
                <a:lnTo>
                  <a:pt x="438" y="1396"/>
                </a:lnTo>
                <a:lnTo>
                  <a:pt x="476" y="1436"/>
                </a:lnTo>
                <a:lnTo>
                  <a:pt x="515" y="1472"/>
                </a:lnTo>
                <a:lnTo>
                  <a:pt x="554" y="1506"/>
                </a:lnTo>
                <a:lnTo>
                  <a:pt x="593" y="1540"/>
                </a:lnTo>
                <a:lnTo>
                  <a:pt x="669" y="1600"/>
                </a:lnTo>
                <a:lnTo>
                  <a:pt x="740" y="1652"/>
                </a:lnTo>
                <a:lnTo>
                  <a:pt x="804" y="1696"/>
                </a:lnTo>
                <a:lnTo>
                  <a:pt x="857" y="1732"/>
                </a:lnTo>
                <a:lnTo>
                  <a:pt x="857" y="1738"/>
                </a:lnTo>
                <a:lnTo>
                  <a:pt x="857" y="1738"/>
                </a:lnTo>
                <a:lnTo>
                  <a:pt x="862" y="1734"/>
                </a:lnTo>
                <a:lnTo>
                  <a:pt x="862" y="1734"/>
                </a:lnTo>
                <a:lnTo>
                  <a:pt x="868" y="1738"/>
                </a:lnTo>
                <a:lnTo>
                  <a:pt x="868" y="1732"/>
                </a:lnTo>
                <a:lnTo>
                  <a:pt x="868" y="1732"/>
                </a:lnTo>
                <a:lnTo>
                  <a:pt x="921" y="1696"/>
                </a:lnTo>
                <a:lnTo>
                  <a:pt x="985" y="1654"/>
                </a:lnTo>
                <a:lnTo>
                  <a:pt x="1056" y="1600"/>
                </a:lnTo>
                <a:lnTo>
                  <a:pt x="1132" y="1540"/>
                </a:lnTo>
                <a:lnTo>
                  <a:pt x="1169" y="1508"/>
                </a:lnTo>
                <a:lnTo>
                  <a:pt x="1208" y="1472"/>
                </a:lnTo>
                <a:lnTo>
                  <a:pt x="1247" y="1436"/>
                </a:lnTo>
                <a:lnTo>
                  <a:pt x="1286" y="1398"/>
                </a:lnTo>
                <a:lnTo>
                  <a:pt x="1324" y="1358"/>
                </a:lnTo>
                <a:lnTo>
                  <a:pt x="1361" y="1316"/>
                </a:lnTo>
                <a:lnTo>
                  <a:pt x="1395" y="1274"/>
                </a:lnTo>
                <a:lnTo>
                  <a:pt x="1428" y="1228"/>
                </a:lnTo>
                <a:lnTo>
                  <a:pt x="1428" y="1228"/>
                </a:lnTo>
                <a:lnTo>
                  <a:pt x="1508" y="1116"/>
                </a:lnTo>
                <a:lnTo>
                  <a:pt x="1544" y="1064"/>
                </a:lnTo>
                <a:lnTo>
                  <a:pt x="1577" y="1014"/>
                </a:lnTo>
                <a:lnTo>
                  <a:pt x="1608" y="966"/>
                </a:lnTo>
                <a:lnTo>
                  <a:pt x="1634" y="918"/>
                </a:lnTo>
                <a:lnTo>
                  <a:pt x="1659" y="870"/>
                </a:lnTo>
                <a:lnTo>
                  <a:pt x="1679" y="824"/>
                </a:lnTo>
                <a:lnTo>
                  <a:pt x="1696" y="778"/>
                </a:lnTo>
                <a:lnTo>
                  <a:pt x="1709" y="728"/>
                </a:lnTo>
                <a:lnTo>
                  <a:pt x="1714" y="704"/>
                </a:lnTo>
                <a:lnTo>
                  <a:pt x="1718" y="680"/>
                </a:lnTo>
                <a:lnTo>
                  <a:pt x="1721" y="654"/>
                </a:lnTo>
                <a:lnTo>
                  <a:pt x="1723" y="628"/>
                </a:lnTo>
                <a:lnTo>
                  <a:pt x="1723" y="602"/>
                </a:lnTo>
                <a:lnTo>
                  <a:pt x="1723" y="574"/>
                </a:lnTo>
                <a:lnTo>
                  <a:pt x="1721" y="546"/>
                </a:lnTo>
                <a:lnTo>
                  <a:pt x="1719" y="516"/>
                </a:lnTo>
                <a:lnTo>
                  <a:pt x="1711" y="456"/>
                </a:lnTo>
                <a:lnTo>
                  <a:pt x="1696" y="392"/>
                </a:lnTo>
                <a:lnTo>
                  <a:pt x="1696" y="392"/>
                </a:lnTo>
                <a:close/>
              </a:path>
            </a:pathLst>
          </a:custGeom>
          <a:solidFill>
            <a:srgbClr val="c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" name="未知"/>
          <p:cNvSpPr/>
          <p:nvPr/>
        </p:nvSpPr>
        <p:spPr>
          <a:xfrm flipH="1" rot="1167000">
            <a:off x="7210440" y="4797000"/>
            <a:ext cx="1727280" cy="1607040"/>
          </a:xfrm>
          <a:custGeom>
            <a:avLst/>
            <a:gdLst/>
            <a:ahLst/>
            <a:rect l="l" t="t" r="r" b="b"/>
            <a:pathLst>
              <a:path w="1723" h="1738">
                <a:moveTo>
                  <a:pt x="1696" y="392"/>
                </a:moveTo>
                <a:lnTo>
                  <a:pt x="1696" y="392"/>
                </a:lnTo>
                <a:lnTo>
                  <a:pt x="1682" y="340"/>
                </a:lnTo>
                <a:lnTo>
                  <a:pt x="1664" y="290"/>
                </a:lnTo>
                <a:lnTo>
                  <a:pt x="1643" y="244"/>
                </a:lnTo>
                <a:lnTo>
                  <a:pt x="1618" y="200"/>
                </a:lnTo>
                <a:lnTo>
                  <a:pt x="1592" y="160"/>
                </a:lnTo>
                <a:lnTo>
                  <a:pt x="1562" y="122"/>
                </a:lnTo>
                <a:lnTo>
                  <a:pt x="1546" y="104"/>
                </a:lnTo>
                <a:lnTo>
                  <a:pt x="1530" y="88"/>
                </a:lnTo>
                <a:lnTo>
                  <a:pt x="1512" y="74"/>
                </a:lnTo>
                <a:lnTo>
                  <a:pt x="1494" y="60"/>
                </a:lnTo>
                <a:lnTo>
                  <a:pt x="1476" y="48"/>
                </a:lnTo>
                <a:lnTo>
                  <a:pt x="1459" y="36"/>
                </a:lnTo>
                <a:lnTo>
                  <a:pt x="1439" y="26"/>
                </a:lnTo>
                <a:lnTo>
                  <a:pt x="1421" y="18"/>
                </a:lnTo>
                <a:lnTo>
                  <a:pt x="1402" y="12"/>
                </a:lnTo>
                <a:lnTo>
                  <a:pt x="1381" y="6"/>
                </a:lnTo>
                <a:lnTo>
                  <a:pt x="1361" y="2"/>
                </a:lnTo>
                <a:lnTo>
                  <a:pt x="1340" y="0"/>
                </a:lnTo>
                <a:lnTo>
                  <a:pt x="1320" y="0"/>
                </a:lnTo>
                <a:lnTo>
                  <a:pt x="1299" y="2"/>
                </a:lnTo>
                <a:lnTo>
                  <a:pt x="1278" y="6"/>
                </a:lnTo>
                <a:lnTo>
                  <a:pt x="1256" y="10"/>
                </a:lnTo>
                <a:lnTo>
                  <a:pt x="1233" y="18"/>
                </a:lnTo>
                <a:lnTo>
                  <a:pt x="1212" y="26"/>
                </a:lnTo>
                <a:lnTo>
                  <a:pt x="1191" y="38"/>
                </a:lnTo>
                <a:lnTo>
                  <a:pt x="1169" y="50"/>
                </a:lnTo>
                <a:lnTo>
                  <a:pt x="1169" y="50"/>
                </a:lnTo>
                <a:lnTo>
                  <a:pt x="1114" y="88"/>
                </a:lnTo>
                <a:lnTo>
                  <a:pt x="1066" y="126"/>
                </a:lnTo>
                <a:lnTo>
                  <a:pt x="1022" y="164"/>
                </a:lnTo>
                <a:lnTo>
                  <a:pt x="981" y="202"/>
                </a:lnTo>
                <a:lnTo>
                  <a:pt x="946" y="240"/>
                </a:lnTo>
                <a:lnTo>
                  <a:pt x="914" y="276"/>
                </a:lnTo>
                <a:lnTo>
                  <a:pt x="885" y="310"/>
                </a:lnTo>
                <a:lnTo>
                  <a:pt x="862" y="340"/>
                </a:lnTo>
                <a:lnTo>
                  <a:pt x="862" y="340"/>
                </a:lnTo>
                <a:lnTo>
                  <a:pt x="839" y="310"/>
                </a:lnTo>
                <a:lnTo>
                  <a:pt x="811" y="276"/>
                </a:lnTo>
                <a:lnTo>
                  <a:pt x="779" y="240"/>
                </a:lnTo>
                <a:lnTo>
                  <a:pt x="743" y="202"/>
                </a:lnTo>
                <a:lnTo>
                  <a:pt x="703" y="164"/>
                </a:lnTo>
                <a:lnTo>
                  <a:pt x="658" y="126"/>
                </a:lnTo>
                <a:lnTo>
                  <a:pt x="609" y="88"/>
                </a:lnTo>
                <a:lnTo>
                  <a:pt x="555" y="50"/>
                </a:lnTo>
                <a:lnTo>
                  <a:pt x="555" y="50"/>
                </a:lnTo>
                <a:lnTo>
                  <a:pt x="534" y="38"/>
                </a:lnTo>
                <a:lnTo>
                  <a:pt x="511" y="26"/>
                </a:lnTo>
                <a:lnTo>
                  <a:pt x="490" y="16"/>
                </a:lnTo>
                <a:lnTo>
                  <a:pt x="468" y="10"/>
                </a:lnTo>
                <a:lnTo>
                  <a:pt x="447" y="4"/>
                </a:lnTo>
                <a:lnTo>
                  <a:pt x="426" y="2"/>
                </a:lnTo>
                <a:lnTo>
                  <a:pt x="405" y="0"/>
                </a:lnTo>
                <a:lnTo>
                  <a:pt x="383" y="0"/>
                </a:lnTo>
                <a:lnTo>
                  <a:pt x="364" y="2"/>
                </a:lnTo>
                <a:lnTo>
                  <a:pt x="342" y="6"/>
                </a:lnTo>
                <a:lnTo>
                  <a:pt x="323" y="12"/>
                </a:lnTo>
                <a:lnTo>
                  <a:pt x="303" y="18"/>
                </a:lnTo>
                <a:lnTo>
                  <a:pt x="284" y="26"/>
                </a:lnTo>
                <a:lnTo>
                  <a:pt x="266" y="36"/>
                </a:lnTo>
                <a:lnTo>
                  <a:pt x="247" y="48"/>
                </a:lnTo>
                <a:lnTo>
                  <a:pt x="229" y="60"/>
                </a:lnTo>
                <a:lnTo>
                  <a:pt x="211" y="74"/>
                </a:lnTo>
                <a:lnTo>
                  <a:pt x="195" y="88"/>
                </a:lnTo>
                <a:lnTo>
                  <a:pt x="177" y="104"/>
                </a:lnTo>
                <a:lnTo>
                  <a:pt x="163" y="122"/>
                </a:lnTo>
                <a:lnTo>
                  <a:pt x="133" y="158"/>
                </a:lnTo>
                <a:lnTo>
                  <a:pt x="105" y="200"/>
                </a:lnTo>
                <a:lnTo>
                  <a:pt x="82" y="244"/>
                </a:lnTo>
                <a:lnTo>
                  <a:pt x="60" y="290"/>
                </a:lnTo>
                <a:lnTo>
                  <a:pt x="43" y="340"/>
                </a:lnTo>
                <a:lnTo>
                  <a:pt x="28" y="390"/>
                </a:lnTo>
                <a:lnTo>
                  <a:pt x="28" y="390"/>
                </a:lnTo>
                <a:lnTo>
                  <a:pt x="14" y="456"/>
                </a:lnTo>
                <a:lnTo>
                  <a:pt x="5" y="516"/>
                </a:lnTo>
                <a:lnTo>
                  <a:pt x="2" y="546"/>
                </a:lnTo>
                <a:lnTo>
                  <a:pt x="2" y="574"/>
                </a:lnTo>
                <a:lnTo>
                  <a:pt x="0" y="600"/>
                </a:lnTo>
                <a:lnTo>
                  <a:pt x="2" y="628"/>
                </a:lnTo>
                <a:lnTo>
                  <a:pt x="4" y="654"/>
                </a:lnTo>
                <a:lnTo>
                  <a:pt x="7" y="678"/>
                </a:lnTo>
                <a:lnTo>
                  <a:pt x="11" y="704"/>
                </a:lnTo>
                <a:lnTo>
                  <a:pt x="16" y="728"/>
                </a:lnTo>
                <a:lnTo>
                  <a:pt x="28" y="776"/>
                </a:lnTo>
                <a:lnTo>
                  <a:pt x="44" y="824"/>
                </a:lnTo>
                <a:lnTo>
                  <a:pt x="66" y="870"/>
                </a:lnTo>
                <a:lnTo>
                  <a:pt x="89" y="918"/>
                </a:lnTo>
                <a:lnTo>
                  <a:pt x="117" y="964"/>
                </a:lnTo>
                <a:lnTo>
                  <a:pt x="147" y="1014"/>
                </a:lnTo>
                <a:lnTo>
                  <a:pt x="181" y="1064"/>
                </a:lnTo>
                <a:lnTo>
                  <a:pt x="216" y="1116"/>
                </a:lnTo>
                <a:lnTo>
                  <a:pt x="296" y="1228"/>
                </a:lnTo>
                <a:lnTo>
                  <a:pt x="296" y="1228"/>
                </a:lnTo>
                <a:lnTo>
                  <a:pt x="328" y="1272"/>
                </a:lnTo>
                <a:lnTo>
                  <a:pt x="364" y="1316"/>
                </a:lnTo>
                <a:lnTo>
                  <a:pt x="399" y="1358"/>
                </a:lnTo>
                <a:lnTo>
                  <a:pt x="438" y="1396"/>
                </a:lnTo>
                <a:lnTo>
                  <a:pt x="476" y="1436"/>
                </a:lnTo>
                <a:lnTo>
                  <a:pt x="515" y="1472"/>
                </a:lnTo>
                <a:lnTo>
                  <a:pt x="554" y="1506"/>
                </a:lnTo>
                <a:lnTo>
                  <a:pt x="593" y="1540"/>
                </a:lnTo>
                <a:lnTo>
                  <a:pt x="669" y="1600"/>
                </a:lnTo>
                <a:lnTo>
                  <a:pt x="740" y="1652"/>
                </a:lnTo>
                <a:lnTo>
                  <a:pt x="804" y="1696"/>
                </a:lnTo>
                <a:lnTo>
                  <a:pt x="857" y="1732"/>
                </a:lnTo>
                <a:lnTo>
                  <a:pt x="857" y="1738"/>
                </a:lnTo>
                <a:lnTo>
                  <a:pt x="857" y="1738"/>
                </a:lnTo>
                <a:lnTo>
                  <a:pt x="862" y="1734"/>
                </a:lnTo>
                <a:lnTo>
                  <a:pt x="862" y="1734"/>
                </a:lnTo>
                <a:lnTo>
                  <a:pt x="868" y="1738"/>
                </a:lnTo>
                <a:lnTo>
                  <a:pt x="868" y="1732"/>
                </a:lnTo>
                <a:lnTo>
                  <a:pt x="868" y="1732"/>
                </a:lnTo>
                <a:lnTo>
                  <a:pt x="921" y="1696"/>
                </a:lnTo>
                <a:lnTo>
                  <a:pt x="985" y="1654"/>
                </a:lnTo>
                <a:lnTo>
                  <a:pt x="1056" y="1600"/>
                </a:lnTo>
                <a:lnTo>
                  <a:pt x="1132" y="1540"/>
                </a:lnTo>
                <a:lnTo>
                  <a:pt x="1169" y="1508"/>
                </a:lnTo>
                <a:lnTo>
                  <a:pt x="1208" y="1472"/>
                </a:lnTo>
                <a:lnTo>
                  <a:pt x="1247" y="1436"/>
                </a:lnTo>
                <a:lnTo>
                  <a:pt x="1286" y="1398"/>
                </a:lnTo>
                <a:lnTo>
                  <a:pt x="1324" y="1358"/>
                </a:lnTo>
                <a:lnTo>
                  <a:pt x="1361" y="1316"/>
                </a:lnTo>
                <a:lnTo>
                  <a:pt x="1395" y="1274"/>
                </a:lnTo>
                <a:lnTo>
                  <a:pt x="1428" y="1228"/>
                </a:lnTo>
                <a:lnTo>
                  <a:pt x="1428" y="1228"/>
                </a:lnTo>
                <a:lnTo>
                  <a:pt x="1508" y="1116"/>
                </a:lnTo>
                <a:lnTo>
                  <a:pt x="1544" y="1064"/>
                </a:lnTo>
                <a:lnTo>
                  <a:pt x="1577" y="1014"/>
                </a:lnTo>
                <a:lnTo>
                  <a:pt x="1608" y="966"/>
                </a:lnTo>
                <a:lnTo>
                  <a:pt x="1634" y="918"/>
                </a:lnTo>
                <a:lnTo>
                  <a:pt x="1659" y="870"/>
                </a:lnTo>
                <a:lnTo>
                  <a:pt x="1679" y="824"/>
                </a:lnTo>
                <a:lnTo>
                  <a:pt x="1696" y="778"/>
                </a:lnTo>
                <a:lnTo>
                  <a:pt x="1709" y="728"/>
                </a:lnTo>
                <a:lnTo>
                  <a:pt x="1714" y="704"/>
                </a:lnTo>
                <a:lnTo>
                  <a:pt x="1718" y="680"/>
                </a:lnTo>
                <a:lnTo>
                  <a:pt x="1721" y="654"/>
                </a:lnTo>
                <a:lnTo>
                  <a:pt x="1723" y="628"/>
                </a:lnTo>
                <a:lnTo>
                  <a:pt x="1723" y="602"/>
                </a:lnTo>
                <a:lnTo>
                  <a:pt x="1723" y="574"/>
                </a:lnTo>
                <a:lnTo>
                  <a:pt x="1721" y="546"/>
                </a:lnTo>
                <a:lnTo>
                  <a:pt x="1719" y="516"/>
                </a:lnTo>
                <a:lnTo>
                  <a:pt x="1711" y="456"/>
                </a:lnTo>
                <a:lnTo>
                  <a:pt x="1696" y="392"/>
                </a:lnTo>
                <a:lnTo>
                  <a:pt x="1696" y="392"/>
                </a:lnTo>
                <a:close/>
              </a:path>
            </a:pathLst>
          </a:custGeom>
          <a:solidFill>
            <a:srgbClr val="c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34C9-A5EC-410D-870B-D130B14CD796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DC2F-3CB0-4C2C-9C66-BE25D67EE67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7"/>
          <p:cNvSpPr/>
          <p:nvPr/>
        </p:nvSpPr>
        <p:spPr>
          <a:xfrm>
            <a:off x="1835280" y="3139920"/>
            <a:ext cx="2735280" cy="27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" name="未知"/>
          <p:cNvSpPr/>
          <p:nvPr/>
        </p:nvSpPr>
        <p:spPr>
          <a:xfrm rot="20001000">
            <a:off x="611280" y="2923920"/>
            <a:ext cx="2735280" cy="2759040"/>
          </a:xfrm>
          <a:custGeom>
            <a:avLst/>
            <a:gdLst/>
            <a:ahLst/>
            <a:rect l="l" t="t" r="r" b="b"/>
            <a:pathLst>
              <a:path w="1723" h="1738">
                <a:moveTo>
                  <a:pt x="1696" y="392"/>
                </a:moveTo>
                <a:lnTo>
                  <a:pt x="1696" y="392"/>
                </a:lnTo>
                <a:lnTo>
                  <a:pt x="1682" y="340"/>
                </a:lnTo>
                <a:lnTo>
                  <a:pt x="1664" y="290"/>
                </a:lnTo>
                <a:lnTo>
                  <a:pt x="1643" y="244"/>
                </a:lnTo>
                <a:lnTo>
                  <a:pt x="1618" y="200"/>
                </a:lnTo>
                <a:lnTo>
                  <a:pt x="1592" y="160"/>
                </a:lnTo>
                <a:lnTo>
                  <a:pt x="1562" y="122"/>
                </a:lnTo>
                <a:lnTo>
                  <a:pt x="1546" y="104"/>
                </a:lnTo>
                <a:lnTo>
                  <a:pt x="1530" y="88"/>
                </a:lnTo>
                <a:lnTo>
                  <a:pt x="1512" y="74"/>
                </a:lnTo>
                <a:lnTo>
                  <a:pt x="1494" y="60"/>
                </a:lnTo>
                <a:lnTo>
                  <a:pt x="1476" y="48"/>
                </a:lnTo>
                <a:lnTo>
                  <a:pt x="1459" y="36"/>
                </a:lnTo>
                <a:lnTo>
                  <a:pt x="1439" y="26"/>
                </a:lnTo>
                <a:lnTo>
                  <a:pt x="1421" y="18"/>
                </a:lnTo>
                <a:lnTo>
                  <a:pt x="1402" y="12"/>
                </a:lnTo>
                <a:lnTo>
                  <a:pt x="1381" y="6"/>
                </a:lnTo>
                <a:lnTo>
                  <a:pt x="1361" y="2"/>
                </a:lnTo>
                <a:lnTo>
                  <a:pt x="1340" y="0"/>
                </a:lnTo>
                <a:lnTo>
                  <a:pt x="1320" y="0"/>
                </a:lnTo>
                <a:lnTo>
                  <a:pt x="1299" y="2"/>
                </a:lnTo>
                <a:lnTo>
                  <a:pt x="1278" y="6"/>
                </a:lnTo>
                <a:lnTo>
                  <a:pt x="1256" y="10"/>
                </a:lnTo>
                <a:lnTo>
                  <a:pt x="1233" y="18"/>
                </a:lnTo>
                <a:lnTo>
                  <a:pt x="1212" y="26"/>
                </a:lnTo>
                <a:lnTo>
                  <a:pt x="1191" y="38"/>
                </a:lnTo>
                <a:lnTo>
                  <a:pt x="1169" y="50"/>
                </a:lnTo>
                <a:lnTo>
                  <a:pt x="1169" y="50"/>
                </a:lnTo>
                <a:lnTo>
                  <a:pt x="1114" y="88"/>
                </a:lnTo>
                <a:lnTo>
                  <a:pt x="1066" y="126"/>
                </a:lnTo>
                <a:lnTo>
                  <a:pt x="1022" y="164"/>
                </a:lnTo>
                <a:lnTo>
                  <a:pt x="981" y="202"/>
                </a:lnTo>
                <a:lnTo>
                  <a:pt x="946" y="240"/>
                </a:lnTo>
                <a:lnTo>
                  <a:pt x="914" y="276"/>
                </a:lnTo>
                <a:lnTo>
                  <a:pt x="885" y="310"/>
                </a:lnTo>
                <a:lnTo>
                  <a:pt x="862" y="340"/>
                </a:lnTo>
                <a:lnTo>
                  <a:pt x="862" y="340"/>
                </a:lnTo>
                <a:lnTo>
                  <a:pt x="839" y="310"/>
                </a:lnTo>
                <a:lnTo>
                  <a:pt x="811" y="276"/>
                </a:lnTo>
                <a:lnTo>
                  <a:pt x="779" y="240"/>
                </a:lnTo>
                <a:lnTo>
                  <a:pt x="743" y="202"/>
                </a:lnTo>
                <a:lnTo>
                  <a:pt x="703" y="164"/>
                </a:lnTo>
                <a:lnTo>
                  <a:pt x="658" y="126"/>
                </a:lnTo>
                <a:lnTo>
                  <a:pt x="609" y="88"/>
                </a:lnTo>
                <a:lnTo>
                  <a:pt x="555" y="50"/>
                </a:lnTo>
                <a:lnTo>
                  <a:pt x="555" y="50"/>
                </a:lnTo>
                <a:lnTo>
                  <a:pt x="534" y="38"/>
                </a:lnTo>
                <a:lnTo>
                  <a:pt x="511" y="26"/>
                </a:lnTo>
                <a:lnTo>
                  <a:pt x="490" y="16"/>
                </a:lnTo>
                <a:lnTo>
                  <a:pt x="468" y="10"/>
                </a:lnTo>
                <a:lnTo>
                  <a:pt x="447" y="4"/>
                </a:lnTo>
                <a:lnTo>
                  <a:pt x="426" y="2"/>
                </a:lnTo>
                <a:lnTo>
                  <a:pt x="405" y="0"/>
                </a:lnTo>
                <a:lnTo>
                  <a:pt x="383" y="0"/>
                </a:lnTo>
                <a:lnTo>
                  <a:pt x="364" y="2"/>
                </a:lnTo>
                <a:lnTo>
                  <a:pt x="342" y="6"/>
                </a:lnTo>
                <a:lnTo>
                  <a:pt x="323" y="12"/>
                </a:lnTo>
                <a:lnTo>
                  <a:pt x="303" y="18"/>
                </a:lnTo>
                <a:lnTo>
                  <a:pt x="284" y="26"/>
                </a:lnTo>
                <a:lnTo>
                  <a:pt x="266" y="36"/>
                </a:lnTo>
                <a:lnTo>
                  <a:pt x="247" y="48"/>
                </a:lnTo>
                <a:lnTo>
                  <a:pt x="229" y="60"/>
                </a:lnTo>
                <a:lnTo>
                  <a:pt x="211" y="74"/>
                </a:lnTo>
                <a:lnTo>
                  <a:pt x="195" y="88"/>
                </a:lnTo>
                <a:lnTo>
                  <a:pt x="177" y="104"/>
                </a:lnTo>
                <a:lnTo>
                  <a:pt x="163" y="122"/>
                </a:lnTo>
                <a:lnTo>
                  <a:pt x="133" y="158"/>
                </a:lnTo>
                <a:lnTo>
                  <a:pt x="105" y="200"/>
                </a:lnTo>
                <a:lnTo>
                  <a:pt x="82" y="244"/>
                </a:lnTo>
                <a:lnTo>
                  <a:pt x="60" y="290"/>
                </a:lnTo>
                <a:lnTo>
                  <a:pt x="43" y="340"/>
                </a:lnTo>
                <a:lnTo>
                  <a:pt x="28" y="390"/>
                </a:lnTo>
                <a:lnTo>
                  <a:pt x="28" y="390"/>
                </a:lnTo>
                <a:lnTo>
                  <a:pt x="14" y="456"/>
                </a:lnTo>
                <a:lnTo>
                  <a:pt x="5" y="516"/>
                </a:lnTo>
                <a:lnTo>
                  <a:pt x="2" y="546"/>
                </a:lnTo>
                <a:lnTo>
                  <a:pt x="2" y="574"/>
                </a:lnTo>
                <a:lnTo>
                  <a:pt x="0" y="600"/>
                </a:lnTo>
                <a:lnTo>
                  <a:pt x="2" y="628"/>
                </a:lnTo>
                <a:lnTo>
                  <a:pt x="4" y="654"/>
                </a:lnTo>
                <a:lnTo>
                  <a:pt x="7" y="678"/>
                </a:lnTo>
                <a:lnTo>
                  <a:pt x="11" y="704"/>
                </a:lnTo>
                <a:lnTo>
                  <a:pt x="16" y="728"/>
                </a:lnTo>
                <a:lnTo>
                  <a:pt x="28" y="776"/>
                </a:lnTo>
                <a:lnTo>
                  <a:pt x="44" y="824"/>
                </a:lnTo>
                <a:lnTo>
                  <a:pt x="66" y="870"/>
                </a:lnTo>
                <a:lnTo>
                  <a:pt x="89" y="918"/>
                </a:lnTo>
                <a:lnTo>
                  <a:pt x="117" y="964"/>
                </a:lnTo>
                <a:lnTo>
                  <a:pt x="147" y="1014"/>
                </a:lnTo>
                <a:lnTo>
                  <a:pt x="181" y="1064"/>
                </a:lnTo>
                <a:lnTo>
                  <a:pt x="216" y="1116"/>
                </a:lnTo>
                <a:lnTo>
                  <a:pt x="296" y="1228"/>
                </a:lnTo>
                <a:lnTo>
                  <a:pt x="296" y="1228"/>
                </a:lnTo>
                <a:lnTo>
                  <a:pt x="328" y="1272"/>
                </a:lnTo>
                <a:lnTo>
                  <a:pt x="364" y="1316"/>
                </a:lnTo>
                <a:lnTo>
                  <a:pt x="399" y="1358"/>
                </a:lnTo>
                <a:lnTo>
                  <a:pt x="438" y="1396"/>
                </a:lnTo>
                <a:lnTo>
                  <a:pt x="476" y="1436"/>
                </a:lnTo>
                <a:lnTo>
                  <a:pt x="515" y="1472"/>
                </a:lnTo>
                <a:lnTo>
                  <a:pt x="554" y="1506"/>
                </a:lnTo>
                <a:lnTo>
                  <a:pt x="593" y="1540"/>
                </a:lnTo>
                <a:lnTo>
                  <a:pt x="669" y="1600"/>
                </a:lnTo>
                <a:lnTo>
                  <a:pt x="740" y="1652"/>
                </a:lnTo>
                <a:lnTo>
                  <a:pt x="804" y="1696"/>
                </a:lnTo>
                <a:lnTo>
                  <a:pt x="857" y="1732"/>
                </a:lnTo>
                <a:lnTo>
                  <a:pt x="857" y="1738"/>
                </a:lnTo>
                <a:lnTo>
                  <a:pt x="857" y="1738"/>
                </a:lnTo>
                <a:lnTo>
                  <a:pt x="862" y="1734"/>
                </a:lnTo>
                <a:lnTo>
                  <a:pt x="862" y="1734"/>
                </a:lnTo>
                <a:lnTo>
                  <a:pt x="868" y="1738"/>
                </a:lnTo>
                <a:lnTo>
                  <a:pt x="868" y="1732"/>
                </a:lnTo>
                <a:lnTo>
                  <a:pt x="868" y="1732"/>
                </a:lnTo>
                <a:lnTo>
                  <a:pt x="921" y="1696"/>
                </a:lnTo>
                <a:lnTo>
                  <a:pt x="985" y="1654"/>
                </a:lnTo>
                <a:lnTo>
                  <a:pt x="1056" y="1600"/>
                </a:lnTo>
                <a:lnTo>
                  <a:pt x="1132" y="1540"/>
                </a:lnTo>
                <a:lnTo>
                  <a:pt x="1169" y="1508"/>
                </a:lnTo>
                <a:lnTo>
                  <a:pt x="1208" y="1472"/>
                </a:lnTo>
                <a:lnTo>
                  <a:pt x="1247" y="1436"/>
                </a:lnTo>
                <a:lnTo>
                  <a:pt x="1286" y="1398"/>
                </a:lnTo>
                <a:lnTo>
                  <a:pt x="1324" y="1358"/>
                </a:lnTo>
                <a:lnTo>
                  <a:pt x="1361" y="1316"/>
                </a:lnTo>
                <a:lnTo>
                  <a:pt x="1395" y="1274"/>
                </a:lnTo>
                <a:lnTo>
                  <a:pt x="1428" y="1228"/>
                </a:lnTo>
                <a:lnTo>
                  <a:pt x="1428" y="1228"/>
                </a:lnTo>
                <a:lnTo>
                  <a:pt x="1508" y="1116"/>
                </a:lnTo>
                <a:lnTo>
                  <a:pt x="1544" y="1064"/>
                </a:lnTo>
                <a:lnTo>
                  <a:pt x="1577" y="1014"/>
                </a:lnTo>
                <a:lnTo>
                  <a:pt x="1608" y="966"/>
                </a:lnTo>
                <a:lnTo>
                  <a:pt x="1634" y="918"/>
                </a:lnTo>
                <a:lnTo>
                  <a:pt x="1659" y="870"/>
                </a:lnTo>
                <a:lnTo>
                  <a:pt x="1679" y="824"/>
                </a:lnTo>
                <a:lnTo>
                  <a:pt x="1696" y="778"/>
                </a:lnTo>
                <a:lnTo>
                  <a:pt x="1709" y="728"/>
                </a:lnTo>
                <a:lnTo>
                  <a:pt x="1714" y="704"/>
                </a:lnTo>
                <a:lnTo>
                  <a:pt x="1718" y="680"/>
                </a:lnTo>
                <a:lnTo>
                  <a:pt x="1721" y="654"/>
                </a:lnTo>
                <a:lnTo>
                  <a:pt x="1723" y="628"/>
                </a:lnTo>
                <a:lnTo>
                  <a:pt x="1723" y="602"/>
                </a:lnTo>
                <a:lnTo>
                  <a:pt x="1723" y="574"/>
                </a:lnTo>
                <a:lnTo>
                  <a:pt x="1721" y="546"/>
                </a:lnTo>
                <a:lnTo>
                  <a:pt x="1719" y="516"/>
                </a:lnTo>
                <a:lnTo>
                  <a:pt x="1711" y="456"/>
                </a:lnTo>
                <a:lnTo>
                  <a:pt x="1696" y="392"/>
                </a:lnTo>
                <a:lnTo>
                  <a:pt x="1696" y="392"/>
                </a:lnTo>
                <a:close/>
              </a:path>
            </a:pathLst>
          </a:custGeom>
          <a:solidFill>
            <a:srgbClr val="c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7" name="未知"/>
          <p:cNvSpPr/>
          <p:nvPr/>
        </p:nvSpPr>
        <p:spPr>
          <a:xfrm flipH="1" rot="1599000">
            <a:off x="5938200" y="2923920"/>
            <a:ext cx="2735280" cy="2759040"/>
          </a:xfrm>
          <a:custGeom>
            <a:avLst/>
            <a:gdLst/>
            <a:ahLst/>
            <a:rect l="l" t="t" r="r" b="b"/>
            <a:pathLst>
              <a:path w="1723" h="1738">
                <a:moveTo>
                  <a:pt x="1696" y="392"/>
                </a:moveTo>
                <a:lnTo>
                  <a:pt x="1696" y="392"/>
                </a:lnTo>
                <a:lnTo>
                  <a:pt x="1682" y="340"/>
                </a:lnTo>
                <a:lnTo>
                  <a:pt x="1664" y="290"/>
                </a:lnTo>
                <a:lnTo>
                  <a:pt x="1643" y="244"/>
                </a:lnTo>
                <a:lnTo>
                  <a:pt x="1618" y="200"/>
                </a:lnTo>
                <a:lnTo>
                  <a:pt x="1592" y="160"/>
                </a:lnTo>
                <a:lnTo>
                  <a:pt x="1562" y="122"/>
                </a:lnTo>
                <a:lnTo>
                  <a:pt x="1546" y="104"/>
                </a:lnTo>
                <a:lnTo>
                  <a:pt x="1530" y="88"/>
                </a:lnTo>
                <a:lnTo>
                  <a:pt x="1512" y="74"/>
                </a:lnTo>
                <a:lnTo>
                  <a:pt x="1494" y="60"/>
                </a:lnTo>
                <a:lnTo>
                  <a:pt x="1476" y="48"/>
                </a:lnTo>
                <a:lnTo>
                  <a:pt x="1459" y="36"/>
                </a:lnTo>
                <a:lnTo>
                  <a:pt x="1439" y="26"/>
                </a:lnTo>
                <a:lnTo>
                  <a:pt x="1421" y="18"/>
                </a:lnTo>
                <a:lnTo>
                  <a:pt x="1402" y="12"/>
                </a:lnTo>
                <a:lnTo>
                  <a:pt x="1381" y="6"/>
                </a:lnTo>
                <a:lnTo>
                  <a:pt x="1361" y="2"/>
                </a:lnTo>
                <a:lnTo>
                  <a:pt x="1340" y="0"/>
                </a:lnTo>
                <a:lnTo>
                  <a:pt x="1320" y="0"/>
                </a:lnTo>
                <a:lnTo>
                  <a:pt x="1299" y="2"/>
                </a:lnTo>
                <a:lnTo>
                  <a:pt x="1278" y="6"/>
                </a:lnTo>
                <a:lnTo>
                  <a:pt x="1256" y="10"/>
                </a:lnTo>
                <a:lnTo>
                  <a:pt x="1233" y="18"/>
                </a:lnTo>
                <a:lnTo>
                  <a:pt x="1212" y="26"/>
                </a:lnTo>
                <a:lnTo>
                  <a:pt x="1191" y="38"/>
                </a:lnTo>
                <a:lnTo>
                  <a:pt x="1169" y="50"/>
                </a:lnTo>
                <a:lnTo>
                  <a:pt x="1169" y="50"/>
                </a:lnTo>
                <a:lnTo>
                  <a:pt x="1114" y="88"/>
                </a:lnTo>
                <a:lnTo>
                  <a:pt x="1066" y="126"/>
                </a:lnTo>
                <a:lnTo>
                  <a:pt x="1022" y="164"/>
                </a:lnTo>
                <a:lnTo>
                  <a:pt x="981" y="202"/>
                </a:lnTo>
                <a:lnTo>
                  <a:pt x="946" y="240"/>
                </a:lnTo>
                <a:lnTo>
                  <a:pt x="914" y="276"/>
                </a:lnTo>
                <a:lnTo>
                  <a:pt x="885" y="310"/>
                </a:lnTo>
                <a:lnTo>
                  <a:pt x="862" y="340"/>
                </a:lnTo>
                <a:lnTo>
                  <a:pt x="862" y="340"/>
                </a:lnTo>
                <a:lnTo>
                  <a:pt x="839" y="310"/>
                </a:lnTo>
                <a:lnTo>
                  <a:pt x="811" y="276"/>
                </a:lnTo>
                <a:lnTo>
                  <a:pt x="779" y="240"/>
                </a:lnTo>
                <a:lnTo>
                  <a:pt x="743" y="202"/>
                </a:lnTo>
                <a:lnTo>
                  <a:pt x="703" y="164"/>
                </a:lnTo>
                <a:lnTo>
                  <a:pt x="658" y="126"/>
                </a:lnTo>
                <a:lnTo>
                  <a:pt x="609" y="88"/>
                </a:lnTo>
                <a:lnTo>
                  <a:pt x="555" y="50"/>
                </a:lnTo>
                <a:lnTo>
                  <a:pt x="555" y="50"/>
                </a:lnTo>
                <a:lnTo>
                  <a:pt x="534" y="38"/>
                </a:lnTo>
                <a:lnTo>
                  <a:pt x="511" y="26"/>
                </a:lnTo>
                <a:lnTo>
                  <a:pt x="490" y="16"/>
                </a:lnTo>
                <a:lnTo>
                  <a:pt x="468" y="10"/>
                </a:lnTo>
                <a:lnTo>
                  <a:pt x="447" y="4"/>
                </a:lnTo>
                <a:lnTo>
                  <a:pt x="426" y="2"/>
                </a:lnTo>
                <a:lnTo>
                  <a:pt x="405" y="0"/>
                </a:lnTo>
                <a:lnTo>
                  <a:pt x="383" y="0"/>
                </a:lnTo>
                <a:lnTo>
                  <a:pt x="364" y="2"/>
                </a:lnTo>
                <a:lnTo>
                  <a:pt x="342" y="6"/>
                </a:lnTo>
                <a:lnTo>
                  <a:pt x="323" y="12"/>
                </a:lnTo>
                <a:lnTo>
                  <a:pt x="303" y="18"/>
                </a:lnTo>
                <a:lnTo>
                  <a:pt x="284" y="26"/>
                </a:lnTo>
                <a:lnTo>
                  <a:pt x="266" y="36"/>
                </a:lnTo>
                <a:lnTo>
                  <a:pt x="247" y="48"/>
                </a:lnTo>
                <a:lnTo>
                  <a:pt x="229" y="60"/>
                </a:lnTo>
                <a:lnTo>
                  <a:pt x="211" y="74"/>
                </a:lnTo>
                <a:lnTo>
                  <a:pt x="195" y="88"/>
                </a:lnTo>
                <a:lnTo>
                  <a:pt x="177" y="104"/>
                </a:lnTo>
                <a:lnTo>
                  <a:pt x="163" y="122"/>
                </a:lnTo>
                <a:lnTo>
                  <a:pt x="133" y="158"/>
                </a:lnTo>
                <a:lnTo>
                  <a:pt x="105" y="200"/>
                </a:lnTo>
                <a:lnTo>
                  <a:pt x="82" y="244"/>
                </a:lnTo>
                <a:lnTo>
                  <a:pt x="60" y="290"/>
                </a:lnTo>
                <a:lnTo>
                  <a:pt x="43" y="340"/>
                </a:lnTo>
                <a:lnTo>
                  <a:pt x="28" y="390"/>
                </a:lnTo>
                <a:lnTo>
                  <a:pt x="28" y="390"/>
                </a:lnTo>
                <a:lnTo>
                  <a:pt x="14" y="456"/>
                </a:lnTo>
                <a:lnTo>
                  <a:pt x="5" y="516"/>
                </a:lnTo>
                <a:lnTo>
                  <a:pt x="2" y="546"/>
                </a:lnTo>
                <a:lnTo>
                  <a:pt x="2" y="574"/>
                </a:lnTo>
                <a:lnTo>
                  <a:pt x="0" y="600"/>
                </a:lnTo>
                <a:lnTo>
                  <a:pt x="2" y="628"/>
                </a:lnTo>
                <a:lnTo>
                  <a:pt x="4" y="654"/>
                </a:lnTo>
                <a:lnTo>
                  <a:pt x="7" y="678"/>
                </a:lnTo>
                <a:lnTo>
                  <a:pt x="11" y="704"/>
                </a:lnTo>
                <a:lnTo>
                  <a:pt x="16" y="728"/>
                </a:lnTo>
                <a:lnTo>
                  <a:pt x="28" y="776"/>
                </a:lnTo>
                <a:lnTo>
                  <a:pt x="44" y="824"/>
                </a:lnTo>
                <a:lnTo>
                  <a:pt x="66" y="870"/>
                </a:lnTo>
                <a:lnTo>
                  <a:pt x="89" y="918"/>
                </a:lnTo>
                <a:lnTo>
                  <a:pt x="117" y="964"/>
                </a:lnTo>
                <a:lnTo>
                  <a:pt x="147" y="1014"/>
                </a:lnTo>
                <a:lnTo>
                  <a:pt x="181" y="1064"/>
                </a:lnTo>
                <a:lnTo>
                  <a:pt x="216" y="1116"/>
                </a:lnTo>
                <a:lnTo>
                  <a:pt x="296" y="1228"/>
                </a:lnTo>
                <a:lnTo>
                  <a:pt x="296" y="1228"/>
                </a:lnTo>
                <a:lnTo>
                  <a:pt x="328" y="1272"/>
                </a:lnTo>
                <a:lnTo>
                  <a:pt x="364" y="1316"/>
                </a:lnTo>
                <a:lnTo>
                  <a:pt x="399" y="1358"/>
                </a:lnTo>
                <a:lnTo>
                  <a:pt x="438" y="1396"/>
                </a:lnTo>
                <a:lnTo>
                  <a:pt x="476" y="1436"/>
                </a:lnTo>
                <a:lnTo>
                  <a:pt x="515" y="1472"/>
                </a:lnTo>
                <a:lnTo>
                  <a:pt x="554" y="1506"/>
                </a:lnTo>
                <a:lnTo>
                  <a:pt x="593" y="1540"/>
                </a:lnTo>
                <a:lnTo>
                  <a:pt x="669" y="1600"/>
                </a:lnTo>
                <a:lnTo>
                  <a:pt x="740" y="1652"/>
                </a:lnTo>
                <a:lnTo>
                  <a:pt x="804" y="1696"/>
                </a:lnTo>
                <a:lnTo>
                  <a:pt x="857" y="1732"/>
                </a:lnTo>
                <a:lnTo>
                  <a:pt x="857" y="1738"/>
                </a:lnTo>
                <a:lnTo>
                  <a:pt x="857" y="1738"/>
                </a:lnTo>
                <a:lnTo>
                  <a:pt x="862" y="1734"/>
                </a:lnTo>
                <a:lnTo>
                  <a:pt x="862" y="1734"/>
                </a:lnTo>
                <a:lnTo>
                  <a:pt x="868" y="1738"/>
                </a:lnTo>
                <a:lnTo>
                  <a:pt x="868" y="1732"/>
                </a:lnTo>
                <a:lnTo>
                  <a:pt x="868" y="1732"/>
                </a:lnTo>
                <a:lnTo>
                  <a:pt x="921" y="1696"/>
                </a:lnTo>
                <a:lnTo>
                  <a:pt x="985" y="1654"/>
                </a:lnTo>
                <a:lnTo>
                  <a:pt x="1056" y="1600"/>
                </a:lnTo>
                <a:lnTo>
                  <a:pt x="1132" y="1540"/>
                </a:lnTo>
                <a:lnTo>
                  <a:pt x="1169" y="1508"/>
                </a:lnTo>
                <a:lnTo>
                  <a:pt x="1208" y="1472"/>
                </a:lnTo>
                <a:lnTo>
                  <a:pt x="1247" y="1436"/>
                </a:lnTo>
                <a:lnTo>
                  <a:pt x="1286" y="1398"/>
                </a:lnTo>
                <a:lnTo>
                  <a:pt x="1324" y="1358"/>
                </a:lnTo>
                <a:lnTo>
                  <a:pt x="1361" y="1316"/>
                </a:lnTo>
                <a:lnTo>
                  <a:pt x="1395" y="1274"/>
                </a:lnTo>
                <a:lnTo>
                  <a:pt x="1428" y="1228"/>
                </a:lnTo>
                <a:lnTo>
                  <a:pt x="1428" y="1228"/>
                </a:lnTo>
                <a:lnTo>
                  <a:pt x="1508" y="1116"/>
                </a:lnTo>
                <a:lnTo>
                  <a:pt x="1544" y="1064"/>
                </a:lnTo>
                <a:lnTo>
                  <a:pt x="1577" y="1014"/>
                </a:lnTo>
                <a:lnTo>
                  <a:pt x="1608" y="966"/>
                </a:lnTo>
                <a:lnTo>
                  <a:pt x="1634" y="918"/>
                </a:lnTo>
                <a:lnTo>
                  <a:pt x="1659" y="870"/>
                </a:lnTo>
                <a:lnTo>
                  <a:pt x="1679" y="824"/>
                </a:lnTo>
                <a:lnTo>
                  <a:pt x="1696" y="778"/>
                </a:lnTo>
                <a:lnTo>
                  <a:pt x="1709" y="728"/>
                </a:lnTo>
                <a:lnTo>
                  <a:pt x="1714" y="704"/>
                </a:lnTo>
                <a:lnTo>
                  <a:pt x="1718" y="680"/>
                </a:lnTo>
                <a:lnTo>
                  <a:pt x="1721" y="654"/>
                </a:lnTo>
                <a:lnTo>
                  <a:pt x="1723" y="628"/>
                </a:lnTo>
                <a:lnTo>
                  <a:pt x="1723" y="602"/>
                </a:lnTo>
                <a:lnTo>
                  <a:pt x="1723" y="574"/>
                </a:lnTo>
                <a:lnTo>
                  <a:pt x="1721" y="546"/>
                </a:lnTo>
                <a:lnTo>
                  <a:pt x="1719" y="516"/>
                </a:lnTo>
                <a:lnTo>
                  <a:pt x="1711" y="456"/>
                </a:lnTo>
                <a:lnTo>
                  <a:pt x="1696" y="392"/>
                </a:lnTo>
                <a:lnTo>
                  <a:pt x="1696" y="392"/>
                </a:lnTo>
                <a:close/>
              </a:path>
            </a:pathLst>
          </a:custGeom>
          <a:solidFill>
            <a:srgbClr val="c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 flipH="1" rot="48000">
            <a:off x="3705840" y="3139920"/>
            <a:ext cx="1726920" cy="1606680"/>
          </a:xfrm>
          <a:custGeom>
            <a:avLst/>
            <a:gdLst/>
            <a:ahLst/>
            <a:rect l="l" t="t" r="r" b="b"/>
            <a:pathLst>
              <a:path w="1723" h="1738">
                <a:moveTo>
                  <a:pt x="1696" y="392"/>
                </a:moveTo>
                <a:lnTo>
                  <a:pt x="1696" y="392"/>
                </a:lnTo>
                <a:lnTo>
                  <a:pt x="1682" y="340"/>
                </a:lnTo>
                <a:lnTo>
                  <a:pt x="1664" y="290"/>
                </a:lnTo>
                <a:lnTo>
                  <a:pt x="1643" y="244"/>
                </a:lnTo>
                <a:lnTo>
                  <a:pt x="1618" y="200"/>
                </a:lnTo>
                <a:lnTo>
                  <a:pt x="1592" y="160"/>
                </a:lnTo>
                <a:lnTo>
                  <a:pt x="1562" y="122"/>
                </a:lnTo>
                <a:lnTo>
                  <a:pt x="1546" y="104"/>
                </a:lnTo>
                <a:lnTo>
                  <a:pt x="1530" y="88"/>
                </a:lnTo>
                <a:lnTo>
                  <a:pt x="1512" y="74"/>
                </a:lnTo>
                <a:lnTo>
                  <a:pt x="1494" y="60"/>
                </a:lnTo>
                <a:lnTo>
                  <a:pt x="1476" y="48"/>
                </a:lnTo>
                <a:lnTo>
                  <a:pt x="1459" y="36"/>
                </a:lnTo>
                <a:lnTo>
                  <a:pt x="1439" y="26"/>
                </a:lnTo>
                <a:lnTo>
                  <a:pt x="1421" y="18"/>
                </a:lnTo>
                <a:lnTo>
                  <a:pt x="1402" y="12"/>
                </a:lnTo>
                <a:lnTo>
                  <a:pt x="1381" y="6"/>
                </a:lnTo>
                <a:lnTo>
                  <a:pt x="1361" y="2"/>
                </a:lnTo>
                <a:lnTo>
                  <a:pt x="1340" y="0"/>
                </a:lnTo>
                <a:lnTo>
                  <a:pt x="1320" y="0"/>
                </a:lnTo>
                <a:lnTo>
                  <a:pt x="1299" y="2"/>
                </a:lnTo>
                <a:lnTo>
                  <a:pt x="1278" y="6"/>
                </a:lnTo>
                <a:lnTo>
                  <a:pt x="1256" y="10"/>
                </a:lnTo>
                <a:lnTo>
                  <a:pt x="1233" y="18"/>
                </a:lnTo>
                <a:lnTo>
                  <a:pt x="1212" y="26"/>
                </a:lnTo>
                <a:lnTo>
                  <a:pt x="1191" y="38"/>
                </a:lnTo>
                <a:lnTo>
                  <a:pt x="1169" y="50"/>
                </a:lnTo>
                <a:lnTo>
                  <a:pt x="1169" y="50"/>
                </a:lnTo>
                <a:lnTo>
                  <a:pt x="1114" y="88"/>
                </a:lnTo>
                <a:lnTo>
                  <a:pt x="1066" y="126"/>
                </a:lnTo>
                <a:lnTo>
                  <a:pt x="1022" y="164"/>
                </a:lnTo>
                <a:lnTo>
                  <a:pt x="981" y="202"/>
                </a:lnTo>
                <a:lnTo>
                  <a:pt x="946" y="240"/>
                </a:lnTo>
                <a:lnTo>
                  <a:pt x="914" y="276"/>
                </a:lnTo>
                <a:lnTo>
                  <a:pt x="885" y="310"/>
                </a:lnTo>
                <a:lnTo>
                  <a:pt x="862" y="340"/>
                </a:lnTo>
                <a:lnTo>
                  <a:pt x="862" y="340"/>
                </a:lnTo>
                <a:lnTo>
                  <a:pt x="839" y="310"/>
                </a:lnTo>
                <a:lnTo>
                  <a:pt x="811" y="276"/>
                </a:lnTo>
                <a:lnTo>
                  <a:pt x="779" y="240"/>
                </a:lnTo>
                <a:lnTo>
                  <a:pt x="743" y="202"/>
                </a:lnTo>
                <a:lnTo>
                  <a:pt x="703" y="164"/>
                </a:lnTo>
                <a:lnTo>
                  <a:pt x="658" y="126"/>
                </a:lnTo>
                <a:lnTo>
                  <a:pt x="609" y="88"/>
                </a:lnTo>
                <a:lnTo>
                  <a:pt x="555" y="50"/>
                </a:lnTo>
                <a:lnTo>
                  <a:pt x="555" y="50"/>
                </a:lnTo>
                <a:lnTo>
                  <a:pt x="534" y="38"/>
                </a:lnTo>
                <a:lnTo>
                  <a:pt x="511" y="26"/>
                </a:lnTo>
                <a:lnTo>
                  <a:pt x="490" y="16"/>
                </a:lnTo>
                <a:lnTo>
                  <a:pt x="468" y="10"/>
                </a:lnTo>
                <a:lnTo>
                  <a:pt x="447" y="4"/>
                </a:lnTo>
                <a:lnTo>
                  <a:pt x="426" y="2"/>
                </a:lnTo>
                <a:lnTo>
                  <a:pt x="405" y="0"/>
                </a:lnTo>
                <a:lnTo>
                  <a:pt x="383" y="0"/>
                </a:lnTo>
                <a:lnTo>
                  <a:pt x="364" y="2"/>
                </a:lnTo>
                <a:lnTo>
                  <a:pt x="342" y="6"/>
                </a:lnTo>
                <a:lnTo>
                  <a:pt x="323" y="12"/>
                </a:lnTo>
                <a:lnTo>
                  <a:pt x="303" y="18"/>
                </a:lnTo>
                <a:lnTo>
                  <a:pt x="284" y="26"/>
                </a:lnTo>
                <a:lnTo>
                  <a:pt x="266" y="36"/>
                </a:lnTo>
                <a:lnTo>
                  <a:pt x="247" y="48"/>
                </a:lnTo>
                <a:lnTo>
                  <a:pt x="229" y="60"/>
                </a:lnTo>
                <a:lnTo>
                  <a:pt x="211" y="74"/>
                </a:lnTo>
                <a:lnTo>
                  <a:pt x="195" y="88"/>
                </a:lnTo>
                <a:lnTo>
                  <a:pt x="177" y="104"/>
                </a:lnTo>
                <a:lnTo>
                  <a:pt x="163" y="122"/>
                </a:lnTo>
                <a:lnTo>
                  <a:pt x="133" y="158"/>
                </a:lnTo>
                <a:lnTo>
                  <a:pt x="105" y="200"/>
                </a:lnTo>
                <a:lnTo>
                  <a:pt x="82" y="244"/>
                </a:lnTo>
                <a:lnTo>
                  <a:pt x="60" y="290"/>
                </a:lnTo>
                <a:lnTo>
                  <a:pt x="43" y="340"/>
                </a:lnTo>
                <a:lnTo>
                  <a:pt x="28" y="390"/>
                </a:lnTo>
                <a:lnTo>
                  <a:pt x="28" y="390"/>
                </a:lnTo>
                <a:lnTo>
                  <a:pt x="14" y="456"/>
                </a:lnTo>
                <a:lnTo>
                  <a:pt x="5" y="516"/>
                </a:lnTo>
                <a:lnTo>
                  <a:pt x="2" y="546"/>
                </a:lnTo>
                <a:lnTo>
                  <a:pt x="2" y="574"/>
                </a:lnTo>
                <a:lnTo>
                  <a:pt x="0" y="600"/>
                </a:lnTo>
                <a:lnTo>
                  <a:pt x="2" y="628"/>
                </a:lnTo>
                <a:lnTo>
                  <a:pt x="4" y="654"/>
                </a:lnTo>
                <a:lnTo>
                  <a:pt x="7" y="678"/>
                </a:lnTo>
                <a:lnTo>
                  <a:pt x="11" y="704"/>
                </a:lnTo>
                <a:lnTo>
                  <a:pt x="16" y="728"/>
                </a:lnTo>
                <a:lnTo>
                  <a:pt x="28" y="776"/>
                </a:lnTo>
                <a:lnTo>
                  <a:pt x="44" y="824"/>
                </a:lnTo>
                <a:lnTo>
                  <a:pt x="66" y="870"/>
                </a:lnTo>
                <a:lnTo>
                  <a:pt x="89" y="918"/>
                </a:lnTo>
                <a:lnTo>
                  <a:pt x="117" y="964"/>
                </a:lnTo>
                <a:lnTo>
                  <a:pt x="147" y="1014"/>
                </a:lnTo>
                <a:lnTo>
                  <a:pt x="181" y="1064"/>
                </a:lnTo>
                <a:lnTo>
                  <a:pt x="216" y="1116"/>
                </a:lnTo>
                <a:lnTo>
                  <a:pt x="296" y="1228"/>
                </a:lnTo>
                <a:lnTo>
                  <a:pt x="296" y="1228"/>
                </a:lnTo>
                <a:lnTo>
                  <a:pt x="328" y="1272"/>
                </a:lnTo>
                <a:lnTo>
                  <a:pt x="364" y="1316"/>
                </a:lnTo>
                <a:lnTo>
                  <a:pt x="399" y="1358"/>
                </a:lnTo>
                <a:lnTo>
                  <a:pt x="438" y="1396"/>
                </a:lnTo>
                <a:lnTo>
                  <a:pt x="476" y="1436"/>
                </a:lnTo>
                <a:lnTo>
                  <a:pt x="515" y="1472"/>
                </a:lnTo>
                <a:lnTo>
                  <a:pt x="554" y="1506"/>
                </a:lnTo>
                <a:lnTo>
                  <a:pt x="593" y="1540"/>
                </a:lnTo>
                <a:lnTo>
                  <a:pt x="669" y="1600"/>
                </a:lnTo>
                <a:lnTo>
                  <a:pt x="740" y="1652"/>
                </a:lnTo>
                <a:lnTo>
                  <a:pt x="804" y="1696"/>
                </a:lnTo>
                <a:lnTo>
                  <a:pt x="857" y="1732"/>
                </a:lnTo>
                <a:lnTo>
                  <a:pt x="857" y="1738"/>
                </a:lnTo>
                <a:lnTo>
                  <a:pt x="857" y="1738"/>
                </a:lnTo>
                <a:lnTo>
                  <a:pt x="862" y="1734"/>
                </a:lnTo>
                <a:lnTo>
                  <a:pt x="862" y="1734"/>
                </a:lnTo>
                <a:lnTo>
                  <a:pt x="868" y="1738"/>
                </a:lnTo>
                <a:lnTo>
                  <a:pt x="868" y="1732"/>
                </a:lnTo>
                <a:lnTo>
                  <a:pt x="868" y="1732"/>
                </a:lnTo>
                <a:lnTo>
                  <a:pt x="921" y="1696"/>
                </a:lnTo>
                <a:lnTo>
                  <a:pt x="985" y="1654"/>
                </a:lnTo>
                <a:lnTo>
                  <a:pt x="1056" y="1600"/>
                </a:lnTo>
                <a:lnTo>
                  <a:pt x="1132" y="1540"/>
                </a:lnTo>
                <a:lnTo>
                  <a:pt x="1169" y="1508"/>
                </a:lnTo>
                <a:lnTo>
                  <a:pt x="1208" y="1472"/>
                </a:lnTo>
                <a:lnTo>
                  <a:pt x="1247" y="1436"/>
                </a:lnTo>
                <a:lnTo>
                  <a:pt x="1286" y="1398"/>
                </a:lnTo>
                <a:lnTo>
                  <a:pt x="1324" y="1358"/>
                </a:lnTo>
                <a:lnTo>
                  <a:pt x="1361" y="1316"/>
                </a:lnTo>
                <a:lnTo>
                  <a:pt x="1395" y="1274"/>
                </a:lnTo>
                <a:lnTo>
                  <a:pt x="1428" y="1228"/>
                </a:lnTo>
                <a:lnTo>
                  <a:pt x="1428" y="1228"/>
                </a:lnTo>
                <a:lnTo>
                  <a:pt x="1508" y="1116"/>
                </a:lnTo>
                <a:lnTo>
                  <a:pt x="1544" y="1064"/>
                </a:lnTo>
                <a:lnTo>
                  <a:pt x="1577" y="1014"/>
                </a:lnTo>
                <a:lnTo>
                  <a:pt x="1608" y="966"/>
                </a:lnTo>
                <a:lnTo>
                  <a:pt x="1634" y="918"/>
                </a:lnTo>
                <a:lnTo>
                  <a:pt x="1659" y="870"/>
                </a:lnTo>
                <a:lnTo>
                  <a:pt x="1679" y="824"/>
                </a:lnTo>
                <a:lnTo>
                  <a:pt x="1696" y="778"/>
                </a:lnTo>
                <a:lnTo>
                  <a:pt x="1709" y="728"/>
                </a:lnTo>
                <a:lnTo>
                  <a:pt x="1714" y="704"/>
                </a:lnTo>
                <a:lnTo>
                  <a:pt x="1718" y="680"/>
                </a:lnTo>
                <a:lnTo>
                  <a:pt x="1721" y="654"/>
                </a:lnTo>
                <a:lnTo>
                  <a:pt x="1723" y="628"/>
                </a:lnTo>
                <a:lnTo>
                  <a:pt x="1723" y="602"/>
                </a:lnTo>
                <a:lnTo>
                  <a:pt x="1723" y="574"/>
                </a:lnTo>
                <a:lnTo>
                  <a:pt x="1721" y="546"/>
                </a:lnTo>
                <a:lnTo>
                  <a:pt x="1719" y="516"/>
                </a:lnTo>
                <a:lnTo>
                  <a:pt x="1711" y="456"/>
                </a:lnTo>
                <a:lnTo>
                  <a:pt x="1696" y="392"/>
                </a:lnTo>
                <a:lnTo>
                  <a:pt x="1696" y="392"/>
                </a:lnTo>
                <a:close/>
              </a:path>
            </a:pathLst>
          </a:custGeom>
          <a:solidFill>
            <a:srgbClr val="c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5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1" marL="727920" indent="-280080">
              <a:spcBef>
                <a:spcPts val="799"/>
              </a:spcBef>
              <a:buClr>
                <a:srgbClr val="a50021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2" marL="111996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3" marL="156816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4" marL="201600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5" marL="201600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6" marL="201600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FD83-FB0B-4786-B944-8355D064AC9C}" type="slidenum">
              <a:rPr b="0" lang="en-US" sz="1400" spc="-1" strike="noStrike">
                <a:solidFill>
                  <a:srgbClr val="a50021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微软雅黑"/>
              </a:rPr>
              <a:t>心跳七夕</a:t>
            </a:r>
            <a:endParaRPr b="0" lang="en-US" sz="3600" spc="-1" strike="noStrike">
              <a:solidFill>
                <a:srgbClr val="a50021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微软雅黑"/>
              </a:rPr>
              <a:t>你想对他说的话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微软雅黑"/>
              </a:rPr>
              <a:t>你想对她说的话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微软雅黑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微软雅黑"/>
              </a:rPr>
              <a:t>你想对他说的话</a:t>
            </a:r>
            <a:endParaRPr b="0" lang="en-US" sz="28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781080" y="1600200"/>
            <a:ext cx="320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微软雅黑"/>
              </a:rPr>
              <a:t>你想对她说的话</a:t>
            </a:r>
            <a:endParaRPr b="0" lang="en-US" sz="2800" spc="-1" strike="noStrike">
              <a:solidFill>
                <a:srgbClr val="a50021"/>
              </a:solidFill>
              <a:latin typeface="微软雅黑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微软雅黑"/>
              </a:rPr>
              <a:t>颜色卡</a:t>
            </a:r>
            <a:endParaRPr b="0" lang="en-US" sz="36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2241720"/>
            <a:ext cx="9144000" cy="4616280"/>
          </a:xfrm>
          <a:prstGeom prst="rect">
            <a:avLst/>
          </a:prstGeom>
          <a:solidFill>
            <a:srgbClr val="fffffe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430280" y="3322800"/>
            <a:ext cx="827280" cy="610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506680" y="3322800"/>
            <a:ext cx="826920" cy="610920"/>
          </a:xfrm>
          <a:prstGeom prst="rect">
            <a:avLst/>
          </a:prstGeom>
          <a:solidFill>
            <a:srgbClr val="808080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635360" y="3322800"/>
            <a:ext cx="827280" cy="610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5703840" y="3322800"/>
            <a:ext cx="827280" cy="610920"/>
          </a:xfrm>
          <a:prstGeom prst="rect">
            <a:avLst/>
          </a:prstGeom>
          <a:solidFill>
            <a:srgbClr val="cc0066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6772320" y="3322800"/>
            <a:ext cx="826920" cy="610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7842240" y="3322800"/>
            <a:ext cx="826920" cy="610920"/>
          </a:xfrm>
          <a:prstGeom prst="rect">
            <a:avLst/>
          </a:prstGeom>
          <a:solidFill>
            <a:srgbClr val="800080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3567240" y="3322800"/>
            <a:ext cx="826920" cy="610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361800" y="3322800"/>
            <a:ext cx="827280" cy="6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586080" y="2709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背景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1473480" y="2709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文字和线条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2729880" y="2709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阴影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3790440" y="2709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4837680" y="268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填充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5914440" y="268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加粗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6901560" y="26827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超链接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3" name="Text Box 19"/>
          <p:cNvSpPr/>
          <p:nvPr/>
        </p:nvSpPr>
        <p:spPr>
          <a:xfrm>
            <a:off x="7599240" y="2682720"/>
            <a:ext cx="141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已访问过的超链接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微软雅黑"/>
              </a:rPr>
              <a:t>恋爱表格</a:t>
            </a:r>
            <a:endParaRPr b="0" lang="en-US" sz="3600" spc="-1" strike="noStrike">
              <a:solidFill>
                <a:srgbClr val="a50021"/>
              </a:solidFill>
              <a:latin typeface="微软雅黑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31640" y="1916280"/>
          <a:ext cx="6229440" cy="3278160"/>
        </p:xfrm>
        <a:graphic>
          <a:graphicData uri="http://schemas.openxmlformats.org/drawingml/2006/table">
            <a:tbl>
              <a:tblPr/>
              <a:tblGrid>
                <a:gridCol w="3114720"/>
                <a:gridCol w="311472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事情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1368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1368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1368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1368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微软雅黑"/>
              </a:rPr>
              <a:t>心情测试表</a:t>
            </a:r>
            <a:endParaRPr b="0" lang="en-US" sz="3600" spc="-1" strike="noStrike">
              <a:solidFill>
                <a:srgbClr val="a50021"/>
              </a:solidFill>
              <a:latin typeface="微软雅黑"/>
            </a:endParaRPr>
          </a:p>
        </p:txBody>
      </p:sp>
      <p:graphicFrame>
        <p:nvGraphicFramePr>
          <p:cNvPr id="157" name="Object 3"/>
          <p:cNvGraphicFramePr/>
          <p:nvPr/>
        </p:nvGraphicFramePr>
        <p:xfrm>
          <a:off x="252360" y="1873080"/>
          <a:ext cx="6732720" cy="37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1873080"/>
                    <a:ext cx="6732720" cy="37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微软雅黑"/>
              </a:rPr>
              <a:t>照片墙</a:t>
            </a:r>
            <a:endParaRPr b="0" lang="en-US" sz="36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19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微软雅黑"/>
              </a:rPr>
              <a:t>生日</a:t>
            </a:r>
            <a:endParaRPr b="0" lang="en-US" sz="2800" spc="-1" strike="noStrike">
              <a:solidFill>
                <a:srgbClr val="a50021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微软雅黑"/>
              </a:rPr>
              <a:t>聚会</a:t>
            </a:r>
            <a:endParaRPr b="0" lang="en-US" sz="2800" spc="-1" strike="noStrike">
              <a:solidFill>
                <a:srgbClr val="a50021"/>
              </a:solidFill>
              <a:latin typeface="微软雅黑"/>
            </a:endParaRPr>
          </a:p>
        </p:txBody>
      </p:sp>
      <p:pic>
        <p:nvPicPr>
          <p:cNvPr id="161" name="Picture 4" descr="snowdrop"/>
          <p:cNvPicPr/>
          <p:nvPr/>
        </p:nvPicPr>
        <p:blipFill>
          <a:blip r:embed="rId1"/>
          <a:stretch/>
        </p:blipFill>
        <p:spPr>
          <a:xfrm>
            <a:off x="4140360" y="1916280"/>
            <a:ext cx="2093760" cy="352872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a50021"/>
                </a:solidFill>
                <a:latin typeface="Arial"/>
              </a:endParaRPr>
            </a:p>
          </p:txBody>
        </p:sp>
        <p:pic>
          <p:nvPicPr>
            <p:cNvPr id="16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9:17:34Z</dcterms:created>
  <dc:creator>Presentation Magazine</dc:creator>
  <dc:description/>
  <cp:keywords/>
  <dc:language>en-US</dc:language>
  <cp:lastModifiedBy>a</cp:lastModifiedBy>
  <dcterms:modified xsi:type="dcterms:W3CDTF">2014-05-20T07:59:04Z</dcterms:modified>
  <cp:revision>6</cp:revision>
  <dc:subject/>
  <dc:title>Hearts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