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305-57CE-4E64-B5AC-A1D2EB5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FA1-1EBA-47A9-8923-5005513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22D-F4BE-434E-AE51-16CE50A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DB5-CA7A-420F-876C-F9EF1F9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55F-1F73-428D-9D55-3D239D54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835-D29E-4D90-AE66-CC0B9DA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E09-98EA-41D1-B136-B981ACF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058-888A-4BC9-AC7B-F41F3BD5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977-C943-416F-A7F6-2AEC61A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70C-6FBF-4109-9DD5-A946DF6F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799-A9CE-485C-B0BA-9D0B6670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F6C-AD86-4713-BB06-BB6AF91F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4451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BFFE-A333-4DE6-AD8A-9C70C9D15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451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24000" y="54687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11:12Z</dcterms:created>
  <dc:creator>Administrator</dc:creator>
  <dc:description/>
  <cp:keywords/>
  <dc:language>en-US</dc:language>
  <cp:lastModifiedBy>a</cp:lastModifiedBy>
  <dcterms:modified xsi:type="dcterms:W3CDTF">2014-05-19T01:16:06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