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7120" y="28584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7120" y="28584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c3a5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397640" y="628668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4941720"/>
            <a:ext cx="77724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476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601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00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00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857760" y="513720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500800" y="571176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72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2714760" y="535788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0" y="61657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285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29:05Z</dcterms:created>
  <dc:creator/>
  <dc:description/>
  <dc:language>en-US</dc:language>
  <cp:lastModifiedBy>dell</cp:lastModifiedBy>
  <cp:lastPrinted>1899-12-30T00:00:00Z</cp:lastPrinted>
  <dcterms:modified xsi:type="dcterms:W3CDTF">2014-05-21T03:20:30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