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9DF-E55F-4CEB-A3D9-73AF1302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77169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77169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D8E-FB51-481D-9311-50C1AA21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144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222-C9D7-4510-8B5B-5EF4C98F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6480" y="120024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5760" y="120024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6480" y="297432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5760" y="297432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FEF-2445-420C-8501-4879C3B9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5A7-E8E8-4D09-B59B-ED7C5BA3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7FE-7C16-420B-A47D-E3E32C0B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D97-FF51-4220-982B-1312AB9B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048-6920-4148-923C-13EB4C94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716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6EF-2B95-4D5E-9855-F1EA093E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45C-580A-44BF-AB55-EBF3087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144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943-EFBF-4C36-95CD-CF77EE0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77169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0BB-D7C5-4870-B71E-BF93D4A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909-E0C0-4094-917A-A3381E8E5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89183" t="0" r="0" b="9158"/>
          <a:stretch/>
        </p:blipFill>
        <p:spPr>
          <a:xfrm>
            <a:off x="8155080" y="0"/>
            <a:ext cx="988920" cy="514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5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380880" y="804960"/>
            <a:ext cx="533412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42"/>
                </a:solidFill>
                <a:latin typeface="金梅浪漫空心體"/>
                <a:ea typeface="方正兰亭粗黑简体"/>
              </a:rPr>
              <a:t>单</a:t>
            </a:r>
            <a:r>
              <a:rPr b="0" lang="zh-CN" sz="4000" spc="-1" strike="noStrike">
                <a:solidFill>
                  <a:srgbClr val="010825"/>
                </a:solidFill>
                <a:latin typeface="金梅浪漫空心體"/>
                <a:ea typeface="方正兰亭粗黑简体"/>
              </a:rPr>
              <a:t>击此处</a:t>
            </a: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39560"/>
            <a:ext cx="365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  <a:ea typeface="方正兰亭粗黑简体"/>
              </a:rPr>
              <a:t>W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方正兰亭粗黑简体"/>
              </a:rPr>
              <a:t>P</a:t>
            </a: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方正兰亭粗黑简体"/>
              </a:rPr>
              <a:t>S</a:t>
            </a:r>
            <a:r>
              <a:rPr b="0" lang="zh-CN" sz="2000" spc="-1" strike="noStrike">
                <a:solidFill>
                  <a:srgbClr val="0099ff"/>
                </a:solidFill>
                <a:latin typeface="Arial"/>
                <a:ea typeface="方正兰亭粗黑简体"/>
              </a:rPr>
              <a:t>OFFI</a:t>
            </a:r>
            <a:r>
              <a:rPr b="0" lang="zh-CN" sz="2000" spc="-1" strike="noStrike">
                <a:solidFill>
                  <a:srgbClr val="ff66cc"/>
                </a:solidFill>
                <a:latin typeface="Arial"/>
                <a:ea typeface="方正兰亭粗黑简体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380880" y="1521000"/>
            <a:ext cx="411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Palace Script MT"/>
                <a:ea typeface="方正兰亭粗黑简体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33640" y="451656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73520" y="46609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5145120"/>
            <a:chOff x="0" y="0"/>
            <a:chExt cx="8466120" cy="514512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6280"/>
              <a:ext cx="84661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46880" y="267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/>
  <dc:description/>
  <dc:language>en-US</dc:language>
  <cp:lastModifiedBy>yk</cp:lastModifiedBy>
  <cp:lastPrinted>1899-12-30T00:00:00Z</cp:lastPrinted>
  <dcterms:modified xsi:type="dcterms:W3CDTF">2014-06-05T08:23:2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