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94D-D495-4A2C-8F8D-F036A7AC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BBD8-7A60-4787-BF0B-B3030AC9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BDBB-B3C0-4316-AC46-F82F88F3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AA5-6174-491A-8B51-0D15479A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7592-D9FD-4007-BEED-27FF011D7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BA06-6A05-4B15-BD79-4E5C3EFB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1620-B24F-46DC-9DFC-F1E1AA9BD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2039-D90D-4E75-8724-DA24EB69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E725-1322-43EE-9FE6-0EE1AA57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E5A5-700C-4D3B-9031-919B2F49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A395A-B8A6-4D34-9BAB-0A3F38FF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F64-B29C-43B1-946E-D5111C6D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5CB5-F5BF-4B90-A18C-50A4669A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C668-CB46-45A4-8837-36A03877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72AE0-F8A6-402D-AB97-8A275FBA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A840-F115-4125-8F69-23AB6C66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5A79-1300-444E-B0E1-EFA1026A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72877-C5CE-4CB9-BF0A-AB5B6971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B6D4E-0E0C-4699-BC91-34C12759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DDEA-5E76-409F-8D6B-AE20B11B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58766-CCCA-4DF7-9D62-0D51BA31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DFBDE-75AE-41A2-8017-35395638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812-03DD-4068-9830-31B8A4B2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2D34-24E7-4C53-8D1A-E6AEA8D8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1F6E5-C94B-4A99-9573-F817B2D2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7A695-6BF5-459D-8EF2-BE8900A1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AAE6-C201-4A14-9092-3F0B805AB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8678-1EE8-4584-8DBA-36A2ACDA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5184B-1678-4E76-9FDD-27DB7D8B0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016A-1A18-428D-92F3-861DCD35A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67E-A173-4AB9-8170-94E9ED4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BF7-5E4F-465E-8DAE-B0EBFC17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FED-53CC-4E9C-AE32-40EEA31F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7881-09BC-4040-B9EB-7F827B9E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88AD-6DCE-427C-B639-7030C8A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C5E2-9D43-4298-A770-73C41AC1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2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龙.jpg"/>
          <p:cNvPicPr/>
          <p:nvPr/>
        </p:nvPicPr>
        <p:blipFill>
          <a:blip r:embed="rId5"/>
          <a:stretch/>
        </p:blipFill>
        <p:spPr>
          <a:xfrm>
            <a:off x="8893080" y="6276960"/>
            <a:ext cx="106560" cy="13824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未标题-1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图片 11" descr="阴文.gif"/>
          <p:cNvPicPr/>
          <p:nvPr/>
        </p:nvPicPr>
        <p:blipFill>
          <a:blip r:embed="rId7"/>
          <a:stretch/>
        </p:blipFill>
        <p:spPr>
          <a:xfrm>
            <a:off x="8604360" y="6165720"/>
            <a:ext cx="252360" cy="3780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7B41-0044-4B76-BE6B-E3F9E5D069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9" descr="未标题-3副本.jpg"/>
          <p:cNvPicPr/>
          <p:nvPr/>
        </p:nvPicPr>
        <p:blipFill>
          <a:blip r:embed="rId5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" descr="阴文.gif"/>
          <p:cNvPicPr/>
          <p:nvPr/>
        </p:nvPicPr>
        <p:blipFill>
          <a:blip r:embed="rId6"/>
          <a:stretch/>
        </p:blipFill>
        <p:spPr>
          <a:xfrm>
            <a:off x="179280" y="6308640"/>
            <a:ext cx="252360" cy="37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BFAA-62B3-4D7A-B2F6-7931F228F8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3091-9C33-456D-868C-CF4E931BC7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87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叶根友蚕燕隶书(3500)"/>
                <a:ea typeface="叶根友蚕燕隶书(3500)"/>
              </a:rPr>
              <a:t>中国风水墨桥</a:t>
            </a:r>
            <a:r>
              <a:rPr b="0" lang="en-US" sz="4800" spc="-1" strike="noStrike">
                <a:solidFill>
                  <a:srgbClr val="ffffff"/>
                </a:solidFill>
                <a:latin typeface="叶根友蚕燕隶书(3500)"/>
                <a:ea typeface="叶根友蚕燕隶书(3500)"/>
              </a:rPr>
              <a:t>ppt</a:t>
            </a:r>
            <a:r>
              <a:rPr b="0" lang="zh-CN" sz="4800" spc="-1" strike="noStrike">
                <a:solidFill>
                  <a:srgbClr val="ffffff"/>
                </a:solidFill>
                <a:latin typeface="叶根友蚕燕隶书(3500)"/>
                <a:ea typeface="叶根友蚕燕隶书(3500)"/>
              </a:rPr>
              <a:t>模板</a:t>
            </a:r>
            <a:endParaRPr b="0" lang="en-US" sz="4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492000" y="2421000"/>
            <a:ext cx="5472360" cy="10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332000" y="1557360"/>
            <a:ext cx="5938920" cy="863640"/>
            <a:chOff x="1332000" y="1557360"/>
            <a:chExt cx="5938920" cy="863640"/>
          </a:xfrm>
        </p:grpSpPr>
        <p:sp>
          <p:nvSpPr>
            <p:cNvPr id="138" name="矩形 26"/>
            <p:cNvSpPr/>
            <p:nvPr/>
          </p:nvSpPr>
          <p:spPr>
            <a:xfrm>
              <a:off x="1332000" y="1557360"/>
              <a:ext cx="864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  <a:ea typeface="MS PMincho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" name="图片 24" descr="D_042.jpg"/>
            <p:cNvPicPr/>
            <p:nvPr/>
          </p:nvPicPr>
          <p:blipFill>
            <a:blip r:embed="rId1"/>
            <a:stretch/>
          </p:blipFill>
          <p:spPr>
            <a:xfrm>
              <a:off x="1404000" y="170136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27"/>
            <p:cNvSpPr/>
            <p:nvPr/>
          </p:nvSpPr>
          <p:spPr>
            <a:xfrm>
              <a:off x="2124000" y="170136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销售回顾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1" name="图片 28" descr="C_108.jpg"/>
            <p:cNvPicPr/>
            <p:nvPr/>
          </p:nvPicPr>
          <p:blipFill>
            <a:blip r:embed="rId2"/>
            <a:stretch/>
          </p:blipFill>
          <p:spPr>
            <a:xfrm>
              <a:off x="1836000" y="220536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1403280" y="2492280"/>
            <a:ext cx="5867640" cy="649440"/>
            <a:chOff x="1403280" y="2492280"/>
            <a:chExt cx="5867640" cy="649440"/>
          </a:xfrm>
        </p:grpSpPr>
        <p:pic>
          <p:nvPicPr>
            <p:cNvPr id="143" name="图片 31" descr="D_042.jpg"/>
            <p:cNvPicPr/>
            <p:nvPr/>
          </p:nvPicPr>
          <p:blipFill>
            <a:blip r:embed="rId3"/>
            <a:stretch/>
          </p:blipFill>
          <p:spPr>
            <a:xfrm>
              <a:off x="1403280" y="249228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矩形 32"/>
            <p:cNvSpPr/>
            <p:nvPr/>
          </p:nvSpPr>
          <p:spPr>
            <a:xfrm>
              <a:off x="2123280" y="2492280"/>
              <a:ext cx="48254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场分析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图片 33" descr="C_108.jpg"/>
            <p:cNvPicPr/>
            <p:nvPr/>
          </p:nvPicPr>
          <p:blipFill>
            <a:blip r:embed="rId4"/>
            <a:stretch/>
          </p:blipFill>
          <p:spPr>
            <a:xfrm>
              <a:off x="1835280" y="2997360"/>
              <a:ext cx="543564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"/>
          <p:cNvGrpSpPr/>
          <p:nvPr/>
        </p:nvGrpSpPr>
        <p:grpSpPr>
          <a:xfrm>
            <a:off x="1403280" y="3284640"/>
            <a:ext cx="5867640" cy="649080"/>
            <a:chOff x="1403280" y="3284640"/>
            <a:chExt cx="5867640" cy="649080"/>
          </a:xfrm>
        </p:grpSpPr>
        <p:pic>
          <p:nvPicPr>
            <p:cNvPr id="147" name="图片 35" descr="D_042.jpg"/>
            <p:cNvPicPr/>
            <p:nvPr/>
          </p:nvPicPr>
          <p:blipFill>
            <a:blip r:embed="rId5"/>
            <a:stretch/>
          </p:blipFill>
          <p:spPr>
            <a:xfrm>
              <a:off x="1403280" y="3284640"/>
              <a:ext cx="68148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36"/>
            <p:cNvSpPr/>
            <p:nvPr/>
          </p:nvSpPr>
          <p:spPr>
            <a:xfrm>
              <a:off x="2123280" y="3284640"/>
              <a:ext cx="482544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市场规划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图片 37" descr="C_108.jpg"/>
            <p:cNvPicPr/>
            <p:nvPr/>
          </p:nvPicPr>
          <p:blipFill>
            <a:blip r:embed="rId6"/>
            <a:stretch/>
          </p:blipFill>
          <p:spPr>
            <a:xfrm>
              <a:off x="1835280" y="3789720"/>
              <a:ext cx="543564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1403280" y="4149720"/>
            <a:ext cx="5867640" cy="647640"/>
            <a:chOff x="1403280" y="4149720"/>
            <a:chExt cx="5867640" cy="647640"/>
          </a:xfrm>
        </p:grpSpPr>
        <p:pic>
          <p:nvPicPr>
            <p:cNvPr id="151" name="图片 39" descr="D_042.jpg"/>
            <p:cNvPicPr/>
            <p:nvPr/>
          </p:nvPicPr>
          <p:blipFill>
            <a:blip r:embed="rId7"/>
            <a:stretch/>
          </p:blipFill>
          <p:spPr>
            <a:xfrm>
              <a:off x="1403280" y="414972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矩形 40"/>
            <p:cNvSpPr/>
            <p:nvPr/>
          </p:nvSpPr>
          <p:spPr>
            <a:xfrm>
              <a:off x="2123280" y="4149720"/>
              <a:ext cx="4825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重点活动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3" name="图片 41" descr="C_108.jpg"/>
            <p:cNvPicPr/>
            <p:nvPr/>
          </p:nvPicPr>
          <p:blipFill>
            <a:blip r:embed="rId8"/>
            <a:stretch/>
          </p:blipFill>
          <p:spPr>
            <a:xfrm>
              <a:off x="1835280" y="4653360"/>
              <a:ext cx="543564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矩形 42"/>
          <p:cNvSpPr/>
          <p:nvPr/>
        </p:nvSpPr>
        <p:spPr>
          <a:xfrm>
            <a:off x="1332000" y="2349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43"/>
          <p:cNvSpPr/>
          <p:nvPr/>
        </p:nvSpPr>
        <p:spPr>
          <a:xfrm>
            <a:off x="1332000" y="31417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44"/>
          <p:cNvSpPr/>
          <p:nvPr/>
        </p:nvSpPr>
        <p:spPr>
          <a:xfrm>
            <a:off x="1332000" y="400536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Mincho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5:29:04Z</dcterms:created>
  <dc:creator>微软中国</dc:creator>
  <dc:description/>
  <dc:language>en-US</dc:language>
  <cp:lastModifiedBy>a</cp:lastModifiedBy>
  <dcterms:modified xsi:type="dcterms:W3CDTF">2014-12-10T15:01:14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