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5400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CB5D-1FC5-4EBE-95F9-352E264B8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2120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08E9-BBDC-4B06-88F1-9827613BE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AC88-63B1-4BAF-9692-15F2F1BE2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E02E-62E1-4926-8899-0DAC01EEE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070CE-6632-48D0-AEC4-43528CDD0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CBCEC-7BA4-4FD4-9513-284518B3E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B32EB-3674-41DD-8F1C-32224866F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B74A7-046F-4763-B697-CD88E27E9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8B9F7-6F4A-42CB-8D57-DF6A3713C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1600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563D6-BD04-44A5-BB46-FFDD4CB65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5F542-92A1-4109-AF86-DF86A4907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E666-6A80-430B-B8AF-D131AE6C1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F32DF-B016-4A1C-9A00-1F22909E3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5FA40-7163-4513-B674-B5710D0AE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2120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EAE32-A0DB-48E2-98D1-7A0D0D894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63D88-FAAC-4968-9F25-1D6488BFD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44F40-8823-494E-AE88-BEF4115C3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B1AB-38D3-4B1F-B3AC-362705B6E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3525-B2D2-4A06-84F7-421AF50CC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7FFC-3C67-4D63-97F4-1BBC1E8E5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1600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ED76-8CE8-4B93-AC10-8601A5B72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C54B-F0CE-4673-9D92-9B6A56BA1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FF2E-F0E2-4CC9-B18D-D03756E25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A68D-728B-469C-8697-6D886F1DC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916160"/>
            <a:ext cx="21337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916160"/>
            <a:ext cx="28958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916160"/>
            <a:ext cx="21337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0B66F-FF7B-4C29-91BE-EAE261959DE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916160"/>
            <a:ext cx="21337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916160"/>
            <a:ext cx="28958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916160"/>
            <a:ext cx="21337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FFA2A-2F12-47D3-B6C0-A7A5124F586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爱的简约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059280"/>
            <a:ext cx="6400800" cy="13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93440" y="216000"/>
            <a:ext cx="69944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692000" y="1260360"/>
            <a:ext cx="699444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49400"/>
            <a:ext cx="82072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083960"/>
            <a:ext cx="842472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7286760" y="262080"/>
            <a:ext cx="1388880" cy="274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4"/>
          <p:cNvSpPr/>
          <p:nvPr/>
        </p:nvSpPr>
        <p:spPr>
          <a:xfrm>
            <a:off x="541440" y="3324240"/>
            <a:ext cx="828180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0T06:03:18Z</dcterms:created>
  <dc:creator>Administrator</dc:creator>
  <dc:description/>
  <dc:language>en-US</dc:language>
  <cp:lastModifiedBy>a</cp:lastModifiedBy>
  <dcterms:modified xsi:type="dcterms:W3CDTF">2014-12-26T02:30:57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