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C4A-CDE4-4BE4-BFEB-CBBCFA47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92000" y="3330360"/>
            <a:ext cx="6994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0CA-1A0A-4390-AC53-2C20118C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9200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D1B-C6CF-4C69-A153-452F2DFF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6840" y="134424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1680" y="134424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92000" y="333036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6840" y="333036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1680" y="333036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779-D85E-4DA9-B435-9780E8E6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92000" y="231480"/>
            <a:ext cx="69944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9200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736-7B14-43C1-9951-5112C04C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7616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92000" y="3330360"/>
            <a:ext cx="6994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92000" y="3330360"/>
            <a:ext cx="6994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9200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7616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56840" y="134424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1680" y="134424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92000" y="333036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56840" y="333036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1680" y="3330360"/>
            <a:ext cx="225180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3D0-2C66-4002-B5E2-63B60139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DBA-86A9-4B9D-B3FB-41C440F1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F54-396C-4C7B-9326-9D936E35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31480"/>
            <a:ext cx="699444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E2F-AB4C-40D6-8F5D-066733D0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9200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69B-4B3A-4873-8F94-DD09AC4F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333036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C88-F0C0-437E-8102-33359137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344240"/>
            <a:ext cx="341316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92000" y="3330360"/>
            <a:ext cx="6994440" cy="18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091-6252-481B-B0EC-656092C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52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845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281F-1E83-44A2-9C36-CC6B6B3AFE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open_book_on_green_grass-wallpaper-2560x1600"/>
          <p:cNvPicPr/>
          <p:nvPr/>
        </p:nvPicPr>
        <p:blipFill>
          <a:blip r:embed="rId2"/>
          <a:srcRect l="0" t="0" r="82685" b="0"/>
          <a:stretch/>
        </p:blipFill>
        <p:spPr>
          <a:xfrm>
            <a:off x="0" y="22320"/>
            <a:ext cx="158436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-11160" y="3182760"/>
            <a:ext cx="915516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52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84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845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845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52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84523"/>
                </a:solidFill>
                <a:latin typeface="Arial"/>
              </a:rPr>
              <a:t>草丛书本翻页</a:t>
            </a:r>
            <a:r>
              <a:rPr b="1" lang="zh-CN" sz="4000" spc="-1" strike="noStrike">
                <a:solidFill>
                  <a:srgbClr val="284523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284523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2845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58400"/>
            <a:ext cx="82072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4523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55240"/>
            <a:ext cx="842472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52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523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279360"/>
            <a:ext cx="1388880" cy="293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541440" y="3546360"/>
            <a:ext cx="8281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dc:language>en-US</dc:language>
  <cp:lastModifiedBy>a</cp:lastModifiedBy>
  <dcterms:modified xsi:type="dcterms:W3CDTF">2014-12-26T02:32:1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