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343-E566-4C4B-9397-266519A7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7A5-8F6F-4F39-B1CD-317363DA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DF3-F14C-4CC1-A61D-2D7ECF24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D8F-D8E3-4C77-8B53-84E32E16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A2CA-4415-4BB5-8F9E-6192731A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B191-1B6C-4925-9197-68AE0890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6BCC-DF9D-4B55-AD3F-5C37DF63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A02C-76E2-43F7-B364-45B75000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02DA-57D1-44B4-8647-EE67804A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A95E-9317-44E0-9F5F-B92D1558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5443-6EBD-4403-A258-29CEB9BE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22C-EF02-40AB-815D-ADED6A07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B082-83C5-4CF5-AB47-CB0E157D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730D-F3A3-471F-91AE-D05740DA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D2CB-418E-4986-BC64-025CAFC2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7218-2EE8-4632-8B25-197DFB7D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BBF8-8CA4-405D-AB03-0439C628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371D8-37D6-44CA-89E8-F32F1B28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34CF-E24D-43DF-9517-082AB5E8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AA0B9-CAE8-4768-90D3-3C981BFE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11FBC-2694-48C7-8278-A06648AF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EA04-F925-4AA4-A7C7-A884BDA0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D53-8FD9-4225-BFDF-A1946638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F0AF7-F0DE-47E2-A04A-CB51A3BF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AB3C-F26D-4A61-9413-5E322FEC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942B4-0AAB-48B5-B0D3-0CC0E26F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02A48-CD9F-48DB-9DBA-5F9F507A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8CF7-2D49-4680-A8F0-EDA2C7EB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6A4CD-C440-4691-ACC1-9E96CAA1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533DE-36FE-4B4F-9FD7-F62B36A2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84671-9BE2-4147-B3C1-7C5D94F3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81C48-C0A9-4581-A7E1-E86DFCE4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FC2AB-ABC3-4E05-B606-34EBA946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1A9-6FD2-4773-A049-2269E2E7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FC5C4-0460-45D1-85E1-1ECF7670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018BE-A14E-4E99-A628-88E35CB7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57105-C51E-41D3-A5A3-11EF3059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820E1-5B79-4076-96A8-FD97FFF4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F1DFE-378E-40F3-9DBA-7CB71B26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670FA-3257-47F8-9298-F50C2A66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6FA85-482E-4D58-9B73-AD673A66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695D2-D4C5-4D0F-9CAE-8D780EAC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0D617-6085-4D13-B618-A46C140A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15B-7143-4A71-A1C8-F8AD1546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6AB-DD18-4820-9D51-E59CF425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9E2-C15C-46D8-8248-1318AB61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8BB-45A6-4372-9099-E6E30FF7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6C8-E4BF-4F47-B6B6-A2BFD5D2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ic5777"/>
          <p:cNvPicPr/>
          <p:nvPr/>
        </p:nvPicPr>
        <p:blipFill>
          <a:blip r:embed="rId2"/>
          <a:stretch/>
        </p:blipFill>
        <p:spPr>
          <a:xfrm>
            <a:off x="0" y="324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3560-051A-4817-9AC8-BD1B837D99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/Documents and Settings/Administrator/桌面/未标题-1.jpg未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C01B-4E5B-4499-854B-ECF6C33897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未标题-2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C21C-670E-410C-8DDC-2B18457588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43CC-2D94-4323-BDAC-AC28771EF7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0C5A-BB3B-41E3-8D49-3B8703E5E9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彩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演示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1774440"/>
            <a:ext cx="8209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7:27:26Z</dcterms:created>
  <dc:creator>Administrator</dc:creator>
  <dc:description/>
  <dc:language>en-US</dc:language>
  <cp:lastModifiedBy>a</cp:lastModifiedBy>
  <dcterms:modified xsi:type="dcterms:W3CDTF">2014-12-21T05:44:5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