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93524-4492-4844-856C-044856DFD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091F8-644F-4E91-894E-33DEA1712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27AE7-7F89-4235-B660-1A6D5031EC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2B6FA-CC74-4AAE-B84D-C0C878AE2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82EB2-A881-451A-A71A-6F677396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7F491-1D74-4E70-8623-B6A78FB2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E920D-B8AD-4E6A-B9EE-C2FC79D6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367D7-B935-4D0D-ABE3-64452901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01CFE-3DBB-4F13-8A9F-A2A88F8C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ADF6E-C3FE-40F6-9240-190C9F35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50A3C-3F60-499A-A8AB-90D4D3D0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97923-605B-44D9-96CA-C95893A198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B5EB7-C78B-45FF-9977-89B90333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1E611-302E-4372-B39A-CD110FE3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DBDAB-2A8A-4BB8-934E-993B44FE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26DCA-B109-4AB3-B88C-63715688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D23C2-5D2F-4EEE-8931-42A4FAEF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CEC3F-E2BA-4E93-B3B6-6F52032CD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A99B5-7483-41D5-9194-3A2685C0A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0549C-1E3F-4FDE-AFF6-EFA9AD6A4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EC57D-4A77-4802-8ABC-E3A478911A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7CAED-9DCF-4EDC-946E-6DC2A34292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2E5EA-FF3C-4C72-9A74-382A0ABC52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CB2C3-1012-4F76-A508-16D991930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32CC-5791-4918-A775-D178877973E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2"/>
          <p:cNvPicPr/>
          <p:nvPr/>
        </p:nvPicPr>
        <p:blipFill>
          <a:blip r:embed="rId3"/>
          <a:stretch/>
        </p:blipFill>
        <p:spPr>
          <a:xfrm>
            <a:off x="1527120" y="6489720"/>
            <a:ext cx="1435320" cy="2667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"/>
          <p:cNvPicPr/>
          <p:nvPr/>
        </p:nvPicPr>
        <p:blipFill>
          <a:blip r:embed="rId4"/>
          <a:stretch/>
        </p:blipFill>
        <p:spPr>
          <a:xfrm>
            <a:off x="9360" y="6539040"/>
            <a:ext cx="1511640" cy="287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5"/>
          <a:stretch/>
        </p:blipFill>
        <p:spPr>
          <a:xfrm>
            <a:off x="108000" y="6597720"/>
            <a:ext cx="149220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9BEB-CF30-4D76-85CE-CC7B6C4399B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9780-FBC2-40ED-8D2C-13C61B6FB7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彩虹简约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s-E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a</cp:lastModifiedBy>
  <dcterms:modified xsi:type="dcterms:W3CDTF">2014-12-15T17:53:51Z</dcterms:modified>
  <cp:revision>27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