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706-7834-4C3E-B65F-8EE52523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D44-8BAC-4AD5-8C2C-163873E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351-BE9B-4A38-9141-E8488EA0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E78-EE70-4292-BDDB-73BCEF62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8BAC-1052-4BB2-BDB5-E14A2419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E84B-71C9-48CB-9386-1A09307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5C65-7FC1-4A9A-ACB8-A0BA26BA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E9FD-8C06-4C54-8786-659EC63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A6F9-FC3A-418A-98BB-39DD4A38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61CE-229D-4337-80B5-EA08142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D989-11A6-48BA-91D8-549CD46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0FB-7EC8-457D-BCE4-765B4614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CC4A-05A9-45F2-BBCA-87F451CE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1805-5696-4EA6-B69D-E95B0FC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C458-1F77-4C05-A323-6CF1DED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6110-AEF4-4FBA-A11C-8BE6299E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4864-9E13-4B36-B710-C16B408C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7B7-F93F-4DFE-93EC-2E9C3EB6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7CE-D020-4842-AD5E-A4FC078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CF3-1E9C-4AFA-894C-50AE97BD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667-F105-4B16-B000-B8EBFF0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FA3-4CCC-4F65-85CF-090CE05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137-F767-478E-9AB6-FDED949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151-8E34-40D4-B3E3-0D8648F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E2AE-8D46-4A89-A2A1-D27E331608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026C-22A8-4510-925F-E1F1F5918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D9F-E202-456B-B6EF-F53545CDC24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C945-2EC2-47CD-98F1-7D2A9149402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6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914400" y="758880"/>
            <a:ext cx="1285920" cy="584280"/>
            <a:chOff x="914400" y="758880"/>
            <a:chExt cx="1285920" cy="584280"/>
          </a:xfrm>
        </p:grpSpPr>
        <p:sp>
          <p:nvSpPr>
            <p:cNvPr id="92" name="TextBox 27"/>
            <p:cNvSpPr/>
            <p:nvPr/>
          </p:nvSpPr>
          <p:spPr>
            <a:xfrm>
              <a:off x="914400" y="758880"/>
              <a:ext cx="1285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29"/>
            <p:cNvSpPr/>
            <p:nvPr/>
          </p:nvSpPr>
          <p:spPr>
            <a:xfrm>
              <a:off x="1262880" y="974160"/>
              <a:ext cx="5886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95" name="直接连接符 12"/>
          <p:cNvSpPr/>
          <p:nvPr/>
        </p:nvSpPr>
        <p:spPr>
          <a:xfrm>
            <a:off x="3807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燕尾形 1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燕尾形 2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73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76" name="TextBox 20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25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燕尾形 1"/>
          <p:cNvSpPr/>
          <p:nvPr/>
        </p:nvSpPr>
        <p:spPr>
          <a:xfrm>
            <a:off x="-100476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燕尾形 2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燕尾形 5"/>
          <p:cNvSpPr/>
          <p:nvPr/>
        </p:nvSpPr>
        <p:spPr>
          <a:xfrm>
            <a:off x="2413080" y="1852560"/>
            <a:ext cx="1708200" cy="252108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29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0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04" name="燕尾形 39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4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7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30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直接连接符 33"/>
          <p:cNvSpPr/>
          <p:nvPr/>
        </p:nvSpPr>
        <p:spPr>
          <a:xfrm>
            <a:off x="478296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4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1440" y="1851120"/>
            <a:ext cx="9156600" cy="2520720"/>
          </a:xfrm>
          <a:prstGeom prst="rect">
            <a:avLst/>
          </a:prstGeom>
          <a:ln w="0">
            <a:noFill/>
          </a:ln>
        </p:spPr>
      </p:pic>
      <p:sp>
        <p:nvSpPr>
          <p:cNvPr id="144" name="燕尾形 17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2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1440" y="1851120"/>
            <a:ext cx="91566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70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直接连接符 34"/>
          <p:cNvSpPr/>
          <p:nvPr/>
        </p:nvSpPr>
        <p:spPr>
          <a:xfrm>
            <a:off x="5742000" y="1343160"/>
            <a:ext cx="6904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8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1440" y="1851120"/>
            <a:ext cx="9156600" cy="252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4" name="燕尾形 17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2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10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直接连接符 34"/>
          <p:cNvSpPr/>
          <p:nvPr/>
        </p:nvSpPr>
        <p:spPr>
          <a:xfrm>
            <a:off x="6759720" y="1343160"/>
            <a:ext cx="68868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20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224" name="燕尾形 17"/>
          <p:cNvSpPr/>
          <p:nvPr/>
        </p:nvSpPr>
        <p:spPr>
          <a:xfrm>
            <a:off x="-1000080" y="1851120"/>
            <a:ext cx="1701720" cy="2520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燕尾形 20"/>
          <p:cNvSpPr/>
          <p:nvPr/>
        </p:nvSpPr>
        <p:spPr>
          <a:xfrm>
            <a:off x="-144360" y="1851120"/>
            <a:ext cx="1700280" cy="2520720"/>
          </a:xfrm>
          <a:custGeom>
            <a:avLst/>
            <a:gdLst>
              <a:gd name="textAreaLeft" fmla="*/ 0 w 1700280"/>
              <a:gd name="textAreaRight" fmla="*/ 1700640 w 17002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7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46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51" name="TextBox 20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5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1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2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3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直接连接符 34"/>
          <p:cNvSpPr/>
          <p:nvPr/>
        </p:nvSpPr>
        <p:spPr>
          <a:xfrm>
            <a:off x="7740720" y="1343160"/>
            <a:ext cx="6890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9T00:58:25Z</dcterms:modified>
  <cp:revision>1</cp:revision>
  <dc:subject/>
  <dc:title>PowerPoint 演示文稿</dc:title>
</cp:coreProperties>
</file>