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C0C-4F0B-4F0E-89D6-1368299B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DE6-916B-4E5B-9249-17943E54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2E4-A6D8-49E1-B453-27132DBE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5F2-F1E3-4EA9-B9C3-61FCBA9A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B447-9494-43A9-9A9A-BC8D16AB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EA36-D500-47D3-B286-31CDF0F6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B532-01D1-4D3D-9444-8E3FDDF8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02A6-FF7B-4011-81C3-B591FD66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1F1E-53C6-42C4-AF25-D5B927BF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6F5E-2C34-48AD-A641-18AC6F60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91DC-8220-4BEF-832C-57F74ACC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C7E-8EE9-4D98-BF3C-4F25DAD8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8ADB-D3D7-4193-9875-2722CF3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4D21-DACF-447E-B855-48802538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47EA-6D6E-4B4C-9B75-7BB6EABD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96AA-89AC-424E-87BD-DD8280F3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3D74-2924-471B-9296-CFE774A1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77FE-0722-4F95-91E4-C95F4F85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B516-7EA2-4BE5-B43D-617E0655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71DA-EC80-4501-871D-CFE66E14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54AD-7CA2-4C6F-A3B4-D95A77B6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B7E2-F2E2-4180-BA7F-D07EF73D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F72-56A4-4637-8AF0-24409D28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979C0-8763-4E48-B35C-C10B4044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0E2D-437C-40E8-A0F4-B2572689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5361-EED5-48C0-A2F0-F6EC958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0408-E6D8-4211-8B52-0115202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3F78-AFFF-457D-B9D7-A4E0B87D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1F49-D7E0-478F-B94E-140431E5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2572-1509-46D6-AA78-D8CF9CBA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2BC1B-BE2D-49FC-82C6-667C1388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FFAB9-BF50-4286-AB50-B7983724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AD686-8313-49EB-837A-620E73B8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981-F9C5-4111-8F14-55F0FAC9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9E133-E05C-4679-98B8-1627CA6A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63D7D-60F2-4376-87E1-F1096744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6085D-0D5C-44B3-A3A7-703E27AD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168F-68E4-4560-9E9C-6C9A345F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7E071-F3EC-4531-8254-9995A41A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FF712-F07C-4367-85E1-C8AB7583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D76D5-D1B2-497E-AC3D-F6F2F46C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D4FD-E33F-41A6-95AE-56FE8479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BF3AA-EBC6-44E5-818A-92367D9F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EEF-A507-49DB-92A9-2C0064A6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20D-7B09-41FD-A445-D2438B73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F9B-1DAD-48F1-98F4-BAB74723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16D-814C-42BA-8CD7-1F10EE83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2C8-6FA1-47F7-9345-9765B658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c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c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dfc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dfc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dfc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dfc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dfc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dfc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06E2-E379-4AF6-89D4-9EAC0DE3B1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c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c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dfc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dfc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dfc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dfc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dfc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dfc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6E4A-AA14-4130-9317-4BB9C0AF7F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c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c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dfc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dfc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dfc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dfc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dfc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dfc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c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6B27-20EA-4F22-8410-F29672731E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CF72-8117-4141-8240-AD31E6CC450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B162-3A31-4F91-B997-3681DEF0EF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317600" y="5654160"/>
            <a:ext cx="64008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ba4e"/>
                </a:solidFill>
                <a:latin typeface="Arial"/>
                <a:ea typeface="宋体"/>
              </a:rPr>
              <a:t>Your Name</a:t>
            </a:r>
            <a:endParaRPr b="0" lang="en-US" sz="32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14520" y="438480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ba4e"/>
                </a:solidFill>
                <a:latin typeface="Arial"/>
              </a:rPr>
              <a:t>弹簧玩具</a:t>
            </a:r>
            <a:r>
              <a:rPr b="0" lang="zh-CN" sz="4000" spc="-1" strike="noStrike">
                <a:solidFill>
                  <a:srgbClr val="f2ba4e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2ba4e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fdfc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dfc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dfcf8"/>
                </a:solidFill>
                <a:latin typeface="Arial"/>
              </a:rPr>
              <a:t>Colour scheme</a:t>
            </a:r>
            <a:endParaRPr b="0" lang="en-US" sz="4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686040" y="2509920"/>
            <a:ext cx="827280" cy="611280"/>
          </a:xfrm>
          <a:prstGeom prst="rect">
            <a:avLst/>
          </a:prstGeom>
          <a:solidFill>
            <a:srgbClr val="9eb2b9"/>
          </a:solidFill>
          <a:ln w="9360">
            <a:solidFill>
              <a:srgbClr val="fdf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762440" y="2509920"/>
            <a:ext cx="827280" cy="611280"/>
          </a:xfrm>
          <a:prstGeom prst="rect">
            <a:avLst/>
          </a:prstGeom>
          <a:solidFill>
            <a:srgbClr val="9eb2b9"/>
          </a:solidFill>
          <a:ln w="9360">
            <a:solidFill>
              <a:srgbClr val="fdf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633760" y="4124160"/>
            <a:ext cx="826920" cy="611280"/>
          </a:xfrm>
          <a:prstGeom prst="rect">
            <a:avLst/>
          </a:prstGeom>
          <a:solidFill>
            <a:srgbClr val="9eb2b9"/>
          </a:solidFill>
          <a:ln w="9360">
            <a:solidFill>
              <a:srgbClr val="fdf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701880" y="4124160"/>
            <a:ext cx="827280" cy="611280"/>
          </a:xfrm>
          <a:prstGeom prst="rect">
            <a:avLst/>
          </a:prstGeom>
          <a:solidFill>
            <a:srgbClr val="9cd4dc"/>
          </a:solidFill>
          <a:ln w="9360">
            <a:solidFill>
              <a:srgbClr val="fdf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770360" y="4124160"/>
            <a:ext cx="827280" cy="611280"/>
          </a:xfrm>
          <a:prstGeom prst="rect">
            <a:avLst/>
          </a:prstGeom>
          <a:solidFill>
            <a:srgbClr val="9cd4dc"/>
          </a:solidFill>
          <a:ln w="9360">
            <a:solidFill>
              <a:srgbClr val="fdf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840280" y="4124160"/>
            <a:ext cx="827280" cy="611280"/>
          </a:xfrm>
          <a:prstGeom prst="rect">
            <a:avLst/>
          </a:prstGeom>
          <a:solidFill>
            <a:srgbClr val="334b60"/>
          </a:solidFill>
          <a:ln w="9360">
            <a:solidFill>
              <a:srgbClr val="fdf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823000" y="250992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fdf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617920" y="2509920"/>
            <a:ext cx="826920" cy="611280"/>
          </a:xfrm>
          <a:prstGeom prst="rect">
            <a:avLst/>
          </a:prstGeom>
          <a:noFill/>
          <a:ln w="9360">
            <a:solidFill>
              <a:srgbClr val="fdf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2399760" y="18702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cf8"/>
                </a:solidFill>
                <a:latin typeface="Arial"/>
                <a:ea typeface="Arial"/>
              </a:rPr>
              <a:t>Background</a:t>
            </a:r>
            <a:endParaRPr b="0" lang="en-US" sz="16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718080" y="174780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cf8"/>
                </a:solidFill>
                <a:latin typeface="Arial"/>
                <a:ea typeface="Arial"/>
              </a:rPr>
              <a:t>Text &amp;</a:t>
            </a:r>
            <a:endParaRPr b="0" lang="en-US" sz="1600" spc="-1" strike="noStrike">
              <a:solidFill>
                <a:srgbClr val="fdfc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cf8"/>
                </a:solidFill>
                <a:latin typeface="Arial"/>
                <a:ea typeface="Arial"/>
              </a:rPr>
              <a:t>Lines</a:t>
            </a:r>
            <a:endParaRPr b="0" lang="en-US" sz="16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4668120" y="18702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cf8"/>
                </a:solidFill>
                <a:latin typeface="Arial"/>
                <a:ea typeface="Arial"/>
              </a:rPr>
              <a:t>Shadows</a:t>
            </a:r>
            <a:endParaRPr b="0" lang="en-US" sz="16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5948640" y="174780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cf8"/>
                </a:solidFill>
                <a:latin typeface="Arial"/>
                <a:ea typeface="Arial"/>
              </a:rPr>
              <a:t>Title</a:t>
            </a:r>
            <a:br>
              <a:rPr sz="1600"/>
            </a:br>
            <a:r>
              <a:rPr b="0" lang="zh-CN" sz="1600" spc="-1" strike="noStrike">
                <a:solidFill>
                  <a:srgbClr val="fdfcf8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2776320" y="348444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cf8"/>
                </a:solidFill>
                <a:latin typeface="Arial"/>
                <a:ea typeface="Arial"/>
              </a:rPr>
              <a:t>Fills</a:t>
            </a:r>
            <a:endParaRPr b="0" lang="en-US" sz="16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723840" y="34844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cf8"/>
                </a:solidFill>
                <a:latin typeface="Arial"/>
                <a:ea typeface="Arial"/>
              </a:rPr>
              <a:t>Accent</a:t>
            </a:r>
            <a:endParaRPr b="0" lang="en-US" sz="16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4658040" y="336240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cf8"/>
                </a:solidFill>
                <a:latin typeface="Arial"/>
                <a:ea typeface="Arial"/>
              </a:rPr>
              <a:t>Accent &amp;</a:t>
            </a:r>
            <a:endParaRPr b="0" lang="en-US" sz="1600" spc="-1" strike="noStrike">
              <a:solidFill>
                <a:srgbClr val="fdfc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cf8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5739120" y="336060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cf8"/>
                </a:solidFill>
                <a:latin typeface="Arial"/>
                <a:ea typeface="Arial"/>
              </a:rPr>
              <a:t>Followed</a:t>
            </a:r>
            <a:endParaRPr b="0" lang="en-US" sz="1600" spc="-1" strike="noStrike">
              <a:solidFill>
                <a:srgbClr val="fdfc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cf8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fdfc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dfcf8"/>
                </a:solidFill>
                <a:latin typeface="Arial"/>
              </a:rPr>
              <a:t>Sample Graph (3 colours)</a:t>
            </a:r>
            <a:endParaRPr b="0" lang="en-US" sz="4400" spc="-1" strike="noStrike">
              <a:solidFill>
                <a:srgbClr val="fdfcf8"/>
              </a:solidFill>
              <a:latin typeface="Arial"/>
            </a:endParaRPr>
          </a:p>
        </p:txBody>
      </p:sp>
      <p:pic>
        <p:nvPicPr>
          <p:cNvPr id="191" name="Chart 2" descr=""/>
          <p:cNvPicPr/>
          <p:nvPr/>
        </p:nvPicPr>
        <p:blipFill>
          <a:blip r:embed="rId1"/>
          <a:stretch/>
        </p:blipFill>
        <p:spPr>
          <a:xfrm>
            <a:off x="1473120" y="1398600"/>
            <a:ext cx="619776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dfc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cf8"/>
                </a:solidFill>
                <a:latin typeface="Arial"/>
                <a:ea typeface="宋体"/>
              </a:rPr>
              <a:t>Process Flow</a:t>
            </a:r>
            <a:endParaRPr b="0" lang="en-US" sz="4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31880" y="320688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266920" y="320688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776760" y="320688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5284800" y="320688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6796080" y="3206880"/>
            <a:ext cx="13762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b2b9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  <a:p>
            <a:pPr marL="181080" indent="-181080"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2266920" y="1733400"/>
            <a:ext cx="1854360" cy="127008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c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01" name="Freeform 9"/>
          <p:cNvSpPr/>
          <p:nvPr/>
        </p:nvSpPr>
        <p:spPr>
          <a:xfrm>
            <a:off x="731880" y="1733400"/>
            <a:ext cx="1898640" cy="1270080"/>
          </a:xfrm>
          <a:custGeom>
            <a:avLst/>
            <a:gdLst/>
            <a:ahLst/>
            <a:rect l="l" t="t" r="r" b="b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48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02" name="Freeform 10"/>
          <p:cNvSpPr/>
          <p:nvPr/>
        </p:nvSpPr>
        <p:spPr>
          <a:xfrm>
            <a:off x="3776760" y="1733400"/>
            <a:ext cx="1854000" cy="127008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48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5284800" y="1733400"/>
            <a:ext cx="1857240" cy="1270080"/>
          </a:xfrm>
          <a:custGeom>
            <a:avLst/>
            <a:gdLst/>
            <a:ahLst/>
            <a:rect l="l" t="t" r="r" b="b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9c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04" name="Freeform 12"/>
          <p:cNvSpPr/>
          <p:nvPr/>
        </p:nvSpPr>
        <p:spPr>
          <a:xfrm>
            <a:off x="6796080" y="1733400"/>
            <a:ext cx="1854360" cy="127008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48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918520" y="21859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cf8"/>
                </a:solidFill>
                <a:latin typeface="Arial"/>
                <a:ea typeface="宋体"/>
              </a:rPr>
              <a:t>Plan</a:t>
            </a: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34640" y="21844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cf8"/>
                </a:solidFill>
                <a:latin typeface="Arial"/>
                <a:ea typeface="宋体"/>
              </a:rPr>
              <a:t>Design</a:t>
            </a: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4449240" y="2185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cf8"/>
                </a:solidFill>
                <a:latin typeface="Arial"/>
                <a:ea typeface="宋体"/>
              </a:rPr>
              <a:t>Build</a:t>
            </a: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5960880" y="218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cf8"/>
                </a:solidFill>
                <a:latin typeface="Arial"/>
                <a:ea typeface="宋体"/>
              </a:rPr>
              <a:t>Test</a:t>
            </a: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7368480" y="2185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cf8"/>
                </a:solidFill>
                <a:latin typeface="Arial"/>
                <a:ea typeface="宋体"/>
              </a:rPr>
              <a:t>Evaluate</a:t>
            </a: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dfcf8"/>
                </a:solidFill>
                <a:latin typeface="Arial"/>
              </a:rPr>
              <a:t>Example of a table</a:t>
            </a:r>
            <a:endParaRPr b="0" lang="en-US" sz="4400" spc="-1" strike="noStrike">
              <a:solidFill>
                <a:srgbClr val="fdfcf8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600200"/>
          <a:ext cx="8229600" cy="344160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54756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dfcf8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2b9"/>
                    </a:solidFill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dfcf8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2b9"/>
                    </a:solidFill>
                  </a:tcPr>
                </a:tc>
              </a:tr>
              <a:tr h="48276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eb2b9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eb2b9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  <a:tc>
                  <a:txBody>
                    <a:bodyPr lIns="100080" rIns="10008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ctr" marL="100080" marR="1000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Text Box 29"/>
          <p:cNvSpPr/>
          <p:nvPr/>
        </p:nvSpPr>
        <p:spPr>
          <a:xfrm>
            <a:off x="2533680" y="5180040"/>
            <a:ext cx="61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eb2b9"/>
                </a:solidFill>
                <a:latin typeface="Arial"/>
                <a:ea typeface="Arial"/>
              </a:rPr>
              <a:t>Note:  </a:t>
            </a:r>
            <a:r>
              <a:rPr b="0" lang="zh-CN" sz="1800" spc="-1" strike="noStrike">
                <a:solidFill>
                  <a:srgbClr val="9eb2b9"/>
                </a:solidFill>
                <a:latin typeface="Arial"/>
                <a:ea typeface="Arial"/>
              </a:rPr>
              <a:t>PowerPoint does not allow you to have nice default tables - but you can cut and paste this one</a:t>
            </a: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dfcf8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41240" y="3909600"/>
            <a:ext cx="468972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dfc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fcf8"/>
                </a:solidFill>
                <a:latin typeface="Arial"/>
              </a:rPr>
              <a:t>Text and lines are like this</a:t>
            </a:r>
            <a:endParaRPr b="0" lang="en-US" sz="2400" spc="-1" strike="noStrike">
              <a:solidFill>
                <a:srgbClr val="fdfcf8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9cd4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cd4dc"/>
                </a:solidFill>
                <a:uFillTx/>
                <a:latin typeface="Arial"/>
              </a:rPr>
              <a:t>Hyperlinks like this</a:t>
            </a:r>
            <a:endParaRPr b="0" lang="en-US" sz="2400" spc="-1" strike="noStrike">
              <a:solidFill>
                <a:srgbClr val="fdfcf8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9e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eb2b9"/>
                </a:solidFill>
                <a:uFillTx/>
                <a:latin typeface="Arial"/>
              </a:rPr>
              <a:t>Visited hyperlinks like this</a:t>
            </a:r>
            <a:endParaRPr b="0" lang="en-US" sz="2400" spc="-1" strike="noStrike">
              <a:solidFill>
                <a:srgbClr val="fdfcf8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932440" y="2052720"/>
          <a:ext cx="2232000" cy="135864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</a:tblGrid>
              <a:tr h="678960">
                <a:tc>
                  <a:txBody>
                    <a:bodyPr lIns="78480" rIns="78480" tIns="39240" bIns="39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dfcf8"/>
                          </a:solidFill>
                          <a:latin typeface="Arial"/>
                        </a:rPr>
                        <a:t>Table</a:t>
                      </a:r>
                      <a:endParaRPr b="0" lang="en-US" sz="15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t" marL="78480" marR="784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  <a:tc>
                  <a:txBody>
                    <a:bodyPr lIns="78480" rIns="78480" tIns="39240" bIns="39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t" marL="78480" marR="784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78480" rIns="78480" tIns="39240" bIns="39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t" marL="78480" marR="784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  <a:tc>
                  <a:txBody>
                    <a:bodyPr lIns="78480" rIns="78480" tIns="39240" bIns="39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dfcf8"/>
                        </a:solidFill>
                        <a:latin typeface="Arial"/>
                      </a:endParaRPr>
                    </a:p>
                  </a:txBody>
                  <a:tcPr anchor="t" marL="78480" marR="78480">
                    <a:lnL w="5760">
                      <a:solidFill>
                        <a:srgbClr val="9eb2b9"/>
                      </a:solidFill>
                    </a:lnL>
                    <a:lnR w="5760">
                      <a:solidFill>
                        <a:srgbClr val="9eb2b9"/>
                      </a:solidFill>
                    </a:lnR>
                    <a:lnT w="5760">
                      <a:solidFill>
                        <a:srgbClr val="9eb2b9"/>
                      </a:solidFill>
                    </a:lnT>
                    <a:lnB w="5760">
                      <a:solidFill>
                        <a:srgbClr val="9eb2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5"/>
          <p:cNvSpPr/>
          <p:nvPr/>
        </p:nvSpPr>
        <p:spPr>
          <a:xfrm>
            <a:off x="911160" y="2052720"/>
            <a:ext cx="2232000" cy="1368360"/>
          </a:xfrm>
          <a:prstGeom prst="rect">
            <a:avLst/>
          </a:prstGeom>
          <a:solidFill>
            <a:srgbClr val="0c1217"/>
          </a:solidFill>
          <a:ln w="9360">
            <a:solidFill>
              <a:srgbClr val="9eb2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dfcf8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441600" y="2052720"/>
            <a:ext cx="2232000" cy="1368360"/>
          </a:xfrm>
          <a:prstGeom prst="rect">
            <a:avLst/>
          </a:prstGeom>
          <a:solidFill>
            <a:srgbClr val="0c1217"/>
          </a:solidFill>
          <a:ln w="9360">
            <a:solidFill>
              <a:srgbClr val="9eb2b9"/>
            </a:solidFill>
            <a:miter/>
          </a:ln>
          <a:effectLst>
            <a:outerShdw dist="107932" dir="2700000" blurRad="0" rotWithShape="0">
              <a:srgbClr val="9eb2b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dfcf8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dfcf8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fdfc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GB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GB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GB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dfcf8"/>
                </a:solidFill>
                <a:latin typeface="Arial"/>
              </a:endParaRPr>
            </a:p>
          </p:txBody>
        </p:sp>
        <p:pic>
          <p:nvPicPr>
            <p:cNvPr id="22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GB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GB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GB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dfc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a</cp:lastModifiedBy>
  <dcterms:modified xsi:type="dcterms:W3CDTF">2014-12-31T03:36:04Z</dcterms:modified>
  <cp:revision>23</cp:revision>
  <dc:subject/>
  <dc:title>Slinky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