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03BF-18B0-4BCB-8C53-C17847A17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B5E2-E6CF-4076-BA4F-89847B5B2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75B5-AAC3-4CDE-87DE-B3F9B9564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E0C9-2E36-4C59-8F21-4FF4655D8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FE51D-53BF-456D-9A3D-2713B640B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53025-758B-4990-A204-C324BBBE6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63614-77F6-49A3-86AF-BD2882839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FACAD-DAC6-42C9-8992-0B70B260C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45B83-E9A9-4D5E-B9D8-426484622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265B7-9404-48DD-A6CD-E945D71E6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2C431-2F9E-47B2-8CEA-30D87D1FD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245E-F7B2-4604-B500-2F71436CD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65A46-CE0A-4747-88BB-93CE99F2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FC64B-69BD-47C9-8A8A-51DA66896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4C52D-ACDE-4668-816E-D9B8BA204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8CFD7-C7BD-486E-A11E-EE7D839A9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3FDB8-40F8-44B7-9D21-82A5C7515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3E0FA-3EF9-4C8B-9902-C1F999AD9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7CAB9-F462-4081-B875-2284D14CC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06EA8-65CD-48E7-BCFD-7FBA948DD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4E79E-3D55-4F47-9C7D-7E56AEFAB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CFCD0-9D49-408E-BAF7-A718ACC9D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3B41-BF15-4E9E-80E4-693ACE597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CF927-789A-417C-B4D2-7FAAB5606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9DA7B-C110-4208-B6BA-78E90DF7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7C743-B8D2-484D-BF3E-B8CCF4B69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08873-B112-46D1-B09C-5D010E197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ACE9E-4D42-4CF3-8E2D-F22B60F5F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9CC09-0157-40EB-B8AC-0BB4D7F72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FF240-02A4-4039-83CE-B51C1FED1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DC15-3FD4-45DA-81D3-9BD35C174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23C1-588A-47FB-A7F0-125E6DC54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F9FE-FD16-4E4C-A452-9AD8250AE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7D21-D4D9-4295-AAD0-24420946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6D9A-6D08-4E3A-9EBC-BC3F0C4C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2A69-43B3-46A4-B811-C3B3E7D7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E0A01-CFB5-434D-BF58-0B2EACF46ED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94067-30EA-49C2-9113-A23641CC1A0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48CB1-F1CE-4FFA-B1E6-FAE44FFC3B3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A12F4-3BD9-47F4-98D2-C615F2E6C1A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1549440" y="2965320"/>
            <a:ext cx="59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8080"/>
                </a:solidFill>
                <a:latin typeface="微软雅黑"/>
                <a:ea typeface="微软雅黑"/>
              </a:rPr>
              <a:t>淡蓝朦胧</a:t>
            </a:r>
            <a:r>
              <a:rPr b="1" lang="zh-CN" sz="4800" spc="-1" strike="noStrike">
                <a:solidFill>
                  <a:srgbClr val="808080"/>
                </a:solidFill>
                <a:latin typeface="微软雅黑"/>
                <a:ea typeface="微软雅黑"/>
              </a:rPr>
              <a:t>PPT</a:t>
            </a:r>
            <a:r>
              <a:rPr b="1" lang="zh-CN" sz="4800" spc="-1" strike="noStrike">
                <a:solidFill>
                  <a:srgbClr val="808080"/>
                </a:solidFill>
                <a:latin typeface="微软雅黑"/>
                <a:ea typeface="微软雅黑"/>
              </a:rPr>
              <a:t>模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3"/>
          <p:cNvGrpSpPr/>
          <p:nvPr/>
        </p:nvGrpSpPr>
        <p:grpSpPr>
          <a:xfrm>
            <a:off x="2195640" y="1773360"/>
            <a:ext cx="4751280" cy="1150920"/>
            <a:chOff x="2195640" y="1773360"/>
            <a:chExt cx="4751280" cy="1150920"/>
          </a:xfrm>
        </p:grpSpPr>
        <p:pic>
          <p:nvPicPr>
            <p:cNvPr id="128" name="Picture 4" descr=""/>
            <p:cNvPicPr/>
            <p:nvPr/>
          </p:nvPicPr>
          <p:blipFill>
            <a:blip r:embed="rId1"/>
            <a:srcRect l="0" t="0" r="15998" b="0"/>
            <a:stretch/>
          </p:blipFill>
          <p:spPr>
            <a:xfrm>
              <a:off x="2195640" y="1773360"/>
              <a:ext cx="475128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5"/>
            <p:cNvSpPr/>
            <p:nvPr/>
          </p:nvSpPr>
          <p:spPr>
            <a:xfrm>
              <a:off x="3264840" y="1959120"/>
              <a:ext cx="354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在此输入内容…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WordArt 6"/>
            <p:cNvSpPr txBox="1"/>
            <p:nvPr/>
          </p:nvSpPr>
          <p:spPr>
            <a:xfrm>
              <a:off x="2544840" y="2103480"/>
              <a:ext cx="366840" cy="43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38160" dir="5400000" blurRad="0" rotWithShape="0">
                      <a:srgbClr val="4d4d4d">
                        <a:alpha val="77000"/>
                      </a:srgbClr>
                    </a:outerShdw>
                  </a:effectLst>
                  <a:latin typeface="微软雅黑"/>
                </a:rPr>
                <a:t>1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38160" dir="5400000" blurRad="0" rotWithShape="0">
                    <a:srgbClr val="4d4d4d">
                      <a:alpha val="77000"/>
                    </a:srgbClr>
                  </a:outerShdw>
                </a:effectLst>
                <a:latin typeface="微软雅黑"/>
                <a:ea typeface="微软雅黑"/>
              </a:endParaRPr>
            </a:p>
          </p:txBody>
        </p:sp>
      </p:grpSp>
      <p:grpSp>
        <p:nvGrpSpPr>
          <p:cNvPr id="131" name="Group 7"/>
          <p:cNvGrpSpPr/>
          <p:nvPr/>
        </p:nvGrpSpPr>
        <p:grpSpPr>
          <a:xfrm>
            <a:off x="2195640" y="2997360"/>
            <a:ext cx="4700520" cy="1152360"/>
            <a:chOff x="2195640" y="2997360"/>
            <a:chExt cx="4700520" cy="1152360"/>
          </a:xfrm>
        </p:grpSpPr>
        <p:pic>
          <p:nvPicPr>
            <p:cNvPr id="132" name="Picture 8" descr=""/>
            <p:cNvPicPr/>
            <p:nvPr/>
          </p:nvPicPr>
          <p:blipFill>
            <a:blip r:embed="rId2"/>
            <a:stretch/>
          </p:blipFill>
          <p:spPr>
            <a:xfrm>
              <a:off x="2195640" y="2997360"/>
              <a:ext cx="470052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Text Box 9"/>
            <p:cNvSpPr/>
            <p:nvPr/>
          </p:nvSpPr>
          <p:spPr>
            <a:xfrm>
              <a:off x="3265560" y="3180600"/>
              <a:ext cx="354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在此输入内容…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WordArt 10"/>
            <p:cNvSpPr txBox="1"/>
            <p:nvPr/>
          </p:nvSpPr>
          <p:spPr>
            <a:xfrm>
              <a:off x="2545560" y="3311640"/>
              <a:ext cx="366840" cy="43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38160" dir="5400000" blurRad="0" rotWithShape="0">
                      <a:srgbClr val="4d4d4d">
                        <a:alpha val="77000"/>
                      </a:srgbClr>
                    </a:outerShdw>
                  </a:effectLst>
                  <a:latin typeface="微软雅黑"/>
                </a:rPr>
                <a:t>2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38160" dir="5400000" blurRad="0" rotWithShape="0">
                    <a:srgbClr val="4d4d4d">
                      <a:alpha val="77000"/>
                    </a:srgbClr>
                  </a:outerShdw>
                </a:effectLst>
                <a:latin typeface="微软雅黑"/>
                <a:ea typeface="微软雅黑"/>
              </a:endParaRPr>
            </a:p>
          </p:txBody>
        </p:sp>
      </p:grpSp>
      <p:grpSp>
        <p:nvGrpSpPr>
          <p:cNvPr id="135" name="Group 11"/>
          <p:cNvGrpSpPr/>
          <p:nvPr/>
        </p:nvGrpSpPr>
        <p:grpSpPr>
          <a:xfrm>
            <a:off x="2195640" y="4221000"/>
            <a:ext cx="4700520" cy="1152720"/>
            <a:chOff x="2195640" y="4221000"/>
            <a:chExt cx="4700520" cy="1152720"/>
          </a:xfrm>
        </p:grpSpPr>
        <p:pic>
          <p:nvPicPr>
            <p:cNvPr id="136" name="Picture 12" descr=""/>
            <p:cNvPicPr/>
            <p:nvPr/>
          </p:nvPicPr>
          <p:blipFill>
            <a:blip r:embed="rId3"/>
            <a:stretch/>
          </p:blipFill>
          <p:spPr>
            <a:xfrm>
              <a:off x="2195640" y="4221000"/>
              <a:ext cx="4700520" cy="11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13"/>
            <p:cNvSpPr/>
            <p:nvPr/>
          </p:nvSpPr>
          <p:spPr>
            <a:xfrm>
              <a:off x="3265560" y="4372200"/>
              <a:ext cx="354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在此输入内容…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WordArt 14"/>
            <p:cNvSpPr txBox="1"/>
            <p:nvPr/>
          </p:nvSpPr>
          <p:spPr>
            <a:xfrm>
              <a:off x="2545560" y="4517280"/>
              <a:ext cx="366840" cy="43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38160" dir="5400000" blurRad="0" rotWithShape="0">
                      <a:srgbClr val="4d4d4d">
                        <a:alpha val="77000"/>
                      </a:srgbClr>
                    </a:outerShdw>
                  </a:effectLst>
                  <a:latin typeface="微软雅黑"/>
                </a:rPr>
                <a:t>3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38160" dir="5400000" blurRad="0" rotWithShape="0">
                    <a:srgbClr val="4d4d4d">
                      <a:alpha val="77000"/>
                    </a:srgbClr>
                  </a:outerShdw>
                </a:effectLst>
                <a:latin typeface="微软雅黑"/>
                <a:ea typeface="微软雅黑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WordArt 2"/>
          <p:cNvSpPr txBox="1"/>
          <p:nvPr/>
        </p:nvSpPr>
        <p:spPr>
          <a:xfrm>
            <a:off x="2793960" y="2854440"/>
            <a:ext cx="364968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38160" dir="0" blurRad="0" rotWithShape="0">
                    <a:srgbClr val="b2b2b2">
                      <a:alpha val="76000"/>
                    </a:srgbClr>
                  </a:outerShdw>
                </a:effectLst>
                <a:latin typeface="微软雅黑"/>
              </a:rPr>
              <a:t>谢谢观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38160" dir="0" blurRad="0" rotWithShape="0">
                  <a:srgbClr val="b2b2b2">
                    <a:alpha val="76000"/>
                  </a:srgbClr>
                </a:outerShdw>
              </a:effectLst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4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4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8T16:01:27Z</dcterms:created>
  <dc:creator/>
  <dc:description/>
  <cp:keywords/>
  <dc:language>en-US</dc:language>
  <cp:lastModifiedBy>a</cp:lastModifiedBy>
  <dcterms:modified xsi:type="dcterms:W3CDTF">2014-05-23T00:57:44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2</vt:lpwstr>
  </property>
</Properties>
</file>