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FCB-34BE-4138-8177-A8E0C6F8C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CF3-728F-45CD-B766-6BA98B6D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72D-BD7A-465C-9F9C-4619D2A4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960-FF35-4390-8FA1-EC391531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3F4C-5DD8-4806-93C8-3A6E8441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D774-D7BA-4DD8-A7D6-4534081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BF33-15EC-44FE-83CF-C54825DA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F8AE-0A22-434D-BF34-41554E2F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D84A-F3B9-44B3-AF54-64AF709B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69D0-9210-477E-A530-DEB0BC18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69C9-A853-4864-AC0C-69FA2CF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0043-8D38-44CC-80AF-CF3D7666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3437A-DE81-410C-929C-AF66F9BE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A44F-BF86-4C82-9430-9B6D4BA5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7380-8441-420D-837F-04FCE9B3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F554-0E3D-4B55-9325-7DE16C86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9E15-93F4-4E69-9F7F-E7484F7C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4D7C-CE3C-4114-ADC4-6C6F3761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0CD-BD08-4158-95E7-1C9FB8F2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88F8-48CF-47D7-A4C8-40BFB6C7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F8B-D3F0-401C-9119-E8F9D659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F757-4186-4F6E-9E34-5AD883EE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E692-B10C-47DF-B8EC-6F572C07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F83-CD6D-4559-AB0A-3BE88488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E90A-4E3A-4F7A-8152-1B1F85709E76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D2D5-9AC7-437E-9BD2-B4E6033648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B304-422B-49E5-8A1E-05AD609DFE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41620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Calibri"/>
                <a:ea typeface="宋体"/>
              </a:rPr>
              <a:t>登山者</a:t>
            </a: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3400" spc="-1" strike="noStrike">
                <a:solidFill>
                  <a:srgbClr val="000000"/>
                </a:solidFill>
                <a:latin typeface="Calibri"/>
                <a:ea typeface="宋体"/>
              </a:rPr>
              <a:t>模板免费下载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607212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8132760" y="6591240"/>
            <a:ext cx="93204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57280" y="274320"/>
            <a:ext cx="632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FR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21:45:25Z</dcterms:created>
  <dc:creator>Admin</dc:creator>
  <dc:description/>
  <dc:language>en-US</dc:language>
  <cp:lastModifiedBy>a</cp:lastModifiedBy>
  <dcterms:modified xsi:type="dcterms:W3CDTF">2014-12-15T17:45:42Z</dcterms:modified>
  <cp:revision>4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