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gif" ContentType="image/gif"/>
  <Override PartName="/ppt/media/image1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0E8-3C0F-4AF4-BA28-349B94DA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D7A-9607-456A-96D1-79AFDF8B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DDB-2E8E-48B4-91F3-7153583B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56A-6349-4D4B-B722-B952BD1E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5CBE-043C-4931-ACBF-D106B295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9071-0542-42D0-9F1F-E39678EC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1D80-C407-4A8E-AAF0-AEBA7F70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2176-B898-4742-B0AA-F831B2D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7187-B445-44CE-ADBB-84572469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0137-0090-42EA-B9F1-E1B52380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B7A-1A57-4524-AECA-ED347567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A2C-DD63-4039-83D5-7C88BFB0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A39C-FC1E-401A-8BD8-20C45A40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F972-507E-4399-9065-F8C95A53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2650-A51B-41C7-9C93-EF1CE13E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E44A-45AC-46B0-9AFA-775FA228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7076-FD9E-4A22-B7D6-ED2CBFE6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290-F06B-4155-A212-424D2D30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CD8-AAD9-4C54-83EF-23576FD6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D25-2077-41CC-9E7A-358F77FF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15E-C455-4275-8A9F-CFF49FBB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D01-6239-4240-BB4E-78C6E44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FD9-6CFF-4BD7-B5AD-B8914049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549-F019-4F4C-B617-B6DCF879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F3F5-9A9F-4B79-8E1A-7A8C36603CA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CE55-C5A9-4286-89FF-E1C45D028B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oup 810" descr=""/>
          <p:cNvPicPr/>
          <p:nvPr/>
        </p:nvPicPr>
        <p:blipFill>
          <a:blip r:embed="rId2"/>
          <a:stretch/>
        </p:blipFill>
        <p:spPr>
          <a:xfrm>
            <a:off x="-452520" y="-6372360"/>
            <a:ext cx="9969480" cy="5743800"/>
          </a:xfrm>
          <a:prstGeom prst="rect">
            <a:avLst/>
          </a:prstGeom>
          <a:ln w="0">
            <a:noFill/>
          </a:ln>
        </p:spPr>
      </p:pic>
      <p:pic>
        <p:nvPicPr>
          <p:cNvPr id="83" name="Group 810" descr=""/>
          <p:cNvPicPr/>
          <p:nvPr/>
        </p:nvPicPr>
        <p:blipFill>
          <a:blip r:embed="rId3"/>
          <a:stretch/>
        </p:blipFill>
        <p:spPr>
          <a:xfrm>
            <a:off x="-325440" y="-6245280"/>
            <a:ext cx="996948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未命名_副本    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未命名_副本a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未命名_副本  j"/>
          <p:cNvPicPr/>
          <p:nvPr/>
        </p:nvPicPr>
        <p:blipFill>
          <a:blip r:embed="rId5"/>
          <a:stretch/>
        </p:blipFill>
        <p:spPr>
          <a:xfrm>
            <a:off x="-3909960" y="262080"/>
            <a:ext cx="544824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未命名_副本q"/>
          <p:cNvPicPr/>
          <p:nvPr/>
        </p:nvPicPr>
        <p:blipFill>
          <a:blip r:embed="rId6"/>
          <a:stretch/>
        </p:blipFill>
        <p:spPr>
          <a:xfrm>
            <a:off x="-4351320" y="2292480"/>
            <a:ext cx="5889600" cy="3930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未命名_副本s"/>
          <p:cNvPicPr/>
          <p:nvPr/>
        </p:nvPicPr>
        <p:blipFill>
          <a:blip r:embed="rId7"/>
          <a:stretch/>
        </p:blipFill>
        <p:spPr>
          <a:xfrm>
            <a:off x="7885080" y="-380880"/>
            <a:ext cx="5921280" cy="394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未命名_副本b"/>
          <p:cNvPicPr/>
          <p:nvPr/>
        </p:nvPicPr>
        <p:blipFill>
          <a:blip r:embed="rId8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未命名_副本  "/>
          <p:cNvPicPr/>
          <p:nvPr/>
        </p:nvPicPr>
        <p:blipFill>
          <a:blip r:embed="rId3"/>
          <a:stretch/>
        </p:blipFill>
        <p:spPr>
          <a:xfrm>
            <a:off x="-1182600" y="3141720"/>
            <a:ext cx="5895720" cy="39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未命名_副本o"/>
          <p:cNvPicPr/>
          <p:nvPr/>
        </p:nvPicPr>
        <p:blipFill>
          <a:blip r:embed="rId4"/>
          <a:stretch/>
        </p:blipFill>
        <p:spPr>
          <a:xfrm>
            <a:off x="2052720" y="-93600"/>
            <a:ext cx="4859280" cy="3235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未命名_副本l"/>
          <p:cNvPicPr/>
          <p:nvPr/>
        </p:nvPicPr>
        <p:blipFill>
          <a:blip r:embed="rId3"/>
          <a:stretch/>
        </p:blipFill>
        <p:spPr>
          <a:xfrm>
            <a:off x="254160" y="-166680"/>
            <a:ext cx="4572000" cy="304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未命名_副本qo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未命名_副本f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未命名_副本oi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未命名_副本人、"/>
          <p:cNvPicPr/>
          <p:nvPr/>
        </p:nvPicPr>
        <p:blipFill>
          <a:blip r:embed="rId5"/>
          <a:stretch/>
        </p:blipFill>
        <p:spPr>
          <a:xfrm>
            <a:off x="4826160" y="-2830680"/>
            <a:ext cx="4105080" cy="273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未命名_副本d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未命名_副本b"/>
          <p:cNvPicPr/>
          <p:nvPr/>
        </p:nvPicPr>
        <p:blipFill>
          <a:blip r:embed="rId4"/>
          <a:stretch/>
        </p:blipFill>
        <p:spPr>
          <a:xfrm>
            <a:off x="4178160" y="-22320"/>
            <a:ext cx="4572000" cy="3043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oup 810" descr=""/>
          <p:cNvPicPr/>
          <p:nvPr/>
        </p:nvPicPr>
        <p:blipFill>
          <a:blip r:embed="rId2"/>
          <a:stretch/>
        </p:blipFill>
        <p:spPr>
          <a:xfrm>
            <a:off x="-452520" y="-6372360"/>
            <a:ext cx="9969480" cy="5743800"/>
          </a:xfrm>
          <a:prstGeom prst="rect">
            <a:avLst/>
          </a:prstGeom>
          <a:ln w="0">
            <a:noFill/>
          </a:ln>
        </p:spPr>
      </p:pic>
      <p:pic>
        <p:nvPicPr>
          <p:cNvPr id="105" name="Group 810" descr=""/>
          <p:cNvPicPr/>
          <p:nvPr/>
        </p:nvPicPr>
        <p:blipFill>
          <a:blip r:embed="rId3"/>
          <a:stretch/>
        </p:blipFill>
        <p:spPr>
          <a:xfrm>
            <a:off x="-325440" y="-6245280"/>
            <a:ext cx="996948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1T04:00:16Z</dcterms:created>
  <dc:creator>sg</dc:creator>
  <dc:description/>
  <dc:language>en-US</dc:language>
  <cp:lastModifiedBy>a</cp:lastModifiedBy>
  <dcterms:modified xsi:type="dcterms:W3CDTF">2014-12-31T04:00:3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