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F81-B490-42A5-8D9D-D959FC79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789-8EF6-4B57-B1FF-DBE3645B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492-0171-4936-BF19-1A2D31E5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EF9-6F3A-47EE-83EC-D93CBC5F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D518-E950-4982-8B41-D3EB8252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A362-06DA-422B-8DCE-2832D6E1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22E7-287D-420A-9E8A-26C6D354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2AF2-9E36-4917-B28C-50CE7B44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1F2E-B8E9-453B-B292-3C5FB911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321C-7256-41C2-ACE3-37AB236B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79C9-B01D-46A9-BA0B-10E7F914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C18-BF91-475B-8C70-40748FB4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B9F0-2BD1-444A-8150-51BEA10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3CF9-7B2E-45CA-A75D-127339F2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2BF6-938E-4CD9-A5C3-88416F81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3A9A-B8AB-40C3-9B1A-76DC2923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4303-6D9E-4ECC-A35D-61B4D4A5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D02-87C2-4D93-B914-8CC7F669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5B7-9821-47A7-BCED-B8D70949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D29-FA83-4C29-A4B0-71D2F31E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AC6-A5B2-4AB6-B708-9B2C0B56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DBB-1871-4D8B-864D-48C502D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C5E-692F-4CF5-996B-E9EDE7B4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370-393B-47CC-8A6D-6367C7DC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2626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CC0A-54AC-47F7-9596-F4452B0AEB08}" type="datetime">
              <a:rPr b="0" lang="zh-CN" sz="1100" spc="-1" strike="noStrike">
                <a:solidFill>
                  <a:srgbClr val="626262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2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100" spc="-1" strike="noStrike">
                <a:solidFill>
                  <a:srgbClr val="62626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6A8C-58B9-4FF5-A73C-D80819755605}" type="slidenum">
              <a:rPr b="1" lang="zh-CN" sz="1100" spc="-1" strike="noStrike">
                <a:solidFill>
                  <a:srgbClr val="626262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CE36-9446-46E3-97E7-2A9061499E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E293-6C20-4488-9FBC-999F1F0C8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Franklin Gothic Medium"/>
              </a:rPr>
              <a:t>淡雅扇子</a:t>
            </a:r>
            <a:r>
              <a:rPr b="0" lang="zh-CN" sz="4400" spc="-1" strike="noStrike">
                <a:solidFill>
                  <a:srgbClr val="ffffff"/>
                </a:solidFill>
                <a:latin typeface="Franklin Gothic Medium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Franklin Gothic Medium"/>
              </a:rPr>
              <a:t>演示模板下载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6560" y="1555560"/>
            <a:ext cx="8229600" cy="115236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5:10:00Z</dcterms:created>
  <dc:creator>dell</dc:creator>
  <dc:description/>
  <dc:language>en-US</dc:language>
  <cp:lastModifiedBy>a</cp:lastModifiedBy>
  <dcterms:modified xsi:type="dcterms:W3CDTF">2014-12-15T17:54:16Z</dcterms:modified>
  <cp:revision>36</cp:revision>
  <dc:subject/>
  <dc:title>无 界 团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