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77B-682F-4824-81C9-037101AB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B62-2497-4693-AF2D-6736DDC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50BEC-3066-4CFC-81CB-CDCB979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10278-2609-4E3F-B1CC-190A97D1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9B2A0-9456-496C-9D2C-4E7FAC1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0A44-CC12-424B-8D30-A98844D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3BA3-8667-45E8-AC61-8CD2D8B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F9FBD-B810-4BDE-B413-0EDFCB9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E6F6-1D5A-4E57-8AF0-D066619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22F51-EC24-4E85-AB5C-4F3AE01C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E851-1F81-409B-AC31-0AA123B9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57796-E742-4590-A06C-5D660A0E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AC6-B139-4473-A19C-1A1BAC8F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90BA7-33EE-45C6-ADD0-97FD297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E52C8-A200-4137-AB67-E091029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3F43E-863B-42D5-99A7-127BE3C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1917F-1FE1-4A50-9753-8EEE18B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ADA36-EF97-4F97-BAED-D8B6B1B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28D72-366E-4B5F-8ECC-186A8E9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96F1B-8693-4433-9CB6-95EEEC9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A2FFF-78C1-4016-ABCC-1BFD1795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33A0-50F6-41AD-BCC7-BED90C5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EFB2-704A-4AEB-B0FE-991BC01C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640-FE09-4E26-944F-9B3292F5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BC9FE-F392-48FF-A724-81E1D6E3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09863-A5F2-4EA5-900C-C378A93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B671-6CFF-4DDE-A754-189800D0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78055-9D4E-4C22-A5C5-B499660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10E10-FB0E-409E-A1F6-1C09DF7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F164-DC7E-4420-8192-8BD749E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5B0D-81B8-4228-AD17-62ABDBA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6FA5E-A0A2-487B-A320-A7214A3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3D1D4-6FEF-4437-B918-7178BC4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970B-7202-469E-A902-81F3D54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28E8-A817-40CA-A20B-8E0DF467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23ACD-E494-4AE3-8098-87D914B0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D413-EEEC-42EF-BD22-27BAA94D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8F173-6175-4911-A120-3E0E30D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E595F-1060-44E6-BF29-1D54495D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9D039-8653-4094-9C6E-AC34889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35D6-74BE-4789-94CA-63A4AD1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DF681-CF8A-449C-8F68-DABAF59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F5B0E-7D3E-415E-BC76-439AB8BF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084C7-6EC4-4A4C-881E-CA01B4D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AC962-26B8-469B-8906-2D1D2BF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61B0-21B0-4377-817F-2580DC53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37B67-4336-4B57-AC4B-D5A3529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CE7A6-D466-4322-900E-FCC8DD9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51BCD-8D6E-4457-BEDF-FCEAD9D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B938E-99BF-4773-AC37-2AF8BCDB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AD910-7FE0-4DD7-B6FC-D094AA96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F1E29-45DB-47C8-A0A2-446A7D93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EA8EA-4884-41CF-9484-97F920C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B3E9F-3234-449A-AD0E-07173D3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2F654-0FF3-4EBC-A77C-7291D5A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70BAA-33BE-4E86-9523-7536D62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3FC-67D9-4289-AE80-E20D61A6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B6DF5-F9A2-42E5-A1B7-552899A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22C62-A5B9-41D5-AC8E-C31D61A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2F6A4-E1F2-427C-A4E0-44B6226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3AE84-484A-49E0-B89B-E1F37F9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8A7BE-B37A-4F9F-8F3A-84BA83B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54740-92F9-41CD-AAC2-6DEFF479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6DE0A-A69F-476B-9A71-7EDC9785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7D597-3C60-42BA-B740-77C6798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9309D-C850-4156-83E4-B9B4EBB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C5BE0-6A7C-422F-951A-6DE7B831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0FB6-47E9-46A4-99DC-95FC03A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0522F-C1E4-4D37-9F97-CEDDFD0E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BCE74-91BC-4B8F-BAA4-0403796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F3084-0677-425D-95B5-4FA0641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37F53-DBB5-4556-B258-C1C2325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37EF5-3F33-49C0-BB00-D87885C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77350-4249-4C40-A89A-BB3B8B67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7C455-BE7D-44E7-97FF-C6D0FC3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2EB6D-78A5-4A66-ABA6-A2B247C2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07E03-F3F7-456E-A502-9CFA0B26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CCE-A4C9-4C25-94F6-69971222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CE4-D2D3-4A8C-8373-31C078B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407-5B9D-409E-BFA3-3D7FE07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32A-32B1-494A-9B2A-8C801DC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72C-785E-4AEC-AB89-4828795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FE1-FC4D-4CF7-9583-EEBA08A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987E-BF01-4603-8ED5-CAED7DA5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100-0EF2-4E61-AA8F-69AB9E7C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550B-65DF-4514-952C-17838025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FB24-A782-42F5-A264-28707A1B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FA44-DF28-459C-A2BE-C669644C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2AC2-AB6B-42FC-B5B8-9C04045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D8A5-ABA6-4041-8AC5-D01DA660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BC2B-30D3-455A-B1D8-297991D0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C87-55C0-4B22-8C67-5C2DF8E4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269C-C13D-4C19-80BF-33109D8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892A-56D6-4A0B-818F-DC6FB31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3D21-AA6C-40B9-B19F-1E102E6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6AC3-50F3-48F1-AFDC-81DCD9C2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AD00-A1A6-48EF-AD63-C3D2A1F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D728-A597-41F8-AD92-F6DDD205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065E-FA6D-4F94-8BA8-FCA1FDE7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8375-84A8-46A6-900E-AB91E65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79B6-1460-4347-AB9C-12C5BA4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05F4-B718-4E7C-81DC-21536D8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B94-7FCB-4149-BBF3-89ED74D6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CD6F-5A90-48BB-B64D-133518C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47B9-B3EA-4619-85D4-E8EBB41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B608-F029-4E4C-9DEB-591F27C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95DB-2768-43A0-9607-27F59C1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825C-E024-498B-93D9-C857D02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77EE-D49F-4348-B039-C3C902E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1B7F-C1E7-4A5A-8665-9B01956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5784-06C2-4E2A-B504-63A2D3CC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C9AA-071F-44C3-B9FB-62987E8D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6A5E-34CD-40F5-BF4B-AD6240D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39B-BC99-4DD8-8D0C-AEB8B4A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559D-1947-40A3-8C69-D55A67C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FDEDD-BA53-455D-956E-999EE77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1088-E42D-4355-839F-156B4330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D5E7-760D-4843-8F1D-69B7580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01F8-9BAA-416E-8597-22D65436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0240-C709-491A-878C-9B3D54F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61AE-C3DB-4EFA-9915-CFB460C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1266-A1AD-4542-97EB-10C3725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D4AF1-E806-4B2F-BA36-100D5A07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66AC-E31A-45B4-A2E1-ABCE9A8C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508-A5D8-4CF0-8F82-37626E04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EDF2-128F-4D60-A766-3552C34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E239-2355-4295-94DD-A99E8F89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BE9F-373A-4EDD-8BC3-43249E83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DD41-7F66-4A39-B080-F893B8A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009E-E65F-4D76-BBAC-4D06CDBC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4EF7-CC8F-4F26-B04F-277E9CD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9430-4ECE-4F48-A374-03825D18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211A-E2D2-4A6E-A255-DFF990B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55EE-3BA8-453D-A1A0-896644A4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FF7E-E2C9-4800-9E85-D7660CC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562-F7C0-4EFC-9C78-56DD982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CDCE-8373-4FE0-9A6F-B565B0C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CADD-ACFB-4A21-94DE-F1A7F55C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5AF4D-1D01-44CA-A285-F945CC83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CD2A-80B3-4416-BE30-147DC6AE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70E34-13D8-42B5-9680-1428984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CB19-4FD9-40C3-A84E-45149BA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BE79-2A21-41AC-ACB7-75A1B87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05BE-2E72-46A6-A2A2-E8C0D5A9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7BD3-403F-4290-AAED-44D41336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B0040-411E-4BE4-9961-D0D21BD2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E83-6EF2-4EFA-9A2E-72C416B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E9BC-8DFF-4CBC-ACDA-691683D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699D-9F3B-4E14-BC22-A290F45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E6A48-2AFB-49CF-98DB-83CCA90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7137D-4048-4AF9-A6DA-1DC5367F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B707-4C6C-4222-93BC-E404A4FD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E498-EAD9-49B8-8852-B2BABF3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07867-195B-4106-804A-9E38F5C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19038-9FA4-46D9-BEA9-358C361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67C2-EBC0-47D6-A6E4-39F5198A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40F0-928F-42AA-AF2C-80047488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FA6-774F-4E10-97E4-BB4CAF0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1B6A-1A8E-47E7-8ECE-183896F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90EF2-2DBA-437B-AD6B-A1A3848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CC21-983A-4015-8CA4-4E7D095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370E-16ED-4364-83AF-7EFC084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6AC9-9595-4CAA-8399-05B0A76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9F187-3134-43C3-B821-08D1E775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BF9F-8C29-4AE4-96BF-628E8C49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A962-B4C4-4EE7-8750-A0B4DE7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D425D-CD78-47EC-BEB8-B288A18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480A0-FC2B-4C78-A9AE-ED305AC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4479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C77-4654-4A2D-808D-4746F8C026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C82-9438-4E33-8B3B-11B5B1B5D1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20A3-2C25-4F30-9A7E-7EA61A2A54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170-BC3C-4212-AB13-719E3B359B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3C6-ECC3-4C7F-9AAD-1E2E9A5E73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5D94-26C3-48D1-8AE6-BFF5D6F243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2DA-987F-48BD-A207-F798F91DC2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43A-F12E-4B07-86DC-0ED6BF3581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FFFD-8BEF-4F04-BD4A-709E515BEE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804F-A36F-4A1E-97D9-4D88179FD2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AF5E-249D-451E-B2F9-D07B7B8600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9CC-9B51-447D-9524-77EF25F25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 flipV="1" rot="10800000">
            <a:off x="5789520" y="5559840"/>
            <a:ext cx="28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F021-9F67-4864-8531-B2D67FA481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5EC-08BF-4A73-9DDC-EC8BB5C38C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290-EBC5-4997-A3FD-D892B46ABC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51EA-C5FB-4327-8304-19BF240B81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96F-DE74-4A75-B9E5-2A19AD6A5D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43E-7009-4035-8186-58947C4742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262-D2FF-40AA-8EF6-6976FF7265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005-90C4-4522-9B09-92D74C370F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E95-13E4-4EB6-B173-62EA3F6D77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D80-8215-49E0-A43A-0BECA68D5F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F5A-72E4-479C-B9AA-DE8D7CCC89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6BA-9386-40D6-BE99-A26AB25C6C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D95-7CCF-40F4-9561-B1396A4FB6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11E-8881-4DB3-89EF-21B0538D5D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某人个人简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应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FE06-6019-429F-A9CF-A056F4F1E707}" type="datetime"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基本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姓      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性      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生年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专      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毕业院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联系电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子信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联系地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5.5-2008.6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具体负责某事，为公司创造了某些效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3.5-2005.5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具体负责某事，工作中表现如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0.5-2003.5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公司中担负某种职责，学到了某种经验，体会到了公司的企业文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育培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3.9-2003.12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资格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获得某某证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996.9-2000.6   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学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我评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的特长，我的优点，我擅长的职业领域，以及我的处事风格，等等；（拣好的说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2:16:19Z</dcterms:created>
  <dc:creator>第一范文网 www.DiYiFanWen.com</dc:creator>
  <dc:description>第一范文网 www.DiYiFanWen.com</dc:description>
  <cp:keywords>第一范文网 www.DiYiFanWen.com</cp:keywords>
  <dc:language>en-US</dc:language>
  <cp:lastModifiedBy>a</cp:lastModifiedBy>
  <dcterms:modified xsi:type="dcterms:W3CDTF">2014-05-26T00:58:51Z</dcterms:modified>
  <cp:revision>1</cp:revision>
  <dc:subject>第一范文网 www.DiYiFanWen.com</dc:subject>
  <dc:title>某人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