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D3E-1A81-489A-A102-71718990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989-669A-4F4A-9D22-45120ECB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942-AC2A-4246-8F2C-C3F0C13B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722-E42E-4A22-921E-E7DE6AFE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2E7-11BC-490D-92DE-8E724AD2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EAB-4B79-4642-AA81-B9E2BDC1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A6C-6558-42E4-ADC9-C026D297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685-E92C-4A66-BDFC-E304C94F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B38-A160-45C1-BC4E-7D605A9F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5F7-D0C6-4FA9-A0C1-188014E2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998-7A26-409A-A738-0605EE27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7F0-D941-40B0-B905-275838EA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046A-27D7-49D4-84F2-CE101361C4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71EF-53BD-4C41-BE43-069481516E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4294080"/>
            <a:ext cx="87138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房地产开发有限公司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工作汇报及下周工作安排</a:t>
            </a:r>
            <a:br>
              <a:rPr sz="2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6200" y="-19440"/>
            <a:ext cx="82933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房地产开发有限公司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工作汇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68360" y="1344600"/>
          <a:ext cx="8209080" cy="4903920"/>
        </p:xfrm>
        <a:graphic>
          <a:graphicData uri="http://schemas.openxmlformats.org/drawingml/2006/table">
            <a:tbl>
              <a:tblPr/>
              <a:tblGrid>
                <a:gridCol w="1201680"/>
                <a:gridCol w="1157400"/>
                <a:gridCol w="4346640"/>
                <a:gridCol w="1503360"/>
              </a:tblGrid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部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负责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工作概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完成情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工程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财务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办公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6200" y="-19440"/>
            <a:ext cx="82933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房地产开发有限公司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工作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99960" y="1403280"/>
            <a:ext cx="84200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程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督促四个施工队清理楼面，为地暖施工创造条件；安排地暖施工队材料及设备进入施工现场，有序组织施工；协助办公室整理各类报建资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办公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整理、办理施工许可证所需资料及施工合同备案资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落实管道井门制作承包人并签订合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ig Disconnect: Youth Brain Drain vs. Real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 is losing its most employable youth due to the perception &amp; reality that there are not sufficient job opportunities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et, the Bureau of Labor Statistics say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re will be a shortfall of 10 million workers by 2010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demographic crunch is coming and will be exacerbated by a talent crunch that threatens to stall the very engines of economic growth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 can become a thriving global-hub if 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reversing the brain-dra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s its base of skilled manpow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erages its strategic mid-country location &amp; unique quality of life environment to grow KBE wo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71400" y="3285720"/>
            <a:ext cx="63579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5:49:47Z</dcterms:created>
  <dc:creator/>
  <dc:description/>
  <cp:keywords/>
  <dc:language>en-US</dc:language>
  <cp:lastModifiedBy>a</cp:lastModifiedBy>
  <dcterms:modified xsi:type="dcterms:W3CDTF">2014-05-22T01:18:52Z</dcterms:modified>
  <cp:revision>2</cp:revision>
  <dc:subject/>
  <dc:title>房地产开发有限公司                          ——工作汇报及下周工作安排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